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E14-170A-434C-B46F-1B709DCA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168-426A-452C-8C12-CE5EBD0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D32-8ADB-49C0-963C-699FDC48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AF9-79C3-4FB0-92B0-7326208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B9B2-EA56-497A-B61E-E1B4A72B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9D1A-44D9-4EB8-9D2F-468982F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3417-F414-467E-8EFC-64808063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A5D-AE74-408E-854F-7924A66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26D-DA67-4669-94FC-0CDA45DA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96A-8A74-4B20-B4F0-39B658C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740-F875-45D8-8E6E-FDCA93A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4A1-7416-4E26-A450-D1D7191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E8AC-3096-4C80-82EF-D47B3B6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364-6383-4E3F-A392-ADDF3EB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47E-D71A-406F-A009-5142DB3B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5802-BDC4-401F-AE90-8C4C9A33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60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96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60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96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BF4-761A-4A50-B5EC-868CAC7C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F9E-515F-4CD3-8E97-C919534B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3C8-CF18-4A4D-9221-6B1EA2F0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074-8C53-4593-9494-85E0BC28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D52-FE75-4B94-913E-BE4B8BC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876-E4A3-4D18-9EDB-6F4557D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4FD-5A3B-426E-9EF3-E281B5C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CE2-8D59-4A3B-8842-0EFB4555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배경화면6(셋트2)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-봄IIB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9BA3-708E-49DA-BE8A-5E5278837CF6}" type="slidenum"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배경화면6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-봄IIB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459-AAD6-4814-8BCE-92C56A1EA138}" type="slidenum"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-봄IIM"/>
              </a:rPr>
              <a:t>Click to edit the outline text format</a:t>
            </a: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333399"/>
                </a:solidFill>
                <a:latin typeface="-봄IIB"/>
              </a:rPr>
              <a:t>扬帆远航</a:t>
            </a:r>
            <a:r>
              <a:rPr b="0" lang="zh-CN" sz="6000" spc="-1" strike="noStrike">
                <a:solidFill>
                  <a:srgbClr val="333399"/>
                </a:solidFill>
                <a:latin typeface="-봄IIB"/>
                <a:ea typeface="宋体"/>
              </a:rPr>
              <a:t>PPT</a:t>
            </a:r>
            <a:r>
              <a:rPr b="0" lang="ko-KR" sz="6000" spc="-1" strike="noStrike">
                <a:solidFill>
                  <a:srgbClr val="333399"/>
                </a:solidFill>
                <a:latin typeface="-봄IIB"/>
              </a:rPr>
              <a:t>模板</a:t>
            </a:r>
            <a:endParaRPr b="0" lang="en-US" sz="60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0" y="4654080"/>
            <a:ext cx="7315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86" name=""/>
          <p:cNvSpPr/>
          <p:nvPr/>
        </p:nvSpPr>
        <p:spPr>
          <a:xfrm>
            <a:off x="-83520" y="64450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-봄IIB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봄I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----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EEPPT.COM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免费下载。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WWW.EEPPT.COM-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让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봄I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1:26:26Z</dcterms:created>
  <dc:creator/>
  <dc:description/>
  <dc:language>en-US</dc:language>
  <cp:lastModifiedBy>soja102</cp:lastModifiedBy>
  <dcterms:modified xsi:type="dcterms:W3CDTF">2015-01-09T03:02:3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