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1219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225440"/>
            <a:ext cx="9144000" cy="1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7AF4750-EA7E-4176-BAFC-92DC748CD41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使用规范说明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5323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-22320"/>
            <a:ext cx="385128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323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-22320"/>
            <a:ext cx="385128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8360" y="258912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鹰图案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30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31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40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3851280" y="3716280"/>
            <a:ext cx="48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645336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2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1-08T13:14:13Z</dcterms:modified>
  <cp:revision>3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