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D10-0AE4-42BD-92E1-CE02114A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603-CCCA-4ED2-ABA0-D95752D7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4F7-A8DA-48F0-B2C0-474BFCF2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978-D45B-4907-B2CD-53A0FCBF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0B13-C8C8-493F-8C77-7AF2159C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148-E383-4674-B56E-00211CB1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3C2C-5DA2-47E0-A9E9-40A78C3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893-3B7C-4E93-9A41-88C1D24C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8F25-329B-4203-939E-0CD6607D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4B75-0F04-4E86-A79A-A4B3690C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B45-C55D-4E93-B3FD-EA31605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F4E-9E57-4C93-AC6E-30565879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FF5F-5B17-4B54-93ED-7980380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2D8B-AFED-4B78-9E95-BC20071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8976-B75D-456F-B7EC-F74FC3A6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62AA-7488-4329-9589-A8951560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99FC-FB06-4834-9485-B145BFEB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2F6-F7BF-42BA-89C4-819A9F70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D51-99AD-4D54-9236-B3C6278F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AEA-57C5-42B0-B4FE-A51380C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809-590E-4AEE-8128-7627570E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C00-3F3D-4652-9404-A6D51C35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4AF-BAF3-4A25-BB16-B929CE2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1D0-4845-4410-B18A-C4DBF242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CC41-ACF3-4595-98D5-EFC7972E9E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1CCD-D387-4AE4-AC1D-DA416B9F44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lvl="2" marL="914400" algn="ctr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 algn="ctr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36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9144000" cy="25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980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90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924280"/>
            <a:ext cx="824364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8:21:53Z</dcterms:created>
  <dc:creator>dica</dc:creator>
  <dc:description/>
  <dc:language>en-US</dc:language>
  <cp:lastModifiedBy>FiSh</cp:lastModifiedBy>
  <dcterms:modified xsi:type="dcterms:W3CDTF">2015-01-08T13:10:24Z</dcterms:modified>
  <cp:revision>28</cp:revision>
  <dc:subject/>
  <dc:title>國際談判技巧與實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