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9542-BB41-4BD6-8336-0E9A9474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83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9960" y="3964320"/>
            <a:ext cx="83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D7F4-DE02-46BB-9E7D-0948A862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9960" y="396432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396432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20D-2631-4E13-9E55-DC830C65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1280" y="160020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2600" y="160020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9960" y="396432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1280" y="396432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2600" y="396432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C671-CAAA-4C03-B28C-D9BC27B1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3A5C-31A7-46C7-933F-960361D7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CA62-C16B-4CB2-8680-D2F1D77A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0755-8F36-478A-83DD-608C60E8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407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5B94-067B-468D-BF7C-9548227E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F3B8-B589-4317-AAC5-F1F4E457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6440" y="642600"/>
            <a:ext cx="833112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F2C0-5AD1-4DEA-8C40-13187A53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9960" y="396432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73AD-8E04-49AB-B3CC-300A9EAF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B767-C478-4171-B34C-35CE99C6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407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96432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3849-2C7B-4F4B-9A73-8CBA9A81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9960" y="3964320"/>
            <a:ext cx="83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53A9-620D-4543-BA74-21BE7260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83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9960" y="3964320"/>
            <a:ext cx="83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9EC7-6C4C-465E-BE8C-B7CECB10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9960" y="396432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96432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DA4F-5DBE-40DE-B4FA-2CFB581F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1280" y="160020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2600" y="160020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9960" y="396432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1280" y="396432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2600" y="3964320"/>
            <a:ext cx="2686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43B8-D825-453F-8E1E-ED209BE1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CDA4-A89C-4AB6-9353-674CB2D7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407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8CB1-1126-408D-B46B-30F5A609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F37-97A6-4074-98FA-34C49854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642600"/>
            <a:ext cx="833112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D4A-D410-4201-BE29-A34E4BA3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9960" y="396432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390-F949-44B3-BD01-FDAF6A2A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407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396432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E14-1150-45CA-8E58-05EBEA27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996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600200"/>
            <a:ext cx="40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9960" y="3964320"/>
            <a:ext cx="83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CFA2-C5B6-4147-BFFE-FE1B35AA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鱼不愚\桌面\图片2.png"/>
          <p:cNvPicPr/>
          <p:nvPr/>
        </p:nvPicPr>
        <p:blipFill>
          <a:blip r:embed="rId2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7C86-5F72-4674-96D5-D9FB97F872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鱼不愚\桌面\图片2.png"/>
          <p:cNvPicPr/>
          <p:nvPr/>
        </p:nvPicPr>
        <p:blipFill>
          <a:blip r:embed="rId2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鱼不愚\桌面\图片1.png"/>
          <p:cNvPicPr/>
          <p:nvPr/>
        </p:nvPicPr>
        <p:blipFill>
          <a:blip r:embed="rId3"/>
          <a:srcRect l="51" t="68" r="67" b="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440" y="64260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99960" y="1600200"/>
            <a:ext cx="83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粗倩简体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4ED6-BF59-4BB4-A35C-B3E361405B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469800" y="4151160"/>
            <a:ext cx="500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2060"/>
                </a:solidFill>
                <a:latin typeface="微软雅黑"/>
                <a:ea typeface="微软雅黑"/>
              </a:rPr>
              <a:t>炫酷蓝色</a:t>
            </a:r>
            <a:r>
              <a:rPr b="1" lang="zh-CN" sz="2500" spc="-1" strike="noStrike">
                <a:solidFill>
                  <a:srgbClr val="002060"/>
                </a:solidFill>
                <a:latin typeface="微软雅黑"/>
                <a:ea typeface="微软雅黑"/>
              </a:rPr>
              <a:t>ppt</a:t>
            </a:r>
            <a:r>
              <a:rPr b="1" lang="zh-CN" sz="2500" spc="-1" strike="noStrike">
                <a:solidFill>
                  <a:srgbClr val="002060"/>
                </a:solidFill>
                <a:latin typeface="微软雅黑"/>
                <a:ea typeface="微软雅黑"/>
              </a:rPr>
              <a:t>模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4360" y="6526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499680"/>
            <a:ext cx="83311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Arial"/>
                <a:ea typeface="宋体"/>
              </a:rPr>
              <a:t>模板使用说明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9960" y="1356840"/>
            <a:ext cx="83440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方正粗倩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2"/>
          <p:cNvSpPr/>
          <p:nvPr/>
        </p:nvSpPr>
        <p:spPr>
          <a:xfrm>
            <a:off x="357120" y="3341520"/>
            <a:ext cx="50007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002060"/>
                </a:solidFill>
                <a:latin typeface="Arial"/>
                <a:ea typeface="Arial"/>
              </a:rPr>
              <a:t>感谢聆听</a:t>
            </a:r>
            <a:r>
              <a:rPr b="0" i="1" lang="en-US" sz="5400" spc="-1" strike="noStrike">
                <a:solidFill>
                  <a:srgbClr val="002060"/>
                </a:solidFill>
                <a:latin typeface="Arial"/>
                <a:ea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Thanks for you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7375e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方正粗倩简体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方正粗倩简体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方正粗倩简体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方正粗倩简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方正粗倩简体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方正粗倩简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9:47:50Z</dcterms:created>
  <dc:creator/>
  <dc:description/>
  <dc:language>en-US</dc:language>
  <cp:lastModifiedBy>king</cp:lastModifiedBy>
  <dcterms:modified xsi:type="dcterms:W3CDTF">2015-01-07T09:31:59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