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489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0996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9920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2072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0996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9920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0996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9920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2072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0996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9920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502" r="0" b="0"/>
          <a:stretch/>
        </p:blipFill>
        <p:spPr>
          <a:xfrm>
            <a:off x="1440" y="774720"/>
            <a:ext cx="9145800" cy="4635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633" r="0" b="0"/>
          <a:stretch/>
        </p:blipFill>
        <p:spPr>
          <a:xfrm>
            <a:off x="1440" y="615960"/>
            <a:ext cx="9139320" cy="47210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97080" y="1160640"/>
            <a:ext cx="49658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84480"/>
            <a:ext cx="8229240" cy="31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7080" y="1160640"/>
            <a:ext cx="49658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97080" y="2128320"/>
            <a:ext cx="488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5489640"/>
            <a:chOff x="0" y="0"/>
            <a:chExt cx="8466120" cy="548964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72320"/>
              <a:ext cx="8466120" cy="41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41480" y="285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dc:language>en-US</dc:language>
  <cp:lastModifiedBy>番茄花园</cp:lastModifiedBy>
  <dcterms:modified xsi:type="dcterms:W3CDTF">2015-01-09T03:43:1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