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E8C-461A-4DA7-A982-C8000340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AA4-6036-47DD-A4FB-61580D6E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0C0-9A2D-49BD-80A4-AD87C87E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1BAB-9872-402D-BED6-E7B10810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2039-200A-41C3-BE5E-859DE2D5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CBEE-2167-4B4C-B1B8-1FBFDA3B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EE1F-8928-4F7C-B5A2-924BB704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ED3F-5B7C-4486-9D44-767D6943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2CA5-4E6A-4185-AB4C-6168F213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8E55-2043-4359-850C-E999F509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2728-6C29-4D43-8E38-7E292E73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526-E9F0-43B5-9B34-EB8C8CBD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9FB0-67F4-4EEE-AB9A-C141C760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E498-12BF-4122-9583-F058A96B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E4B5-260C-442C-A900-39B35449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730C-089A-423D-AC13-678B48FB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525C-0448-4AFD-9445-17B16F03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C449-8D93-433A-9D95-DCF054C5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750-95F4-4A02-8006-52CBD745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01D-A3A0-469A-8EE2-A5D707F7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017D-E81B-42F6-97BD-DA92760D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D10-F43B-4A5B-A2AB-41B9E00D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0F1D-CA66-4E3D-9EAC-5E8EEC13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1AD2-751B-4CB4-AC37-0872ED84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8360" y="262080"/>
            <a:ext cx="8209080" cy="597528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FA32-00B3-4080-AF88-0C79441CF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2133720"/>
            <a:ext cx="7777080" cy="1439640"/>
          </a:xfrm>
          <a:prstGeom prst="roundRect">
            <a:avLst>
              <a:gd name="adj" fmla="val 10185"/>
            </a:avLst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1668-2F21-4EDB-B187-738B14BAC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炫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00720" y="58784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22:42:33Z</dcterms:created>
  <dc:creator/>
  <dc:description/>
  <dc:language>en-US</dc:language>
  <cp:lastModifiedBy/>
  <dcterms:modified xsi:type="dcterms:W3CDTF">2015-01-09T03:48:5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