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46D-670D-4C30-A7F2-98B683A7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20" y="380592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CA3-58FA-4364-9905-286C6EBC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D4F-9C08-4921-B6C2-C6A9AA45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968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264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72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968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264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6E6-D29D-4DE6-A631-91F60A1D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32AD-2C9E-4B83-9B2B-CE240293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DDCC-B851-4896-B6AB-747D373F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29D1-230D-42AF-85D1-93A44EC9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BD06-294D-4844-A1BD-47464065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55F7-423F-4E79-B8D4-C7B169A5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090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4153-BD42-4B1C-BC2B-A32D2BBD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66C7-E290-4811-A528-350E37D2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EE3-3AE4-4E28-A099-FC9C304F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5416-802D-419D-8B9F-4DBA092B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9564-4F66-4677-ACA0-52FF285E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720" y="380592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A96B-B01D-40F8-A7BD-2D1C8243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66FB-D5B0-41DA-B347-A3F08246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968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264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672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968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264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3E34-FAAE-4EBF-B9FC-3CCF0653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576-7543-4099-9BD7-FC3996B3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62D-E5A1-4542-B0EF-7484F54E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D26-91C5-42C3-9584-F5B364A8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090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EE4-E310-4DFA-B6AD-C8116F48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3BC-3CAE-4AE3-AC44-DE44F350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BB9-CD33-41CB-92E2-D733CE07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DF1-7058-4D84-A608-D663F452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0F74-4F6A-43E0-B28F-8D36090AA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7B19-8BEB-425D-BA94-738AE88A1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91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紫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8900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18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720" y="6237360"/>
            <a:ext cx="61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32:15Z</dcterms:created>
  <dc:creator/>
  <dc:description/>
  <dc:language>en-US</dc:language>
  <cp:lastModifiedBy/>
  <dcterms:modified xsi:type="dcterms:W3CDTF">2015-01-08T12:30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