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77724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77724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中药材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模板下载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539640" y="1844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707520" y="6303960"/>
            <a:ext cx="23252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25760" y="6381720"/>
            <a:ext cx="50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更多免费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3T15:49:17Z</dcterms:created>
  <dc:creator>Administrator</dc:creator>
  <dc:description/>
  <dc:language>en-US</dc:language>
  <cp:lastModifiedBy/>
  <dcterms:modified xsi:type="dcterms:W3CDTF">2015-01-08T03:54:29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