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9B8-6373-4D61-A621-11DCFACD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54D-7025-4950-A288-CABD5F4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60F-0912-4E4D-89C8-56EB77C4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2E6-9D43-4750-8CCE-6CBC27B2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6E9-26E7-459C-BC3D-32BB094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D32-6858-4CE1-99CD-64B69B5B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A03-E373-44AA-8372-3CFA727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20B-3579-4EEE-846A-73E8EFF2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D88-6057-4D62-8767-3BBE1FC3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60E-4DB9-45AD-9B37-52B9D9A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F71-B657-4AA5-9D37-991E98D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B65-5A14-4FAB-AB8A-D98D0AD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48a54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EF97-3721-4D0F-8BF8-1C1C338D37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3C44-C04B-49B5-8C03-6B3CA3D3A4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85680" y="2205000"/>
            <a:ext cx="5457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3860280"/>
            <a:ext cx="5435640" cy="1752840"/>
          </a:xfrm>
          <a:prstGeom prst="rect">
            <a:avLst/>
          </a:prstGeom>
          <a:solidFill>
            <a:srgbClr val="948a54">
              <a:alpha val="4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8344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48a54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" name="矩形 4"/>
            <p:cNvSpPr/>
            <p:nvPr/>
          </p:nvSpPr>
          <p:spPr>
            <a:xfrm>
              <a:off x="743760" y="0"/>
              <a:ext cx="6411600" cy="505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1:16:00Z</dcterms:created>
  <dc:creator>果因PPT工作室</dc:creator>
  <dc:description/>
  <cp:keywords>XS-普屏 4：3;SC-淡棕色;BG-浅色;DH-静态</cp:keywords>
  <dc:language>en-US</dc:language>
  <cp:lastModifiedBy>田士庆</cp:lastModifiedBy>
  <dcterms:modified xsi:type="dcterms:W3CDTF">2015-01-11T13:59:52Z</dcterms:modified>
  <cp:revision>2</cp:revision>
  <dc:subject>TP-教育培训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