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EFB-EC8F-4B42-A2B0-9250049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A87-4D08-4CC7-9526-46AFDA70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09C-F4CA-4A2C-A259-418EA517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80B-E919-4CD0-A010-8332C8F4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AB2-56DE-4F32-8661-6D1740B6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73C-B90C-4DEB-B9FD-7828F590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850-D7E6-4C4F-9531-57DEC27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812-E4DC-4438-B1B9-DC58D83A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837-5EFF-448E-A4D4-E171CC7E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90B6-28A4-485E-8AB3-E1928B0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ED4-D2F9-4B62-BA51-207E419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6C6-79CA-4149-9F4A-94D6168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874A-AF8E-4444-A59F-A6FC588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448B-66C2-4466-8215-C57384F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70E6-0C1B-4624-8C42-8A8D509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1F7F-3D14-4A78-A019-1B05F0B2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F909-D49F-4A90-BED5-096B10B9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949-C305-432C-9995-3C30B1C3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C78-36F8-4ECC-A30F-AD4658EE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7F2-9909-4FBD-BF24-B166981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36B-AD0C-4F39-BEA3-DAA0FBFD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077-FB12-4128-8C95-341916A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774-C716-45AA-9F0B-8313D64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76C-1184-4FA4-AA89-5CB2618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1D43-ADF1-4E2E-87D5-150747BA68A3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04D-7761-4AD3-B15A-B3F2558E8F95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CF44-A5B6-4655-A374-64C7F60C60BC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B1B-462D-4DA3-AC59-94D4938558C5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3860640"/>
            <a:ext cx="835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199640" y="6381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76280"/>
            <a:ext cx="82612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F66-6136-4010-BF06-8403EB3E18BA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06D3-4DDA-496D-8443-BA6E1ED604A2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我爱PPT官方网 - 中文演示设计平台 www.iloveppt.org; ilovePPT.ORG</dc:creator>
  <dc:description>我爱PPT官方网 - 中文演示设计平台 www.iloveppt.org</dc:description>
  <cp:keywords>我爱PPT官方网 - 中文演示设计平台 www.iloveppt.org; ppt ppt模版 ppt设计</cp:keywords>
  <dc:language>en-US</dc:language>
  <cp:lastModifiedBy>rachel</cp:lastModifiedBy>
  <dcterms:modified xsi:type="dcterms:W3CDTF">2015-01-10T11:34:52Z</dcterms:modified>
  <cp:revision>39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