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A54-E4C9-416E-A540-73705FB0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8DD-AED3-41D8-A93F-3FFAB3E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AAA-603D-4DAE-9978-D3DCC45B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70D-943C-4038-AC11-A39EC326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CAE8-0A75-49A8-8791-0979736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4E59-7289-4178-BF75-A90D714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B208-D06E-44F4-BA4E-9201CCAB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D9CD-D559-4A91-853F-2E4482B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C259-1634-4B0E-B19B-919BDFB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8CA-B528-4A35-AE84-114C34C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B234-A806-40F2-9BD7-A4ECE98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3D1-5938-4CAA-8C35-C1CA288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EA13-C71F-4795-B285-F73AA6B8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8E90-D77C-40BC-AABE-3012037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7097-BB54-4B07-BD49-3AB0AC7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F818-D1CB-460F-AAA0-C67D2FE1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5FD9-7494-46F5-8331-B071F2D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01FA-A67E-45BB-AEF1-30C0F3AE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D9EA-36A9-4538-9036-6156C3E8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89C7-D968-4E60-B283-B1526FEB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4ABD6-97B4-41CD-8C0F-37D0DE9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17FB-BD63-40B0-BEC0-1A10594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D7A-BB27-4384-B01E-F0984944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775A-9580-4FAC-A427-CB041FA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F7DD-F9EA-4FAA-905F-B3C5078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E809-836F-434A-9A5B-891E3105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C7C4-CFB8-4E6A-8CF2-B11FDF1A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22E09-84D2-457E-B110-B76512C4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60A5-2A57-4D00-8AF8-25510E08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66E-E46A-4CF8-A87D-F4B8AE21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77C-6FE7-45E1-97C0-F34FFE85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72D-F324-47E2-89F7-8691CA1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168-CDAF-405D-942B-00F04290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714-EC80-41EE-A82D-0E4EA83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37D-21A6-4C0F-920A-DE8B295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2A4-31D2-4D3E-9D13-0BD5FC6D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DB6-7E15-449C-8C90-A2DD34A7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0800000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852F-E6E2-4D39-9CC1-89FA86FBC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1A9-77B3-42B9-A964-B2380A6F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彩色树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7:17:05Z</dcterms:created>
  <dc:creator>Administrator</dc:creator>
  <dc:description/>
  <dc:language>en-US</dc:language>
  <cp:lastModifiedBy/>
  <dcterms:modified xsi:type="dcterms:W3CDTF">2015-01-10T09:16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