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6B2A-8417-442D-87D3-2BB774B43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032-4FB2-4BFF-8DD9-AF9F80BC6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0E95-45AC-4EC0-9085-0C688CAC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BA1A-556A-47F1-9B20-C66A4DA3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E0811-CE39-4981-BDC3-1566FF69C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0A06-D8A7-4682-987A-A500EAC4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E283-15B4-465A-9ABD-A3AAA4E1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27ECF-84F8-475A-B35A-0C148EE2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42FC-507A-44B7-B8DD-A9A69904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0050-0C19-4711-BDED-51F73A51D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B18F2-F171-4D09-A733-D8C1B926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50D-A635-4F4F-BA29-87803F43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351E0-E4B9-489A-909D-825D8107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940A-7663-48E1-AA8D-D2F1C030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6F568-82EC-41E3-9F95-95E779B4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F271-7A8A-4281-B41F-D3663732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D3EE-DF7E-4F2C-8DA0-3390DF0FE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F70-A35E-4607-9DEA-DEFE9917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ADA8-9FCF-40E7-8A5A-064567E3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A15F-7848-49E5-B56C-D6AFDAEE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E1F6-6759-4259-91D9-93132736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AD0-D1A2-4134-B5B4-18EBDF56D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CBB-0785-4DBB-9731-65B5307B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E90E-EB55-4821-8F49-3C6A29A8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"/>
          <p:cNvPicPr/>
          <p:nvPr/>
        </p:nvPicPr>
        <p:blipFill>
          <a:blip r:embed="rId2"/>
          <a:stretch/>
        </p:blipFill>
        <p:spPr>
          <a:xfrm>
            <a:off x="0" y="5786280"/>
            <a:ext cx="9144000" cy="1071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F0EC5-26DA-4BA1-B753-DE63EE43264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F96C-A683-4F1A-B9E2-24BC1BA6BC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0e7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fff0e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e46c0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e46c0a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2126-80C8-4807-9A3F-83B65868417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B446-2668-4D7B-AEC2-3B2E58FBBF9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标题 1" descr=""/>
          <p:cNvPicPr/>
          <p:nvPr/>
        </p:nvPicPr>
        <p:blipFill>
          <a:blip r:embed="rId1"/>
          <a:stretch/>
        </p:blipFill>
        <p:spPr>
          <a:xfrm>
            <a:off x="652320" y="3889440"/>
            <a:ext cx="7248600" cy="1176120"/>
          </a:xfrm>
          <a:prstGeom prst="rect">
            <a:avLst/>
          </a:prstGeom>
          <a:ln w="0">
            <a:noFill/>
          </a:ln>
        </p:spPr>
      </p:pic>
      <p:sp>
        <p:nvSpPr>
          <p:cNvPr id="85" name="标题 1"/>
          <p:cNvSpPr/>
          <p:nvPr/>
        </p:nvSpPr>
        <p:spPr>
          <a:xfrm>
            <a:off x="955800" y="4819680"/>
            <a:ext cx="70009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MS UI Gothic"/>
              </a:rPr>
              <a:t>Power Point </a:t>
            </a: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MS UI Gothic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77160" y="62928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矩形 3" descr=""/>
          <p:cNvPicPr/>
          <p:nvPr/>
        </p:nvPicPr>
        <p:blipFill>
          <a:blip r:embed="rId1"/>
          <a:stretch/>
        </p:blipFill>
        <p:spPr>
          <a:xfrm>
            <a:off x="426960" y="219240"/>
            <a:ext cx="2998800" cy="128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643280"/>
          </a:xfrm>
          <a:prstGeom prst="rect">
            <a:avLst/>
          </a:prstGeom>
          <a:ln w="0">
            <a:noFill/>
          </a:ln>
        </p:spPr>
      </p:pic>
      <p:pic>
        <p:nvPicPr>
          <p:cNvPr id="89" name="标题 8" descr=""/>
          <p:cNvPicPr/>
          <p:nvPr/>
        </p:nvPicPr>
        <p:blipFill>
          <a:blip r:embed="rId2"/>
          <a:stretch/>
        </p:blipFill>
        <p:spPr>
          <a:xfrm>
            <a:off x="1712880" y="3213000"/>
            <a:ext cx="507204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副标题 9"/>
          <p:cNvSpPr/>
          <p:nvPr/>
        </p:nvSpPr>
        <p:spPr>
          <a:xfrm>
            <a:off x="2428920" y="4299120"/>
            <a:ext cx="42861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d0d0d"/>
                </a:solidFill>
                <a:latin typeface="Arial"/>
                <a:ea typeface="Arial"/>
              </a:rPr>
              <a:t>Add your company slog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5:26:36Z</dcterms:created>
  <dc:creator>我爱PPT官方网 - 中文演示设计平台 www.iloveppt.org; YlmF</dc:creator>
  <dc:description>我爱PPT官方网 - 中文演示设计平台 www.iloveppt.org</dc:description>
  <cp:keywords>我爱PPT官方网 - 中文演示设计平台 www.iloveppt.org</cp:keywords>
  <dc:language>en-US</dc:language>
  <cp:lastModifiedBy>rachel</cp:lastModifiedBy>
  <dcterms:modified xsi:type="dcterms:W3CDTF">2015-01-11T09:27:21Z</dcterms:modified>
  <cp:revision>12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