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9E8B-C09E-4684-A67C-4CF9CFE5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932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4C36-E8EA-42AA-A4C9-29FBC75A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20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28E-7906-4272-B418-E5B9BD583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932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732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496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A276-B49E-414C-82F6-2BB55224C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58C5-21E1-4191-932C-F92FCCE6B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6D8F0-B7BB-47F1-9CD7-4625CBE6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BED7-E4A6-43FB-A579-6E158D32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DA1-2639-4B74-8D2B-8E2B5E70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08A7-D130-4740-9BF9-88737753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B18E-649E-4966-94BF-36E77F4DF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4A5C2-61A5-42E1-B4CB-D3568E8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6C4A-3E16-4147-AE79-041D3265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20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0962E-0FAE-406D-B1F2-5548EA532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662F3-BF57-4E6A-A63B-C2954589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932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1BA8-C08A-481F-B33F-27738B6D2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20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98F1-1440-4DC2-87AA-8A220014D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932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4732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4960" y="3749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EED3-A929-4570-A9B9-228A66748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0248-2483-4DEB-8E73-0B4BF9486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DC0-EB8B-4441-B4CB-7DF052E62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3CBC-F8B5-421D-BD4E-74148AB4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734-8BE5-48F0-90AF-08F59784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0AA-F671-46E0-822C-D61FCCEA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2000" y="3749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76A5-3838-4365-8A7D-5D575BAD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749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28AD-BD33-4BBA-A7EC-5CFD4D2D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4EE6-EC6B-4EAA-B0C9-82C6E819A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09FF-8E41-416C-9972-1CF28EC1E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ater Tower Abst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90720" y="1980720"/>
            <a:ext cx="49528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800" y="639936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3080" y="6308640"/>
            <a:ext cx="22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5T14:58:18Z</dcterms:created>
  <dc:creator/>
  <dc:description/>
  <dc:language>en-US</dc:language>
  <cp:lastModifiedBy>eclipse</cp:lastModifiedBy>
  <dcterms:modified xsi:type="dcterms:W3CDTF">2015-01-10T09:20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