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2.png" ContentType="image/png"/>
  <Override PartName="/ppt/media/image23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27.png" ContentType="image/png"/>
  <Override PartName="/ppt/media/image33.jpeg" ContentType="image/jpeg"/>
  <Override PartName="/ppt/media/image5.wmf" ContentType="image/x-wmf"/>
  <Override PartName="/ppt/media/image8.wmf" ContentType="image/x-wmf"/>
  <Override PartName="/ppt/media/image9.wmf" ContentType="image/x-wmf"/>
  <Override PartName="/ppt/media/image31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4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17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813-8461-49FF-B84F-AE99BE7B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018-D34B-49C4-8FCC-C5F52A12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B71-99CD-43C2-A822-56207802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DC5-E1CF-4852-93C5-B43A9702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3559-9C0A-4430-8DB4-52C2670A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02DA-C310-4330-B0CA-3B058C85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9AEA-BB9A-47C9-BCFC-4A18B4D7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D281-CE3A-4A2E-BD7D-B9E2A104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2011-D7A1-4420-A70E-22FBAEFA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F4A1-8F41-4B3A-80CE-DB1F8659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4A0C-ECE1-4596-8919-4082106E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B65-E788-4C5F-9E71-A02A4A19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7402-5261-4DD5-B174-E4A90F4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EEC9-C257-4BC9-B9B3-D7751DB8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CFEA-1957-40A6-B5B2-53EFC248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F9E4-178C-485F-BA8C-F054DC6F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8307-2054-480C-A1ED-45DE3404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68C0-9182-4A89-8F11-2390755E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FE54-6753-417F-89F5-59FEF747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BA821-32A8-4F51-A483-453936C2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9452-1D70-493E-8F9C-913CDE07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174AB-C2D8-4213-94FD-1E33294A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110-1FD1-4C84-AE0F-C01DEC4F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C0B7A-6564-4CCE-BBCE-396D1065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C1E8F-AAFD-49BE-AFC6-1C1D0CD3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9A05D-1C6D-4E49-8041-EF4C5E40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3B542-002F-4D46-B571-140E5ACA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7F47-1941-46C1-AB49-0E3C36EC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DCE11-73A8-4701-BE78-7F934799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6040-C537-487D-B5C3-F3ACC5FF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772-DED1-4C57-817A-C28B0DA1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A27-9BD0-4F89-8BCF-6C322E1D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3D9-2AD2-47FD-AE71-187CC7CF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EB5-B135-445C-B8BE-49E8D9A3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C0A-EF33-46BA-A0AB-7E926A7C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8ED-E664-4449-BAF8-CD66B041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B6CA-B1DA-40DD-9B3F-97765F91A3E9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720" y="112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2DBD-AC77-4129-B415-1ABB3587B55A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0c0c0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CAD8-3549-4C70-943E-DBD7678A9A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8,4,&#24187;&#28783;&#29255; 4" TargetMode="External"/><Relationship Id="rId3" Type="http://schemas.openxmlformats.org/officeDocument/2006/relationships/hyperlink" Target="258,6,&#24187;&#28783;&#29255; 6" TargetMode="External"/><Relationship Id="rId4" Type="http://schemas.openxmlformats.org/officeDocument/2006/relationships/hyperlink" Target="258,8,&#24187;&#28783;&#29255; 8" TargetMode="External"/><Relationship Id="rId5" Type="http://schemas.openxmlformats.org/officeDocument/2006/relationships/hyperlink" Target="258,10,&#24187;&#28783;&#29255; 10" TargetMode="External"/><Relationship Id="rId6" Type="http://schemas.openxmlformats.org/officeDocument/2006/relationships/hyperlink" Target="258,12,&#24187;&#28783;&#29255; 12" TargetMode="External"/><Relationship Id="rId7" Type="http://schemas.openxmlformats.org/officeDocument/2006/relationships/hyperlink" Target="258,15,&#24187;&#28783;&#29255; 15" TargetMode="External"/><Relationship Id="rId8" Type="http://schemas.openxmlformats.org/officeDocument/2006/relationships/hyperlink" Target="258,15,&#24187;&#28783;&#29255; 15" TargetMode="External"/><Relationship Id="rId9" Type="http://schemas.openxmlformats.org/officeDocument/2006/relationships/hyperlink" Target="258,16,&#24187;&#28783;&#29255; 16" TargetMode="External"/><Relationship Id="rId10" Type="http://schemas.openxmlformats.org/officeDocument/2006/relationships/hyperlink" Target="258,17,&#24187;&#28783;&#29255; 17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9,3,&#24187;&#28783;&#29255; 3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259,3,&#24187;&#28783;&#29255; 3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258,18,&#24187;&#28783;&#29255; 18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9.png"/><Relationship Id="rId15" Type="http://schemas.openxmlformats.org/officeDocument/2006/relationships/image" Target="../media/image27.png"/><Relationship Id="rId16" Type="http://schemas.openxmlformats.org/officeDocument/2006/relationships/image" Target="../media/image27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hyperlink" Target="http://www.eeppt.com" TargetMode="External"/><Relationship Id="rId2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www/Local%20Settings/Temp/Rar$DI26.531/&#20840;&#31561;&#19977;&#35282;&#24418;&#30340;&#22797;&#20064;.pub" TargetMode="External"/><Relationship Id="rId3" Type="http://schemas.openxmlformats.org/officeDocument/2006/relationships/hyperlink" Target="../../www/Local%20Settings/Temp/Rar$DI26.531/&#20840;&#31561;&#19977;&#35282;&#24418;&#30340;&#22797;&#20064;.pub" TargetMode="External"/><Relationship Id="rId4" Type="http://schemas.openxmlformats.org/officeDocument/2006/relationships/hyperlink" Target="../../www/Local%20Settings/Temp/Rar$DI26.531/&#20840;&#31561;&#19977;&#35282;&#24418;&#30340;&#22797;&#20064;.pub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79640" y="692280"/>
            <a:ext cx="6207120" cy="108108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dddddd">
                      <a:alpha val="75000"/>
                    </a:srgbClr>
                  </a:outerShdw>
                </a:effectLst>
                <a:latin typeface="宋体"/>
              </a:rPr>
              <a:t>中考专题复习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ddddd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789440" y="2062080"/>
            <a:ext cx="3240000" cy="4320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0">
                  <a:noFill/>
                </a:ln>
                <a:solidFill>
                  <a:srgbClr val="ffcc00"/>
                </a:solidFill>
                <a:latin typeface="宋体"/>
              </a:rPr>
              <a:t>—— </a:t>
            </a:r>
            <a:r>
              <a:rPr b="1" lang="zh-CN" sz="4800" spc="-1" strike="noStrike">
                <a:ln w="0">
                  <a:noFill/>
                </a:ln>
                <a:solidFill>
                  <a:srgbClr val="ffcc00"/>
                </a:solidFill>
                <a:latin typeface="宋体"/>
              </a:rPr>
              <a:t>全等三角形</a:t>
            </a:r>
            <a:endParaRPr b="1" lang="en-US" sz="4800" spc="-1" strike="noStrike">
              <a:ln w="0">
                <a:noFill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00000" y="981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Comic Sans MS"/>
                <a:ea typeface="黑体"/>
              </a:rPr>
              <a:t>证明两个三角形全等的基本思路：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19162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）已知两边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----</a:t>
            </a:r>
            <a:endParaRPr b="0" lang="en-US" sz="2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060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64000" y="2060640"/>
            <a:ext cx="0" cy="0"/>
          </a:xfrm>
          <a:prstGeom prst="line">
            <a:avLst/>
          </a:prstGeom>
          <a:ln w="93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64000" y="20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27280" y="1628640"/>
            <a:ext cx="380880" cy="936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1484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c0c"/>
                </a:solidFill>
                <a:latin typeface="Comic Sans MS"/>
              </a:rPr>
              <a:t>找第三边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148428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(</a:t>
            </a:r>
            <a:r>
              <a:rPr b="0" lang="en-US" sz="1800" spc="-1" strike="noStrike" u="sng">
                <a:solidFill>
                  <a:srgbClr val="009900"/>
                </a:solidFill>
                <a:uFillTx/>
                <a:latin typeface="宋体"/>
                <a:hlinkClick r:id="rId2"/>
              </a:rPr>
              <a:t>SSS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16360" y="18446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c0c"/>
                </a:solidFill>
                <a:latin typeface="Comic Sans MS"/>
              </a:rPr>
              <a:t>找夹角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1844640"/>
            <a:ext cx="122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宋体"/>
              </a:rPr>
              <a:t>（</a:t>
            </a:r>
            <a:r>
              <a:rPr b="0" lang="en-US" sz="1800" spc="-1" strike="noStrike" u="sng">
                <a:solidFill>
                  <a:srgbClr val="009900"/>
                </a:solidFill>
                <a:uFillTx/>
                <a:latin typeface="宋体"/>
                <a:hlinkClick r:id="rId3"/>
              </a:rPr>
              <a:t>SAS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3645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(2)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已知一边一角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---</a:t>
            </a:r>
            <a:endParaRPr b="0" lang="en-US" sz="2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00560" y="3651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6000" y="3429000"/>
            <a:ext cx="380880" cy="865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6360" y="32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c0c"/>
                </a:solidFill>
                <a:latin typeface="Comic Sans MS"/>
              </a:rPr>
              <a:t>已知一边和它的邻角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1989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c0c"/>
                </a:solidFill>
                <a:latin typeface="Comic Sans MS"/>
              </a:rPr>
              <a:t>找是否有直角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00720" y="2276640"/>
            <a:ext cx="64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(</a:t>
            </a:r>
            <a:r>
              <a:rPr b="0" lang="en-US" sz="1800" spc="-1" strike="noStrike" u="sng">
                <a:solidFill>
                  <a:srgbClr val="009900"/>
                </a:solidFill>
                <a:uFillTx/>
                <a:latin typeface="宋体"/>
                <a:hlinkClick r:id="rId4"/>
              </a:rPr>
              <a:t>HL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16360" y="422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c0c"/>
                </a:solidFill>
                <a:latin typeface="Comic Sans MS"/>
              </a:rPr>
              <a:t>已知一边和它的对角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76720" y="4076640"/>
            <a:ext cx="381240" cy="865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76720" y="2997360"/>
            <a:ext cx="381240" cy="865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08720" y="2781360"/>
            <a:ext cx="316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c0c"/>
                </a:solidFill>
                <a:latin typeface="宋体"/>
              </a:rPr>
              <a:t>找这边的另一个邻角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(</a:t>
            </a:r>
            <a:r>
              <a:rPr b="0" lang="en-US" sz="1800" spc="-1" strike="noStrike" u="sng">
                <a:solidFill>
                  <a:srgbClr val="009900"/>
                </a:solidFill>
                <a:uFillTx/>
                <a:latin typeface="宋体"/>
                <a:hlinkClick r:id="rId5"/>
              </a:rPr>
              <a:t>ASA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08720" y="3213000"/>
            <a:ext cx="309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c0c"/>
                </a:solidFill>
                <a:latin typeface="宋体"/>
              </a:rPr>
              <a:t>找这个角的另一个边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(</a:t>
            </a:r>
            <a:r>
              <a:rPr b="0" lang="en-US" sz="1800" spc="-1" strike="noStrike" u="sng">
                <a:solidFill>
                  <a:srgbClr val="009900"/>
                </a:solidFill>
                <a:uFillTx/>
                <a:latin typeface="宋体"/>
                <a:hlinkClick r:id="rId6"/>
              </a:rPr>
              <a:t>SAS)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08720" y="3573360"/>
            <a:ext cx="352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c0c"/>
                </a:solidFill>
                <a:latin typeface="宋体"/>
              </a:rPr>
              <a:t>找这边的对角 </a:t>
            </a:r>
            <a:r>
              <a:rPr b="1" lang="en-US" sz="1800" spc="-1" strike="noStrike">
                <a:solidFill>
                  <a:srgbClr val="0c0c0c"/>
                </a:solidFill>
                <a:latin typeface="宋体"/>
              </a:rPr>
              <a:t>(</a:t>
            </a:r>
            <a:r>
              <a:rPr b="0" lang="en-US" sz="1800" spc="-1" strike="noStrike" u="sng">
                <a:solidFill>
                  <a:srgbClr val="009900"/>
                </a:solidFill>
                <a:uFillTx/>
                <a:latin typeface="宋体"/>
                <a:hlinkClick r:id="rId7"/>
              </a:rPr>
              <a:t>AAS</a:t>
            </a:r>
            <a:r>
              <a:rPr b="1" lang="en-US" sz="1800" spc="-1" strike="noStrike">
                <a:solidFill>
                  <a:srgbClr val="0c0c0c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80000" y="4149720"/>
            <a:ext cx="28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c0c"/>
                </a:solidFill>
                <a:latin typeface="宋体"/>
              </a:rPr>
              <a:t>找一角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(</a:t>
            </a:r>
            <a:r>
              <a:rPr b="0" lang="en-US" sz="1800" spc="-1" strike="noStrike" u="sng">
                <a:solidFill>
                  <a:srgbClr val="009900"/>
                </a:solidFill>
                <a:uFillTx/>
                <a:latin typeface="宋体"/>
                <a:hlinkClick r:id="rId8"/>
              </a:rPr>
              <a:t>AAS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8720" y="4508640"/>
            <a:ext cx="3240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c0c"/>
                </a:solidFill>
                <a:latin typeface="宋体"/>
              </a:rPr>
              <a:t>已知角是直角，找一边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(</a:t>
            </a:r>
            <a:r>
              <a:rPr b="0" lang="en-US" sz="1800" spc="-1" strike="noStrike" u="sng">
                <a:solidFill>
                  <a:srgbClr val="009900"/>
                </a:solidFill>
                <a:uFillTx/>
                <a:latin typeface="宋体"/>
                <a:hlinkClick r:id="rId9"/>
              </a:rPr>
              <a:t>HL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03280" y="5445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(3)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已知两角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---</a:t>
            </a:r>
            <a:endParaRPr b="0" lang="en-US" sz="2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4000" y="5229360"/>
            <a:ext cx="380880" cy="865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5229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c0c"/>
                </a:solidFill>
                <a:latin typeface="宋体"/>
              </a:rPr>
              <a:t>找两角的夹边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(ASA)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5805360"/>
            <a:ext cx="2737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c0c0c"/>
                </a:solidFill>
                <a:latin typeface="宋体"/>
              </a:rPr>
              <a:t>找夹边外的任意边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(</a:t>
            </a:r>
            <a:r>
              <a:rPr b="0" lang="en-US" sz="1800" spc="-1" strike="noStrike" u="sng">
                <a:solidFill>
                  <a:srgbClr val="009900"/>
                </a:solidFill>
                <a:uFillTx/>
                <a:latin typeface="宋体"/>
                <a:hlinkClick r:id="rId10"/>
              </a:rPr>
              <a:t>AAS</a:t>
            </a:r>
            <a:r>
              <a:rPr b="0" lang="en-US" sz="1800" spc="-1" strike="noStrike">
                <a:solidFill>
                  <a:srgbClr val="0c0c0c"/>
                </a:solidFill>
                <a:latin typeface="宋体"/>
              </a:rPr>
              <a:t>)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6760" y="133200"/>
            <a:ext cx="73454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方法指引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6560" y="105408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4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：全等三角形的性质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∵△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BC≌△DEF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∴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B=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C=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 ,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BC=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∠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=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∠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B=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∠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C=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；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①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全等三角形的对应边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        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全等三角形的对应角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          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②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全等三角形的周长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面积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对应边上的对应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 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  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 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分别相等。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788000" y="1197000"/>
            <a:ext cx="4282920" cy="1584360"/>
            <a:chOff x="4788000" y="1197000"/>
            <a:chExt cx="4282920" cy="1584360"/>
          </a:xfrm>
        </p:grpSpPr>
        <p:pic>
          <p:nvPicPr>
            <p:cNvPr id="254" name="标题占位符 1" descr=""/>
            <p:cNvPicPr/>
            <p:nvPr/>
          </p:nvPicPr>
          <p:blipFill>
            <a:blip r:embed="rId2"/>
            <a:stretch/>
          </p:blipFill>
          <p:spPr>
            <a:xfrm>
              <a:off x="4788000" y="1197000"/>
              <a:ext cx="428292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 txBox="1"/>
            <p:nvPr/>
          </p:nvSpPr>
          <p:spPr>
            <a:xfrm>
              <a:off x="4788000" y="1197000"/>
              <a:ext cx="428292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黑体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7080480" y="652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50920" y="1207800"/>
            <a:ext cx="864216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二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.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全等三角形的性质与判定定理的运用举例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1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如图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1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已知△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BE≌△DCE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E=2cm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BE=1.5cm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∠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=25°∠B=48°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；那么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DE=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cm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EC=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 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cm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∠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C=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度；∠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D=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黑体"/>
              </a:rPr>
              <a:t>     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度；      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                                           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076720" y="3429000"/>
            <a:ext cx="2938680" cy="2063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043320" y="5445000"/>
            <a:ext cx="11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（第</a:t>
            </a:r>
            <a:r>
              <a:rPr b="0" lang="en-US" sz="1800" spc="-1" strike="noStrike">
                <a:solidFill>
                  <a:srgbClr val="0c0c0c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c0c0c"/>
                </a:solidFill>
                <a:latin typeface="Arial"/>
              </a:rPr>
              <a:t>小题）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4000" y="1566720"/>
            <a:ext cx="57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c0c0c"/>
                </a:solidFill>
                <a:latin typeface="Comic Sans MS"/>
              </a:rPr>
              <a:t>2</a:t>
            </a:r>
            <a:r>
              <a:rPr b="0" lang="zh-CN" sz="2700" spc="-1" strike="noStrike">
                <a:solidFill>
                  <a:srgbClr val="0c0c0c"/>
                </a:solidFill>
                <a:latin typeface="Comic Sans MS"/>
              </a:rPr>
              <a:t>、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如图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2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，已知，∠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ABC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＝∠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DEF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，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AB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＝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DE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，要说明△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ABC≌△DEF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，</a:t>
            </a:r>
            <a:endParaRPr b="0" lang="en-US" sz="27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（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1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）若以“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SAS”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为依据，还须添加的一个条件为</a:t>
            </a:r>
            <a:r>
              <a:rPr b="0" lang="zh-CN" sz="2700" spc="-1" strike="noStrike" u="sng">
                <a:solidFill>
                  <a:srgbClr val="0c0c0c"/>
                </a:solidFill>
                <a:uFillTx/>
                <a:latin typeface="宋体"/>
              </a:rPr>
              <a:t>                    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；</a:t>
            </a:r>
            <a:endParaRPr b="0" lang="en-US" sz="27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（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2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）若以“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ASA”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为依据，还须添加的一个条件为</a:t>
            </a:r>
            <a:r>
              <a:rPr b="0" lang="zh-CN" sz="2700" spc="-1" strike="noStrike" u="sng">
                <a:solidFill>
                  <a:srgbClr val="0c0c0c"/>
                </a:solidFill>
                <a:uFillTx/>
                <a:latin typeface="宋体"/>
              </a:rPr>
              <a:t>                    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；</a:t>
            </a:r>
            <a:endParaRPr b="0" lang="en-US" sz="27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（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3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）若以“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AAS”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为依据，还须添加的一个条件为</a:t>
            </a:r>
            <a:r>
              <a:rPr b="0" lang="zh-CN" sz="2700" spc="-1" strike="noStrike" u="sng">
                <a:solidFill>
                  <a:srgbClr val="0c0c0c"/>
                </a:solidFill>
                <a:uFillTx/>
                <a:latin typeface="宋体"/>
              </a:rPr>
              <a:t>                    </a:t>
            </a:r>
            <a:r>
              <a:rPr b="0" lang="zh-CN" sz="2700" spc="-1" strike="noStrike">
                <a:solidFill>
                  <a:srgbClr val="0c0c0c"/>
                </a:solidFill>
                <a:latin typeface="宋体"/>
              </a:rPr>
              <a:t>；</a:t>
            </a:r>
            <a:endParaRPr b="0" lang="en-US" sz="27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61" name="文本占位符 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29480" y="958680"/>
            <a:ext cx="3208320" cy="2254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7131960" y="3788640"/>
            <a:ext cx="11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（第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2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小题） 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、如图</a:t>
            </a: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，平行四边形</a:t>
            </a: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ABCD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中，图中的全等三角形是</a:t>
            </a:r>
            <a:r>
              <a:rPr b="0" lang="en-US" sz="2800" spc="-1" strike="noStrike" u="sng">
                <a:solidFill>
                  <a:srgbClr val="0c0c0c"/>
                </a:solidFill>
                <a:uFillTx/>
                <a:latin typeface="宋体"/>
              </a:rPr>
              <a:t>                        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                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908000" y="2349360"/>
            <a:ext cx="4370400" cy="28101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709080" y="508500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如图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3 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4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如图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4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已知∠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CAB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＝∠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DBA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要使△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ABC≌△BA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只需增加的一个条件是</a:t>
            </a:r>
            <a:r>
              <a:rPr b="0" lang="zh-CN" sz="2800" spc="-1" strike="noStrike" u="sng">
                <a:solidFill>
                  <a:srgbClr val="0c0c0c"/>
                </a:solidFill>
                <a:uFillTx/>
                <a:latin typeface="黑体"/>
              </a:rPr>
              <a:t>            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；（只需填写一个你认为适合的条件）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814400" y="2854440"/>
            <a:ext cx="4697640" cy="2455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484160" y="5156280"/>
            <a:ext cx="8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  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如图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4 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501480" y="1209600"/>
            <a:ext cx="788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5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分别根据下列已知条件，再补充一个条件使得下图中的△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AB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和△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ACE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全等；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（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1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）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</a:rPr>
              <a:t>AB=AC,</a:t>
            </a:r>
            <a:r>
              <a:rPr b="1" lang="zh-CN" sz="2800" spc="-1" strike="noStrike">
                <a:solidFill>
                  <a:srgbClr val="0c0c0c"/>
                </a:solidFill>
                <a:latin typeface="宋体"/>
              </a:rPr>
              <a:t>∠A</a:t>
            </a:r>
            <a:r>
              <a:rPr b="1" lang="zh-CN" sz="2800" spc="-1" strike="noStrike">
                <a:solidFill>
                  <a:srgbClr val="0c0c0c"/>
                </a:solidFill>
                <a:latin typeface="宋体"/>
              </a:rPr>
              <a:t>＝∠</a:t>
            </a:r>
            <a:r>
              <a:rPr b="1" lang="zh-CN" sz="2800" spc="-1" strike="noStrike">
                <a:solidFill>
                  <a:srgbClr val="0c0c0c"/>
                </a:solidFill>
                <a:latin typeface="宋体"/>
              </a:rPr>
              <a:t>A,</a:t>
            </a:r>
            <a:r>
              <a:rPr b="1" lang="zh-CN" sz="2800" spc="-1" strike="noStrike" u="sng">
                <a:solidFill>
                  <a:srgbClr val="0c0c0c"/>
                </a:solidFill>
                <a:uFillTx/>
                <a:latin typeface="黑体"/>
              </a:rPr>
              <a:t>           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</a:rPr>
              <a:t>；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黑体"/>
              </a:rPr>
              <a:t>（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</a:rPr>
              <a:t>）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</a:rPr>
              <a:t>AB=AC,</a:t>
            </a:r>
            <a:r>
              <a:rPr b="1" lang="zh-CN" sz="2800" spc="-1" strike="noStrike">
                <a:solidFill>
                  <a:srgbClr val="0c0c0c"/>
                </a:solidFill>
                <a:latin typeface="宋体"/>
              </a:rPr>
              <a:t>∠B</a:t>
            </a:r>
            <a:r>
              <a:rPr b="1" lang="zh-CN" sz="2800" spc="-1" strike="noStrike">
                <a:solidFill>
                  <a:srgbClr val="0c0c0c"/>
                </a:solidFill>
                <a:latin typeface="宋体"/>
              </a:rPr>
              <a:t>＝∠</a:t>
            </a:r>
            <a:r>
              <a:rPr b="1" lang="zh-CN" sz="2800" spc="-1" strike="noStrike">
                <a:solidFill>
                  <a:srgbClr val="0c0c0c"/>
                </a:solidFill>
                <a:latin typeface="宋体"/>
              </a:rPr>
              <a:t>C</a:t>
            </a:r>
            <a:r>
              <a:rPr b="1" lang="zh-CN" sz="2800" spc="-1" strike="noStrike" u="sng">
                <a:solidFill>
                  <a:srgbClr val="0c0c0c"/>
                </a:solidFill>
                <a:uFillTx/>
                <a:latin typeface="黑体"/>
              </a:rPr>
              <a:t>           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</a:rPr>
              <a:t>；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（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3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）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AD=AE,</a:t>
            </a:r>
            <a:r>
              <a:rPr b="0" lang="zh-CN" sz="2800" spc="-1" strike="noStrike" u="sng">
                <a:solidFill>
                  <a:srgbClr val="0c0c0c"/>
                </a:solidFill>
                <a:uFillTx/>
                <a:latin typeface="黑体"/>
              </a:rPr>
              <a:t>            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DB=CE.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0" name=""/>
          <p:cNvSpPr/>
          <p:nvPr/>
        </p:nvSpPr>
        <p:spPr>
          <a:xfrm>
            <a:off x="6732720" y="537372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仿宋_GB2312"/>
                <a:ea typeface="仿宋_GB2312"/>
              </a:rPr>
              <a:t>如图</a:t>
            </a:r>
            <a:r>
              <a:rPr b="0" lang="en-US" sz="1800" spc="-1" strike="noStrike">
                <a:solidFill>
                  <a:srgbClr val="0c0c0c"/>
                </a:solidFill>
                <a:latin typeface="仿宋_GB2312"/>
                <a:ea typeface="仿宋_GB2312"/>
              </a:rPr>
              <a:t>5 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796000" y="2276640"/>
            <a:ext cx="3306600" cy="30970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5940360" y="4870440"/>
            <a:ext cx="129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501120" y="1209600"/>
            <a:ext cx="579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6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如图，</a:t>
            </a:r>
            <a:r>
              <a:rPr b="0" i="1" lang="zh-CN" sz="2800" spc="-1" strike="noStrike">
                <a:solidFill>
                  <a:srgbClr val="0c0c0c"/>
                </a:solidFill>
                <a:latin typeface="黑体"/>
              </a:rPr>
              <a:t>AC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＝</a:t>
            </a:r>
            <a:r>
              <a:rPr b="0" i="1" lang="zh-CN" sz="2800" spc="-1" strike="noStrike">
                <a:solidFill>
                  <a:srgbClr val="0c0c0c"/>
                </a:solidFill>
                <a:latin typeface="黑体"/>
              </a:rPr>
              <a:t>B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</a:t>
            </a:r>
            <a:r>
              <a:rPr b="0" i="1" lang="zh-CN" sz="2800" spc="-1" strike="noStrike">
                <a:solidFill>
                  <a:srgbClr val="0c0c0c"/>
                </a:solidFill>
                <a:latin typeface="黑体"/>
              </a:rPr>
              <a:t>BC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＝</a:t>
            </a:r>
            <a:r>
              <a:rPr b="0" i="1" lang="zh-CN" sz="2800" spc="-1" strike="noStrike">
                <a:solidFill>
                  <a:srgbClr val="0c0c0c"/>
                </a:solidFill>
                <a:latin typeface="黑体"/>
              </a:rPr>
              <a:t>A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说明△</a:t>
            </a:r>
            <a:r>
              <a:rPr b="0" i="1" lang="zh-CN" sz="2800" spc="-1" strike="noStrike">
                <a:solidFill>
                  <a:srgbClr val="0c0c0c"/>
                </a:solidFill>
                <a:latin typeface="黑体"/>
              </a:rPr>
              <a:t>ABC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和△</a:t>
            </a:r>
            <a:r>
              <a:rPr b="0" i="1" lang="zh-CN" sz="2800" spc="-1" strike="noStrike">
                <a:solidFill>
                  <a:srgbClr val="0c0c0c"/>
                </a:solidFill>
                <a:latin typeface="黑体"/>
              </a:rPr>
              <a:t>BA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全等的理由．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证明：在△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ABC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与△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BA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中，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∵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 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∴△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ABC≌△BA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（       ）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pic>
        <p:nvPicPr>
          <p:cNvPr id="274" name="文本占位符 2" descr=""/>
          <p:cNvPicPr/>
          <p:nvPr/>
        </p:nvPicPr>
        <p:blipFill>
          <a:blip r:embed="rId2"/>
          <a:stretch/>
        </p:blipFill>
        <p:spPr>
          <a:xfrm>
            <a:off x="1044720" y="3141720"/>
            <a:ext cx="3762360" cy="1295280"/>
          </a:xfrm>
          <a:prstGeom prst="rect">
            <a:avLst/>
          </a:prstGeom>
          <a:ln w="0">
            <a:noFill/>
          </a:ln>
        </p:spPr>
      </p:pic>
      <p:pic>
        <p:nvPicPr>
          <p:cNvPr id="275" name="文本占位符 2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716360" y="1917720"/>
            <a:ext cx="4270320" cy="2287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427440" y="4219560"/>
            <a:ext cx="8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  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如图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6 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79280" y="764640"/>
            <a:ext cx="870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7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、如图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, CE=DE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，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EA=EB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，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CA=DB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，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求证：△</a:t>
            </a:r>
            <a:r>
              <a:rPr b="0" i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ABC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≌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△</a:t>
            </a:r>
            <a:r>
              <a:rPr b="0" i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BAD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.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证明∵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CE=DE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，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EA=EB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 ∴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  <a:ea typeface="仿宋_GB2312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=  </a:t>
            </a:r>
            <a:r>
              <a:rPr b="1" lang="zh-CN" sz="1800" spc="-1" strike="noStrike" u="sng">
                <a:solidFill>
                  <a:srgbClr val="0c0c0c"/>
                </a:solidFill>
                <a:uFillTx/>
                <a:latin typeface="Arial"/>
              </a:rPr>
              <a:t>  </a:t>
            </a:r>
            <a:r>
              <a:rPr b="1" lang="zh-CN" sz="1800" spc="-1" strike="noStrike" u="sng">
                <a:solidFill>
                  <a:srgbClr val="0c0c0c"/>
                </a:solidFill>
                <a:uFillTx/>
                <a:latin typeface="Arial"/>
              </a:rPr>
              <a:t>	</a:t>
            </a:r>
            <a:r>
              <a:rPr b="1" lang="zh-CN" sz="1800" spc="-1" strike="noStrike" u="sng">
                <a:solidFill>
                  <a:srgbClr val="0c0c0c"/>
                </a:solidFill>
                <a:uFillTx/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       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在△</a:t>
            </a:r>
            <a:r>
              <a:rPr b="0" i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ABC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和△</a:t>
            </a:r>
            <a:r>
              <a:rPr b="0" i="1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BAD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中，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∵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724360" y="1989000"/>
            <a:ext cx="3375360" cy="2422800"/>
          </a:xfrm>
          <a:prstGeom prst="rect">
            <a:avLst/>
          </a:prstGeom>
          <a:ln w="0">
            <a:noFill/>
          </a:ln>
        </p:spPr>
      </p:pic>
      <p:pic>
        <p:nvPicPr>
          <p:cNvPr id="279" name="文本占位符 2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5219640" cy="1295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84360" y="501336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∴△</a:t>
            </a:r>
            <a:r>
              <a:rPr b="0" i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ABC</a:t>
            </a:r>
            <a:r>
              <a:rPr b="0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≌△</a:t>
            </a:r>
            <a:r>
              <a:rPr b="0" i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BAD</a:t>
            </a:r>
            <a:r>
              <a:rPr b="0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（         ）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c0c"/>
                </a:solidFill>
                <a:latin typeface="黑体"/>
              </a:rPr>
              <a:t>三</a:t>
            </a:r>
            <a:r>
              <a:rPr b="0" lang="en-US" sz="3200" spc="-1" strike="noStrike">
                <a:solidFill>
                  <a:srgbClr val="0c0c0c"/>
                </a:solidFill>
                <a:latin typeface="黑体"/>
              </a:rPr>
              <a:t>.</a:t>
            </a:r>
            <a:r>
              <a:rPr b="0" lang="zh-CN" sz="3200" spc="-1" strike="noStrike">
                <a:solidFill>
                  <a:srgbClr val="0c0c0c"/>
                </a:solidFill>
                <a:latin typeface="黑体"/>
              </a:rPr>
              <a:t>课堂小结</a:t>
            </a:r>
            <a:endParaRPr b="0" lang="en-US" sz="32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15920"/>
            <a:ext cx="70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omic Sans MS"/>
                <a:ea typeface="黑体"/>
              </a:rPr>
              <a:t>一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Comic Sans MS"/>
                <a:ea typeface="黑体"/>
              </a:rPr>
              <a:t>全等三角形</a:t>
            </a:r>
            <a:r>
              <a:rPr b="0" lang="zh-CN" sz="4000" spc="-1" strike="noStrike">
                <a:solidFill>
                  <a:srgbClr val="ffffff"/>
                </a:solidFill>
                <a:latin typeface="Comic Sans MS"/>
                <a:ea typeface="隶书"/>
              </a:rPr>
              <a:t>：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1055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：什么是全等三角形？一个三角形经过哪些变化可以得到它的全等形？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314316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：全等三角形有哪些性质？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206388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omic Sans MS"/>
                <a:ea typeface="黑体"/>
              </a:rPr>
              <a:t>能够完全重合的两个三角形叫做全等三角形。一个三角形经过平移、翻折、旋转可以得到它的全等形。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2720" y="3718080"/>
            <a:ext cx="828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）全等三角形的对应边相等、对应角相等。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）全等三角形的周长相等、面积相等。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）全等三角形的对应边上的对应中线、角平分线、  高线分别相等。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601020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24000" y="909720"/>
            <a:ext cx="846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c0c0c"/>
                </a:solidFill>
                <a:latin typeface="黑体"/>
              </a:rPr>
              <a:t>1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如图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1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已知</a:t>
            </a:r>
            <a:r>
              <a:rPr b="0" lang="en-GB" sz="2800" spc="-1" strike="noStrike">
                <a:solidFill>
                  <a:srgbClr val="0c0c0c"/>
                </a:solidFill>
                <a:latin typeface="黑体"/>
              </a:rPr>
              <a:t>AC=AB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∠</a:t>
            </a:r>
            <a:r>
              <a:rPr b="0" lang="en-GB" sz="2800" spc="-1" strike="noStrike">
                <a:solidFill>
                  <a:srgbClr val="0c0c0c"/>
                </a:solidFill>
                <a:latin typeface="黑体"/>
              </a:rPr>
              <a:t>1=∠2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；求证：</a:t>
            </a:r>
            <a:r>
              <a:rPr b="0" lang="en-GB" sz="2800" spc="-1" strike="noStrike">
                <a:solidFill>
                  <a:srgbClr val="0c0c0c"/>
                </a:solidFill>
                <a:latin typeface="黑体"/>
              </a:rPr>
              <a:t>BD=CE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c0c0c"/>
                </a:solidFill>
                <a:latin typeface="黑体"/>
              </a:rPr>
              <a:t>2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如图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2,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点</a:t>
            </a:r>
            <a:r>
              <a:rPr b="0" i="1" lang="zh-CN" sz="2800" spc="-1" strike="noStrike">
                <a:solidFill>
                  <a:srgbClr val="0c0c0c"/>
                </a:solidFill>
                <a:latin typeface="黑体"/>
              </a:rPr>
              <a:t>M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是等腰梯形</a:t>
            </a:r>
            <a:r>
              <a:rPr b="0" i="1" lang="zh-CN" sz="2800" spc="-1" strike="noStrike">
                <a:solidFill>
                  <a:srgbClr val="0c0c0c"/>
                </a:solidFill>
                <a:latin typeface="黑体"/>
              </a:rPr>
              <a:t>ABC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底边</a:t>
            </a:r>
            <a:r>
              <a:rPr b="0" i="1" lang="zh-CN" sz="2800" spc="-1" strike="noStrike">
                <a:solidFill>
                  <a:srgbClr val="0c0c0c"/>
                </a:solidFill>
                <a:latin typeface="黑体"/>
              </a:rPr>
              <a:t>AB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的中点，△</a:t>
            </a:r>
            <a:r>
              <a:rPr b="0" i="1" lang="zh-CN" sz="2800" spc="-1" strike="noStrike">
                <a:solidFill>
                  <a:srgbClr val="0c0c0c"/>
                </a:solidFill>
                <a:latin typeface="黑体"/>
              </a:rPr>
              <a:t>AM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和△</a:t>
            </a:r>
            <a:r>
              <a:rPr b="0" i="1" lang="zh-CN" sz="2800" spc="-1" strike="noStrike">
                <a:solidFill>
                  <a:srgbClr val="0c0c0c"/>
                </a:solidFill>
                <a:latin typeface="黑体"/>
              </a:rPr>
              <a:t>BMC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全等吗？为什么？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3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如图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3,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已知：如图，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AB∥C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AB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＝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C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，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BE∥DF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；求证：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BE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＝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DF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；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pic>
        <p:nvPicPr>
          <p:cNvPr id="283" name="文本占位符 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588000" y="4365720"/>
            <a:ext cx="1989360" cy="1655640"/>
          </a:xfrm>
          <a:prstGeom prst="rect">
            <a:avLst/>
          </a:prstGeom>
          <a:ln w="0">
            <a:noFill/>
          </a:ln>
        </p:spPr>
      </p:pic>
      <p:pic>
        <p:nvPicPr>
          <p:cNvPr id="284" name="ddg78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781440" y="4365720"/>
            <a:ext cx="1994040" cy="1296720"/>
          </a:xfrm>
          <a:prstGeom prst="rect">
            <a:avLst/>
          </a:prstGeom>
          <a:ln w="0">
            <a:noFill/>
          </a:ln>
        </p:spPr>
      </p:pic>
      <p:pic>
        <p:nvPicPr>
          <p:cNvPr id="285" name="文本占位符 2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1187280" y="4221000"/>
            <a:ext cx="1644840" cy="17780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657080" y="5803920"/>
            <a:ext cx="8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  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如图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1 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79840" y="5803920"/>
            <a:ext cx="8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  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如图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27840" y="5875560"/>
            <a:ext cx="8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  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如图</a:t>
            </a:r>
            <a:r>
              <a:rPr b="0" lang="zh-CN" sz="1800" spc="-1" strike="noStrike">
                <a:solidFill>
                  <a:srgbClr val="0c0c0c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练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0" name=""/>
          <p:cNvSpPr/>
          <p:nvPr/>
        </p:nvSpPr>
        <p:spPr>
          <a:xfrm>
            <a:off x="612720" y="90972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、如图：在△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中，∠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C =90</a:t>
            </a:r>
            <a:r>
              <a:rPr b="1" lang="en-US" sz="3200" spc="-1" strike="noStrike" baseline="30000">
                <a:solidFill>
                  <a:srgbClr val="0c0c0c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平分∠ 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BAC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DE⊥AB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交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于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BC=30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BD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CD=3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则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DE=</a:t>
            </a:r>
            <a:r>
              <a:rPr b="1" lang="en-US" sz="3200" spc="-1" strike="noStrike" u="sng">
                <a:solidFill>
                  <a:srgbClr val="0c0c0c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11280" y="1844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258920" y="3284640"/>
            <a:ext cx="3673440" cy="1800000"/>
            <a:chOff x="1258920" y="3284640"/>
            <a:chExt cx="3673440" cy="1800000"/>
          </a:xfrm>
        </p:grpSpPr>
        <p:sp>
          <p:nvSpPr>
            <p:cNvPr id="293" name=""/>
            <p:cNvSpPr/>
            <p:nvPr/>
          </p:nvSpPr>
          <p:spPr>
            <a:xfrm>
              <a:off x="1258920" y="5084640"/>
              <a:ext cx="3673440" cy="0"/>
            </a:xfrm>
            <a:prstGeom prst="line">
              <a:avLst/>
            </a:prstGeom>
            <a:ln w="381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258920" y="3284640"/>
              <a:ext cx="3673440" cy="1800000"/>
              <a:chOff x="1258920" y="3284640"/>
              <a:chExt cx="3673440" cy="1800000"/>
            </a:xfrm>
          </p:grpSpPr>
          <p:sp>
            <p:nvSpPr>
              <p:cNvPr id="295" name=""/>
              <p:cNvSpPr/>
              <p:nvPr/>
            </p:nvSpPr>
            <p:spPr>
              <a:xfrm flipV="1">
                <a:off x="1258920" y="3284640"/>
                <a:ext cx="1368360" cy="1800000"/>
              </a:xfrm>
              <a:prstGeom prst="line">
                <a:avLst/>
              </a:prstGeom>
              <a:ln w="381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627280" y="3284640"/>
                <a:ext cx="2305080" cy="1800000"/>
              </a:xfrm>
              <a:prstGeom prst="line">
                <a:avLst/>
              </a:prstGeom>
              <a:ln w="381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1258920" y="4005000"/>
                <a:ext cx="2305080" cy="1079280"/>
              </a:xfrm>
              <a:prstGeom prst="line">
                <a:avLst/>
              </a:prstGeom>
              <a:ln w="381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64000" y="4005000"/>
                <a:ext cx="0" cy="1079280"/>
              </a:xfrm>
              <a:prstGeom prst="line">
                <a:avLst/>
              </a:prstGeom>
              <a:ln w="381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2465640" y="2724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52920" y="4960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13640" y="4818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45640" y="3594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28920" y="5033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64000" y="4941720"/>
            <a:ext cx="144360" cy="0"/>
          </a:xfrm>
          <a:prstGeom prst="line">
            <a:avLst/>
          </a:prstGeom>
          <a:ln w="93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8360" y="4941720"/>
            <a:ext cx="0" cy="142920"/>
          </a:xfrm>
          <a:prstGeom prst="line">
            <a:avLst/>
          </a:prstGeom>
          <a:ln w="93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700360" y="3357720"/>
            <a:ext cx="71280" cy="142560"/>
          </a:xfrm>
          <a:prstGeom prst="line">
            <a:avLst/>
          </a:prstGeom>
          <a:ln w="93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2555640" y="3357720"/>
            <a:ext cx="144360" cy="142560"/>
          </a:xfrm>
          <a:prstGeom prst="line">
            <a:avLst/>
          </a:prstGeom>
          <a:ln w="93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52360" y="909720"/>
            <a:ext cx="88930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, △ABC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的角平分线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BM,CN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相交于点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P,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求证：点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到三边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CA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的距离相等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71640" y="3070080"/>
            <a:ext cx="5562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∵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BM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是△</a:t>
            </a:r>
            <a:r>
              <a:rPr b="0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ABC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的角平分线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点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BM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上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146640" y="2004840"/>
            <a:ext cx="3111480" cy="2449440"/>
            <a:chOff x="6146640" y="2004840"/>
            <a:chExt cx="3111480" cy="2449440"/>
          </a:xfrm>
        </p:grpSpPr>
        <p:grpSp>
          <p:nvGrpSpPr>
            <p:cNvPr id="311" name=""/>
            <p:cNvGrpSpPr/>
            <p:nvPr/>
          </p:nvGrpSpPr>
          <p:grpSpPr>
            <a:xfrm>
              <a:off x="6146640" y="2004840"/>
              <a:ext cx="3111480" cy="2449440"/>
              <a:chOff x="6146640" y="2004840"/>
              <a:chExt cx="3111480" cy="244944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6571800" y="2307600"/>
                <a:ext cx="2132280" cy="1537200"/>
                <a:chOff x="6571800" y="2307600"/>
                <a:chExt cx="2132280" cy="15372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571800" y="3844800"/>
                  <a:ext cx="2132280" cy="0"/>
                </a:xfrm>
                <a:prstGeom prst="line">
                  <a:avLst/>
                </a:prstGeom>
                <a:ln w="2844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c0c0c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788240" y="2307960"/>
                  <a:ext cx="885240" cy="1523880"/>
                </a:xfrm>
                <a:prstGeom prst="line">
                  <a:avLst/>
                </a:prstGeom>
                <a:ln w="2844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0c0c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6571800" y="2307600"/>
                  <a:ext cx="1218240" cy="1536840"/>
                </a:xfrm>
                <a:prstGeom prst="line">
                  <a:avLst/>
                </a:prstGeom>
                <a:ln w="2844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0c0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7430040" y="20048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0c0c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46640" y="3539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0c0c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725320" y="3616200"/>
                <a:ext cx="53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c0c0c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430040" y="28130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6386040" y="2004840"/>
                <a:ext cx="2567160" cy="2449440"/>
                <a:chOff x="6386040" y="2004840"/>
                <a:chExt cx="2567160" cy="2449440"/>
              </a:xfrm>
            </p:grpSpPr>
            <p:sp>
              <p:nvSpPr>
                <p:cNvPr id="321" name=""/>
                <p:cNvSpPr/>
                <p:nvPr/>
              </p:nvSpPr>
              <p:spPr>
                <a:xfrm flipH="1">
                  <a:off x="7637760" y="2004840"/>
                  <a:ext cx="179280" cy="2449440"/>
                </a:xfrm>
                <a:prstGeom prst="line">
                  <a:avLst/>
                </a:prstGeom>
                <a:ln w="9360">
                  <a:solidFill>
                    <a:srgbClr val="0c0c0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0c0c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6386040" y="2823480"/>
                  <a:ext cx="2318400" cy="1109880"/>
                </a:xfrm>
                <a:prstGeom prst="line">
                  <a:avLst/>
                </a:prstGeom>
                <a:ln w="9360">
                  <a:solidFill>
                    <a:srgbClr val="0c0c0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0c0c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582600" y="2701800"/>
                  <a:ext cx="2370600" cy="1281240"/>
                </a:xfrm>
                <a:prstGeom prst="line">
                  <a:avLst/>
                </a:prstGeom>
                <a:ln w="9360">
                  <a:solidFill>
                    <a:srgbClr val="0c0c0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0c0c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71440" y="3844800"/>
                  <a:ext cx="2132640" cy="0"/>
                </a:xfrm>
                <a:prstGeom prst="line">
                  <a:avLst/>
                </a:prstGeom>
                <a:ln w="2844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c0c0c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788600" y="2307960"/>
                  <a:ext cx="885240" cy="1524240"/>
                </a:xfrm>
                <a:prstGeom prst="line">
                  <a:avLst/>
                </a:prstGeom>
                <a:ln w="2844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0c0c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6571440" y="2307600"/>
                  <a:ext cx="1218600" cy="1536840"/>
                </a:xfrm>
                <a:prstGeom prst="line">
                  <a:avLst/>
                </a:prstGeom>
                <a:ln w="28440">
                  <a:solidFill>
                    <a:srgbClr val="0c0c0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c0c0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8192160" y="2538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20920" y="2538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c0c0c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093080" y="2492280"/>
            <a:ext cx="1631520" cy="1721880"/>
            <a:chOff x="7093080" y="2492280"/>
            <a:chExt cx="1631520" cy="1721880"/>
          </a:xfrm>
        </p:grpSpPr>
        <p:grpSp>
          <p:nvGrpSpPr>
            <p:cNvPr id="330" name=""/>
            <p:cNvGrpSpPr/>
            <p:nvPr/>
          </p:nvGrpSpPr>
          <p:grpSpPr>
            <a:xfrm>
              <a:off x="7311960" y="2817720"/>
              <a:ext cx="1023480" cy="1049040"/>
              <a:chOff x="7311960" y="2817720"/>
              <a:chExt cx="1023480" cy="1049040"/>
            </a:xfrm>
          </p:grpSpPr>
          <p:sp>
            <p:nvSpPr>
              <p:cNvPr id="331" name=""/>
              <p:cNvSpPr/>
              <p:nvPr/>
            </p:nvSpPr>
            <p:spPr>
              <a:xfrm flipH="1" flipV="1">
                <a:off x="7739280" y="3288960"/>
                <a:ext cx="2520" cy="577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7739640" y="3028320"/>
                <a:ext cx="446400" cy="279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11960" y="2954160"/>
                <a:ext cx="427680" cy="335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739640" y="3616200"/>
                <a:ext cx="22284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981920" y="3620880"/>
                <a:ext cx="0" cy="223920"/>
              </a:xfrm>
              <a:prstGeom prst="line">
                <a:avLst/>
              </a:prstGeom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86120" y="2817720"/>
                <a:ext cx="149040" cy="131760"/>
              </a:xfrm>
              <a:prstGeom prst="line">
                <a:avLst/>
              </a:prstGeom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7441560" y="2930400"/>
                <a:ext cx="93240" cy="130320"/>
              </a:xfrm>
              <a:prstGeom prst="line">
                <a:avLst/>
              </a:prstGeom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037720" y="3135240"/>
                <a:ext cx="129600" cy="168120"/>
              </a:xfrm>
              <a:prstGeom prst="line">
                <a:avLst/>
              </a:prstGeom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8167320" y="3190320"/>
                <a:ext cx="168120" cy="117720"/>
              </a:xfrm>
              <a:prstGeom prst="line">
                <a:avLst/>
              </a:prstGeom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7093080" y="2492280"/>
              <a:ext cx="43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38480" y="3754440"/>
              <a:ext cx="43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288640" y="2851200"/>
              <a:ext cx="43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971640" y="3933720"/>
            <a:ext cx="8245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∴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PD=PE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角平分线上的点到这个角的两边距离相等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).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63640" y="4929120"/>
            <a:ext cx="5562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同理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,PE=PF.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3600" y="5392800"/>
            <a:ext cx="5562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∴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PD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PE=PF.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93600" y="5840280"/>
            <a:ext cx="6870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即点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P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到三边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CA</a:t>
            </a:r>
            <a:r>
              <a:rPr b="1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的距离相等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2720" y="2060640"/>
            <a:ext cx="63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证明：过点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黑体"/>
              </a:rPr>
              <a:t>P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黑体"/>
              </a:rPr>
              <a:t>PD⊥AB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于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黑体"/>
              </a:rPr>
              <a:t>D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黑体"/>
              </a:rPr>
              <a:t>PE⊥BC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于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黑体"/>
              </a:rPr>
              <a:t>E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黑体"/>
              </a:rPr>
              <a:t>PF⊥AC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黑体"/>
              </a:rPr>
              <a:t>于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黑体"/>
              </a:rPr>
              <a:t>F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4920" y="836640"/>
            <a:ext cx="8283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如图，已知△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BC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的外角∠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CBD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和∠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BCE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的平分线相交于点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求证：点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在∠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DAE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的平分线上．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294160" y="2276640"/>
          <a:ext cx="3814920" cy="30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4160" y="2276640"/>
                    <a:ext cx="381492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106200" y="234468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Arial"/>
                <a:ea typeface="黑体"/>
              </a:rPr>
              <a:t>证明：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42920" y="2421000"/>
            <a:ext cx="51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Arial"/>
                <a:ea typeface="黑体"/>
              </a:rPr>
              <a:t>过点</a:t>
            </a:r>
            <a:r>
              <a:rPr b="0" lang="en-US" sz="2800" spc="-1" strike="noStrike">
                <a:solidFill>
                  <a:srgbClr val="0c0c0c"/>
                </a:solidFill>
                <a:latin typeface="Arial"/>
                <a:ea typeface="黑体"/>
              </a:rPr>
              <a:t>F</a:t>
            </a:r>
            <a:r>
              <a:rPr b="0" lang="zh-CN" sz="2800" spc="-1" strike="noStrike">
                <a:solidFill>
                  <a:srgbClr val="0c0c0c"/>
                </a:solidFill>
                <a:latin typeface="Arial"/>
                <a:ea typeface="黑体"/>
              </a:rPr>
              <a:t>作</a:t>
            </a:r>
            <a:r>
              <a:rPr b="0" lang="en-US" sz="2800" spc="-1" strike="noStrike">
                <a:solidFill>
                  <a:srgbClr val="0c0c0c"/>
                </a:solidFill>
                <a:latin typeface="Arial"/>
                <a:ea typeface="黑体"/>
              </a:rPr>
              <a:t>FG⊥AE</a:t>
            </a:r>
            <a:r>
              <a:rPr b="0" lang="zh-CN" sz="2800" spc="-1" strike="noStrike">
                <a:solidFill>
                  <a:srgbClr val="0c0c0c"/>
                </a:solidFill>
                <a:latin typeface="Arial"/>
                <a:ea typeface="黑体"/>
              </a:rPr>
              <a:t>于</a:t>
            </a:r>
            <a:r>
              <a:rPr b="0" lang="en-US" sz="2800" spc="-1" strike="noStrike">
                <a:solidFill>
                  <a:srgbClr val="0c0c0c"/>
                </a:solidFill>
                <a:latin typeface="Arial"/>
                <a:ea typeface="黑体"/>
              </a:rPr>
              <a:t>G</a:t>
            </a:r>
            <a:r>
              <a:rPr b="0" lang="zh-CN" sz="2800" spc="-1" strike="noStrike">
                <a:solidFill>
                  <a:srgbClr val="0c0c0c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c0c0c"/>
                </a:solidFill>
                <a:latin typeface="Arial"/>
                <a:ea typeface="黑体"/>
              </a:rPr>
              <a:t>FH⊥AD</a:t>
            </a:r>
            <a:r>
              <a:rPr b="0" lang="zh-CN" sz="2800" spc="-1" strike="noStrike">
                <a:solidFill>
                  <a:srgbClr val="0c0c0c"/>
                </a:solidFill>
                <a:latin typeface="Arial"/>
                <a:ea typeface="黑体"/>
              </a:rPr>
              <a:t>于</a:t>
            </a:r>
            <a:r>
              <a:rPr b="0" lang="en-US" sz="2800" spc="-1" strike="noStrike">
                <a:solidFill>
                  <a:srgbClr val="0c0c0c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c0c0c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c0c0c"/>
                </a:solidFill>
                <a:latin typeface="Arial"/>
                <a:ea typeface="黑体"/>
              </a:rPr>
              <a:t>FM⊥BC</a:t>
            </a:r>
            <a:r>
              <a:rPr b="0" lang="zh-CN" sz="2800" spc="-1" strike="noStrike">
                <a:solidFill>
                  <a:srgbClr val="0c0c0c"/>
                </a:solidFill>
                <a:latin typeface="Arial"/>
                <a:ea typeface="黑体"/>
              </a:rPr>
              <a:t>于</a:t>
            </a:r>
            <a:r>
              <a:rPr b="0" lang="en-US" sz="2800" spc="-1" strike="noStrike">
                <a:solidFill>
                  <a:srgbClr val="0c0c0c"/>
                </a:solidFill>
                <a:latin typeface="Arial"/>
                <a:ea typeface="黑体"/>
              </a:rPr>
              <a:t>M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7637400" y="3120840"/>
            <a:ext cx="504720" cy="64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8151840" y="3809520"/>
            <a:ext cx="0" cy="863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236000" y="276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85080" y="4638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308360" y="3809880"/>
            <a:ext cx="884520" cy="2667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77080" y="3773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342900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∵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点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在∠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BCE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的平分线上， 　　　　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G⊥AE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 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M⊥BC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7960" y="445608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∴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G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M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9280" y="486900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又∵点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在∠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CB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的平分线上， 　　　　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H⊥AD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 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M⊥BC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5440" y="5805360"/>
            <a:ext cx="17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∴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M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H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372760" y="5805360"/>
            <a:ext cx="168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∴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G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H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7280" y="5805360"/>
            <a:ext cx="47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∴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点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在∠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DAE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的平分线上　　　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52360" y="836640"/>
            <a:ext cx="882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已知，△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和△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ECD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都是等边三角形，且点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在一条直线上求证：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BE=AD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06800" y="50356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78320" y="41338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302080" y="1793880"/>
            <a:ext cx="3732480" cy="2097000"/>
            <a:chOff x="5302080" y="1793880"/>
            <a:chExt cx="3732480" cy="2097000"/>
          </a:xfrm>
        </p:grpSpPr>
        <p:sp>
          <p:nvSpPr>
            <p:cNvPr id="371" name=""/>
            <p:cNvSpPr/>
            <p:nvPr/>
          </p:nvSpPr>
          <p:spPr>
            <a:xfrm>
              <a:off x="7750080" y="2154240"/>
              <a:ext cx="863640" cy="1368360"/>
            </a:xfrm>
            <a:prstGeom prst="line">
              <a:avLst/>
            </a:prstGeom>
            <a:ln w="1908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59800" y="1793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686080" y="33066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67560" y="35226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04520" y="22986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61000" y="3522600"/>
              <a:ext cx="2952720" cy="0"/>
            </a:xfrm>
            <a:prstGeom prst="line">
              <a:avLst/>
            </a:prstGeom>
            <a:ln w="1908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661000" y="2657160"/>
              <a:ext cx="649080" cy="865080"/>
            </a:xfrm>
            <a:prstGeom prst="line">
              <a:avLst/>
            </a:prstGeom>
            <a:ln w="1908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10080" y="2657520"/>
              <a:ext cx="503280" cy="865080"/>
            </a:xfrm>
            <a:prstGeom prst="line">
              <a:avLst/>
            </a:prstGeom>
            <a:ln w="1908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813360" y="2153880"/>
              <a:ext cx="936720" cy="1368360"/>
            </a:xfrm>
            <a:prstGeom prst="line">
              <a:avLst/>
            </a:prstGeom>
            <a:ln w="1908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10080" y="2657520"/>
              <a:ext cx="2303640" cy="865080"/>
            </a:xfrm>
            <a:prstGeom prst="line">
              <a:avLst/>
            </a:prstGeom>
            <a:ln w="1908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661000" y="2153880"/>
              <a:ext cx="2089080" cy="1368360"/>
            </a:xfrm>
            <a:prstGeom prst="line">
              <a:avLst/>
            </a:prstGeom>
            <a:ln w="1908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02080" y="33066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518080" y="438768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Comic Sans MS"/>
              </a:rPr>
              <a:t>变式：</a:t>
            </a:r>
            <a:r>
              <a:rPr b="1" lang="zh-CN" sz="1800" spc="-1" strike="noStrike">
                <a:solidFill>
                  <a:srgbClr val="0000cc"/>
                </a:solidFill>
                <a:latin typeface="Comic Sans MS"/>
              </a:rPr>
              <a:t>以上条件不变，将△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ABC</a:t>
            </a:r>
            <a:r>
              <a:rPr b="1" lang="zh-CN" sz="1800" spc="-1" strike="noStrike">
                <a:solidFill>
                  <a:srgbClr val="0000cc"/>
                </a:solidFill>
                <a:latin typeface="Comic Sans MS"/>
              </a:rPr>
              <a:t>绕点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C</a:t>
            </a:r>
            <a:r>
              <a:rPr b="1" lang="zh-CN" sz="1800" spc="-1" strike="noStrike">
                <a:solidFill>
                  <a:srgbClr val="0000cc"/>
                </a:solidFill>
                <a:latin typeface="Comic Sans MS"/>
              </a:rPr>
              <a:t>旋转一定角度（大于零度而小于六十度），以上的结论海成立吗？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125360" y="1886040"/>
            <a:ext cx="4537080" cy="4577400"/>
            <a:chOff x="1125360" y="1886040"/>
            <a:chExt cx="4537080" cy="4577400"/>
          </a:xfrm>
        </p:grpSpPr>
        <p:sp>
          <p:nvSpPr>
            <p:cNvPr id="385" name=""/>
            <p:cNvSpPr/>
            <p:nvPr/>
          </p:nvSpPr>
          <p:spPr>
            <a:xfrm>
              <a:off x="1125360" y="1886040"/>
              <a:ext cx="4537080" cy="45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c0c0c"/>
                  </a:solidFill>
                  <a:latin typeface="Comic Sans MS"/>
                </a:rPr>
                <a:t>证明</a:t>
              </a:r>
              <a:r>
                <a:rPr b="0" lang="zh-CN" sz="1800" spc="-1" strike="noStrike">
                  <a:solidFill>
                    <a:srgbClr val="0c0c0c"/>
                  </a:solidFill>
                  <a:latin typeface="Comic Sans MS"/>
                </a:rPr>
                <a:t>：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∵ 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△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ABC</a:t>
              </a:r>
              <a:r>
                <a:rPr b="1" lang="zh-CN" sz="1800" spc="-1" strike="noStrike">
                  <a:solidFill>
                    <a:srgbClr val="0c0c0c"/>
                  </a:solidFill>
                  <a:latin typeface="Comic Sans MS"/>
                </a:rPr>
                <a:t>和△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ECD</a:t>
              </a:r>
              <a:r>
                <a:rPr b="1" lang="zh-CN" sz="1800" spc="-1" strike="noStrike">
                  <a:solidFill>
                    <a:srgbClr val="0c0c0c"/>
                  </a:solidFill>
                  <a:latin typeface="Comic Sans MS"/>
                </a:rPr>
                <a:t>都是等边三角形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∴ 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AC=BC  DC=EC  ∠BCA=∠DCE=60°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∴ ∠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BCA+∠ACE=∠DCE+ ∠ACE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c0c0c"/>
                  </a:solidFill>
                  <a:latin typeface="Comic Sans MS"/>
                </a:rPr>
                <a:t>即∠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BCE=∠DCA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c0c0c"/>
                  </a:solidFill>
                  <a:latin typeface="Comic Sans MS"/>
                </a:rPr>
                <a:t>在△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ACD</a:t>
              </a:r>
              <a:r>
                <a:rPr b="1" lang="zh-CN" sz="1800" spc="-1" strike="noStrike">
                  <a:solidFill>
                    <a:srgbClr val="0c0c0c"/>
                  </a:solidFill>
                  <a:latin typeface="Comic Sans MS"/>
                </a:rPr>
                <a:t>和△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BCE</a:t>
              </a:r>
              <a:r>
                <a:rPr b="1" lang="zh-CN" sz="1800" spc="-1" strike="noStrike">
                  <a:solidFill>
                    <a:srgbClr val="0c0c0c"/>
                  </a:solidFill>
                  <a:latin typeface="Comic Sans MS"/>
                </a:rPr>
                <a:t>中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        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AC=BC 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        ∠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BCE=∠DCA 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        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DC=EC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∴ △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ACD≌△BCE  (</a:t>
              </a:r>
              <a:r>
                <a:rPr b="0" lang="en-US" sz="1800" spc="-1" strike="noStrike" u="sng">
                  <a:solidFill>
                    <a:srgbClr val="009900"/>
                  </a:solidFill>
                  <a:uFillTx/>
                  <a:latin typeface="Comic Sans MS"/>
                  <a:hlinkClick r:id="rId2"/>
                </a:rPr>
                <a:t>SAS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∴ </a:t>
              </a:r>
              <a:r>
                <a:rPr b="1" lang="en-US" sz="1800" spc="-1" strike="noStrike">
                  <a:solidFill>
                    <a:srgbClr val="0c0c0c"/>
                  </a:solidFill>
                  <a:latin typeface="Comic Sans MS"/>
                </a:rPr>
                <a:t>BE=AD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58800" y="4531680"/>
              <a:ext cx="380880" cy="8809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22680 h 880920"/>
                <a:gd name="textAreaBottom" fmla="*/ 858240 h 88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4000" y="333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如图，已知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在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上，∠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1=∠2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 ∠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3=∠4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那么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AC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等于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吗？为什么？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62800" y="1341360"/>
            <a:ext cx="2549520" cy="2241360"/>
            <a:chOff x="262800" y="1341360"/>
            <a:chExt cx="2549520" cy="224136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609840" y="1485720"/>
              <a:ext cx="200952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114560" y="270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65040" y="184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39600" y="2493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21600" y="2206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5560" y="220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42560" y="32144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13120" y="1341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82200" y="2349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2800" y="23493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627280" y="1484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Comic Sans MS"/>
              </a:rPr>
              <a:t>解：</a:t>
            </a:r>
            <a:r>
              <a:rPr b="1" lang="en-US" sz="2400" spc="-1" strike="noStrike">
                <a:solidFill>
                  <a:srgbClr val="0c0c0c"/>
                </a:solidFill>
                <a:latin typeface="Comic Sans MS"/>
              </a:rPr>
              <a:t>AC=AD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716360" y="1413000"/>
            <a:ext cx="3384720" cy="5086080"/>
            <a:chOff x="4716360" y="1413000"/>
            <a:chExt cx="3384720" cy="5086080"/>
          </a:xfrm>
        </p:grpSpPr>
        <p:sp>
          <p:nvSpPr>
            <p:cNvPr id="401" name=""/>
            <p:cNvSpPr/>
            <p:nvPr/>
          </p:nvSpPr>
          <p:spPr>
            <a:xfrm>
              <a:off x="4716360" y="1413000"/>
              <a:ext cx="3384720" cy="50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Comic Sans MS"/>
                </a:rPr>
                <a:t>理由：在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△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E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和△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EBD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中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         ∠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1=∠2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         ∠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3=∠4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         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EB=EB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 ∴ △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EBC≌△EBD  (AAS)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 ∴ 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BC=BD 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在△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和△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BD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中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       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B=AB</a:t>
              </a:r>
              <a:r>
                <a:rPr b="0" lang="zh-CN" sz="1800" spc="-1" strike="noStrike">
                  <a:solidFill>
                    <a:srgbClr val="0000cc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        ∠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1=∠2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        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BC=BD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  ∴ △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BC≌△ABD  (</a:t>
              </a:r>
              <a:r>
                <a:rPr b="0" lang="zh-CN" sz="1800" spc="-1" strike="noStrike" u="sng">
                  <a:solidFill>
                    <a:srgbClr val="009900"/>
                  </a:solidFill>
                  <a:uFillTx/>
                  <a:latin typeface="Comic Sans MS"/>
                  <a:hlinkClick r:id="rId3"/>
                </a:rPr>
                <a:t>SAS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cc"/>
                  </a:solidFill>
                  <a:latin typeface="Comic Sans MS"/>
                </a:rPr>
                <a:t>   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∴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C=AD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35640" y="1987200"/>
              <a:ext cx="287280" cy="1007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7640"/>
                <a:gd name="textAreaBottom" fmla="*/ 9813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35640" y="4508280"/>
              <a:ext cx="287280" cy="100764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6280 h 1007640"/>
                <a:gd name="textAreaBottom" fmla="*/ 98136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95280" y="909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如图，已知，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B∥DE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B=DE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F=DC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。请问图中有那几对全等三角形？请任选一对给予证明。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91160" y="1989000"/>
            <a:ext cx="3433320" cy="2313000"/>
            <a:chOff x="191160" y="1989000"/>
            <a:chExt cx="3433320" cy="2313000"/>
          </a:xfrm>
        </p:grpSpPr>
        <p:pic>
          <p:nvPicPr>
            <p:cNvPr id="406" name="" descr=""/>
            <p:cNvPicPr/>
            <p:nvPr/>
          </p:nvPicPr>
          <p:blipFill>
            <a:blip r:embed="rId2"/>
            <a:stretch/>
          </p:blipFill>
          <p:spPr>
            <a:xfrm>
              <a:off x="395280" y="2060280"/>
              <a:ext cx="304776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971280" y="2852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05360" y="198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76000" y="3068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54200" y="321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02560" y="39337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1160" y="2997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925440" y="2070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Comic Sans MS"/>
              </a:rPr>
              <a:t>答：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27880" y="221472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mic Sans MS"/>
              </a:rPr>
              <a:t>△</a:t>
            </a:r>
            <a:r>
              <a:rPr b="1" lang="en-US" sz="1800" spc="-1" strike="noStrike">
                <a:solidFill>
                  <a:srgbClr val="990000"/>
                </a:solidFill>
                <a:latin typeface="Comic Sans MS"/>
              </a:rPr>
              <a:t>ABC≌△DEF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35960" y="2639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Comic Sans MS"/>
              </a:rPr>
              <a:t>证明：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788000" y="2790720"/>
            <a:ext cx="3456000" cy="3696840"/>
            <a:chOff x="4788000" y="2790720"/>
            <a:chExt cx="3456000" cy="3696840"/>
          </a:xfrm>
        </p:grpSpPr>
        <p:sp>
          <p:nvSpPr>
            <p:cNvPr id="417" name=""/>
            <p:cNvSpPr/>
            <p:nvPr/>
          </p:nvSpPr>
          <p:spPr>
            <a:xfrm>
              <a:off x="4788000" y="2790720"/>
              <a:ext cx="3456000" cy="36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cc"/>
                  </a:solidFill>
                  <a:latin typeface="Comic Sans MS"/>
                </a:rPr>
                <a:t>∵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B∥DE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∴ ∠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=∠D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∵ 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F=DC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∴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F+FC=DC+FC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∴ 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C=DF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在△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BC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和△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DEF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中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     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C=DF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     ∠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=∠D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     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B=DE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Comic Sans MS"/>
                </a:rPr>
                <a:t>∴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 △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ABC≌△DEF  </a:t>
              </a:r>
              <a:r>
                <a:rPr b="1" lang="zh-CN" sz="1800" spc="-1" strike="noStrike">
                  <a:solidFill>
                    <a:srgbClr val="0000cc"/>
                  </a:solidFill>
                  <a:latin typeface="Comic Sans MS"/>
                </a:rPr>
                <a:t>（</a:t>
              </a:r>
              <a:r>
                <a:rPr b="0" lang="zh-CN" sz="1800" spc="-1" strike="noStrike" u="sng">
                  <a:solidFill>
                    <a:srgbClr val="009900"/>
                  </a:solidFill>
                  <a:uFillTx/>
                  <a:latin typeface="Comic Sans MS"/>
                  <a:hlinkClick r:id="rId3"/>
                </a:rPr>
                <a:t>SAS</a:t>
              </a:r>
              <a:r>
                <a:rPr b="1" lang="zh-CN" sz="1800" spc="-1" strike="noStrike">
                  <a:solidFill>
                    <a:srgbClr val="0c0c0c"/>
                  </a:solidFill>
                  <a:latin typeface="Comic Sans MS"/>
                </a:rPr>
                <a:t>）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4663800"/>
              <a:ext cx="216000" cy="107964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24000" y="1052640"/>
            <a:ext cx="8673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如图，已知，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EG∥AF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请你从下面三个条件中，再选出两个作为已知条件，另一个作为结论，推出一个正确的命题。（只写出一种情况）①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B=AC ②DE=DF ③BE=CF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已知： 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EG∥AF 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求证：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473120" y="3787920"/>
            <a:ext cx="2282760" cy="4572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5289480" y="3139920"/>
            <a:ext cx="2282760" cy="4572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2841480" y="3139920"/>
            <a:ext cx="2283120" cy="45720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418920" y="3427560"/>
            <a:ext cx="3694320" cy="2357280"/>
            <a:chOff x="3418920" y="3427560"/>
            <a:chExt cx="3694320" cy="2357280"/>
          </a:xfrm>
        </p:grpSpPr>
        <p:pic>
          <p:nvPicPr>
            <p:cNvPr id="424" name="" descr=""/>
            <p:cNvPicPr/>
            <p:nvPr/>
          </p:nvPicPr>
          <p:blipFill>
            <a:blip r:embed="rId5"/>
            <a:stretch/>
          </p:blipFill>
          <p:spPr>
            <a:xfrm>
              <a:off x="3490560" y="3500640"/>
              <a:ext cx="344340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4278960" y="508500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13720" y="53722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60640" y="443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91280" y="50850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69120" y="4869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18920" y="49402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43160" y="34275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0c0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拓展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"/>
          <p:cNvSpPr/>
          <p:nvPr/>
        </p:nvSpPr>
        <p:spPr>
          <a:xfrm>
            <a:off x="611280" y="907920"/>
            <a:ext cx="85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8.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已知∠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A=∠D,AB=DE,AF=CD,BC=EF.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求证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:BC∥EF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95280" y="2997360"/>
            <a:ext cx="4897440" cy="3628080"/>
            <a:chOff x="395280" y="2997360"/>
            <a:chExt cx="4897440" cy="3628080"/>
          </a:xfrm>
        </p:grpSpPr>
        <p:grpSp>
          <p:nvGrpSpPr>
            <p:cNvPr id="435" name=""/>
            <p:cNvGrpSpPr/>
            <p:nvPr/>
          </p:nvGrpSpPr>
          <p:grpSpPr>
            <a:xfrm>
              <a:off x="899640" y="3500280"/>
              <a:ext cx="3672360" cy="2665080"/>
              <a:chOff x="899640" y="3500280"/>
              <a:chExt cx="3672360" cy="2665080"/>
            </a:xfrm>
          </p:grpSpPr>
          <p:sp>
            <p:nvSpPr>
              <p:cNvPr id="436" name=""/>
              <p:cNvSpPr/>
              <p:nvPr/>
            </p:nvSpPr>
            <p:spPr>
              <a:xfrm flipH="1">
                <a:off x="899640" y="3500280"/>
                <a:ext cx="1584360" cy="1944360"/>
              </a:xfrm>
              <a:prstGeom prst="line">
                <a:avLst/>
              </a:prstGeom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900000" y="5444640"/>
                <a:ext cx="576360" cy="720360"/>
              </a:xfrm>
              <a:prstGeom prst="line">
                <a:avLst/>
              </a:prstGeom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76360" y="6165360"/>
                <a:ext cx="1511280" cy="0"/>
              </a:xfrm>
              <a:prstGeom prst="line">
                <a:avLst/>
              </a:prstGeom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484360" y="3500280"/>
                <a:ext cx="1511280" cy="0"/>
              </a:xfrm>
              <a:prstGeom prst="line">
                <a:avLst/>
              </a:prstGeom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95640" y="3500280"/>
                <a:ext cx="576360" cy="720360"/>
              </a:xfrm>
              <a:prstGeom prst="line">
                <a:avLst/>
              </a:prstGeom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2987280" y="4220640"/>
                <a:ext cx="1584360" cy="1944360"/>
              </a:xfrm>
              <a:prstGeom prst="line">
                <a:avLst/>
              </a:prstGeom>
              <a:ln w="9360">
                <a:solidFill>
                  <a:srgbClr val="0c0c0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1042920" y="6092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c0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71640" y="6165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c0c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5280" y="530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c0c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268360" y="3068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c0c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51280" y="2997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c0c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16360" y="3933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c0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755640" y="10526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9.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如图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已知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AC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∥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BD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EA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EB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分别平分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∠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CAB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∠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DBA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过点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E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则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AC+BD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相等吗？请说明理由。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2349360"/>
            <a:ext cx="4822920" cy="2547360"/>
            <a:chOff x="0" y="2349360"/>
            <a:chExt cx="4822920" cy="2547360"/>
          </a:xfrm>
        </p:grpSpPr>
        <p:sp>
          <p:nvSpPr>
            <p:cNvPr id="450" name=""/>
            <p:cNvSpPr/>
            <p:nvPr/>
          </p:nvSpPr>
          <p:spPr>
            <a:xfrm flipH="1">
              <a:off x="287280" y="2852640"/>
              <a:ext cx="936720" cy="1584360"/>
            </a:xfrm>
            <a:prstGeom prst="line">
              <a:avLst/>
            </a:prstGeom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7280" y="4437000"/>
              <a:ext cx="2879640" cy="0"/>
            </a:xfrm>
            <a:prstGeom prst="line">
              <a:avLst/>
            </a:prstGeom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87280" y="3141000"/>
              <a:ext cx="2305080" cy="1297080"/>
            </a:xfrm>
            <a:prstGeom prst="line">
              <a:avLst/>
            </a:prstGeom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24000" y="2852640"/>
              <a:ext cx="2592360" cy="576360"/>
            </a:xfrm>
            <a:prstGeom prst="line">
              <a:avLst/>
            </a:prstGeom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168360" y="3429000"/>
              <a:ext cx="647640" cy="1008000"/>
            </a:xfrm>
            <a:prstGeom prst="line">
              <a:avLst/>
            </a:prstGeom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92360" y="3141360"/>
              <a:ext cx="576360" cy="1224000"/>
            </a:xfrm>
            <a:prstGeom prst="line">
              <a:avLst/>
            </a:prstGeom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429264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c0c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34920" y="234936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c0c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48000" y="263664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c0c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24360" y="443700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c0c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87640" y="314136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0c0c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498920" y="2565360"/>
            <a:ext cx="464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c0c0c"/>
                </a:solidFill>
                <a:latin typeface="Arial"/>
              </a:rPr>
              <a:t>要证明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两条线段的和与一条线段相等</a:t>
            </a:r>
            <a:r>
              <a:rPr b="1" lang="zh-CN" sz="2400" spc="-1" strike="noStrike">
                <a:solidFill>
                  <a:srgbClr val="0c0c0c"/>
                </a:solidFill>
                <a:latin typeface="Arial"/>
              </a:rPr>
              <a:t>时常用的两种方法：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c0c0c"/>
                </a:solidFill>
                <a:latin typeface="Arial"/>
              </a:rPr>
              <a:t>、可在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长线段上截取</a:t>
            </a:r>
            <a:r>
              <a:rPr b="1" lang="zh-CN" sz="2400" spc="-1" strike="noStrike">
                <a:solidFill>
                  <a:srgbClr val="0c0c0c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两条线段中一条相等的一段</a:t>
            </a:r>
            <a:r>
              <a:rPr b="1" lang="zh-CN" sz="2400" spc="-1" strike="noStrike">
                <a:solidFill>
                  <a:srgbClr val="0c0c0c"/>
                </a:solidFill>
                <a:latin typeface="Arial"/>
              </a:rPr>
              <a:t>，然后证明剩余的线段与另一条线段相等。（割）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0c0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c0c0c"/>
                </a:solidFill>
                <a:latin typeface="Arial"/>
              </a:rPr>
              <a:t>、把一个三角形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移到</a:t>
            </a:r>
            <a:r>
              <a:rPr b="1" lang="zh-CN" sz="2400" spc="-1" strike="noStrike">
                <a:solidFill>
                  <a:srgbClr val="0c0c0c"/>
                </a:solidFill>
                <a:latin typeface="Arial"/>
              </a:rPr>
              <a:t>另一位置，使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两线段补成一条线段</a:t>
            </a:r>
            <a:r>
              <a:rPr b="1" lang="zh-CN" sz="2400" spc="-1" strike="noStrike">
                <a:solidFill>
                  <a:srgbClr val="0c0c0c"/>
                </a:solidFill>
                <a:latin typeface="Arial"/>
              </a:rPr>
              <a:t>，再证明它与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长线段相等</a:t>
            </a:r>
            <a:r>
              <a:rPr b="1" lang="zh-CN" sz="2400" spc="-1" strike="noStrike">
                <a:solidFill>
                  <a:srgbClr val="0c0c0c"/>
                </a:solidFill>
                <a:latin typeface="Arial"/>
              </a:rPr>
              <a:t>。（补）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66760" y="133200"/>
            <a:ext cx="73454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拓展题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360" y="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知识回顾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：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7696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1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（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SSS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定理）如图：△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BC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与△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DEF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中      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∵    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079640" y="1701720"/>
                <a:ext cx="33112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__________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________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__________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________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96000" y="1701720"/>
            <a:ext cx="3779640" cy="1949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40762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omic Sans MS"/>
              </a:rPr>
              <a:t>语言概述：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66920" y="19872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EF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11280" y="19872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BC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66920" y="2420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DF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11280" y="2420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AC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66920" y="15552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DE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11280" y="15552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AB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98920" y="3284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SSS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90560" y="335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Comic Sans MS"/>
              </a:rPr>
              <a:t>∴△</a:t>
            </a: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ABC≌△DEF</a:t>
            </a:r>
            <a:r>
              <a:rPr b="0" lang="zh-CN" sz="2800" spc="-1" strike="noStrike">
                <a:solidFill>
                  <a:srgbClr val="0c0c0c"/>
                </a:solidFill>
                <a:latin typeface="Comic Sans MS"/>
              </a:rPr>
              <a:t>（         ）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03640" y="4066560"/>
            <a:ext cx="59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两边对应相等，两三角形全等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-1159560"/>
            <a:ext cx="6513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80720" y="981000"/>
            <a:ext cx="878508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10.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如图：在四边形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ABCD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中，点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E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在边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CD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上，连接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AE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、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BE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并延长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AE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交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BC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的延长线于点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F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，给出下列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5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个关系式：：①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AD∥BC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，②，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DE=EC③∠1=∠2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，④∠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3=∠4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，⑤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AD+BC=AB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。将其中三个关系式作为已知，另外两个作为结论，构成正确的命题。请用序号写出两个正确的命题：（书写形式：如果……那么……）（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）</a:t>
            </a:r>
            <a:r>
              <a:rPr b="1" lang="en-US" sz="2000" spc="-1" strike="noStrike" u="sng">
                <a:solidFill>
                  <a:srgbClr val="0c0c0c"/>
                </a:solidFill>
                <a:uFillTx/>
                <a:latin typeface="黑体"/>
                <a:ea typeface="黑体"/>
              </a:rPr>
              <a:t>                 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；（</a:t>
            </a:r>
            <a:r>
              <a:rPr b="1" lang="en-US" sz="2000" spc="-1" strike="noStrike">
                <a:solidFill>
                  <a:srgbClr val="0c0c0c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）</a:t>
            </a:r>
            <a:r>
              <a:rPr b="1" lang="en-US" sz="2000" spc="-1" strike="noStrike" u="sng">
                <a:solidFill>
                  <a:srgbClr val="0c0c0c"/>
                </a:solidFill>
                <a:uFillTx/>
                <a:latin typeface="黑体"/>
                <a:ea typeface="黑体"/>
              </a:rPr>
              <a:t>                 </a:t>
            </a:r>
            <a:r>
              <a:rPr b="1" lang="zh-CN" sz="2000" spc="-1" strike="noStrike">
                <a:solidFill>
                  <a:srgbClr val="0c0c0c"/>
                </a:solidFill>
                <a:latin typeface="黑体"/>
                <a:ea typeface="黑体"/>
              </a:rPr>
              <a:t>；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859280" y="3573360"/>
            <a:ext cx="3673080" cy="3284280"/>
            <a:chOff x="4859280" y="3573360"/>
            <a:chExt cx="3673080" cy="3284280"/>
          </a:xfrm>
        </p:grpSpPr>
        <p:pic>
          <p:nvPicPr>
            <p:cNvPr id="466" name="" descr=""/>
            <p:cNvPicPr/>
            <p:nvPr/>
          </p:nvPicPr>
          <p:blipFill>
            <a:blip r:embed="rId2"/>
            <a:stretch/>
          </p:blipFill>
          <p:spPr>
            <a:xfrm>
              <a:off x="4859280" y="3573360"/>
              <a:ext cx="3673080" cy="32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5384160" y="6218280"/>
              <a:ext cx="1153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-144756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12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11.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如图，在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R△ABC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中，∠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CB=450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∠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BAC=900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B=AC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点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是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的中点，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F⊥CD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于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H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交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于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F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BE∥AC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交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F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的延长线于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E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求证：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垂直且平分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DE.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5832720" cy="40701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612360" y="909720"/>
            <a:ext cx="8280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12.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已知：如图：在△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BC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中，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BE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CF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分别是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C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两边上的高，在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BE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上截取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BD=AC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在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CF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的延长线上截取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CG=AB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，连结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D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G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求证：△ 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ADG 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为等腰直角三角形。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484360" y="2997360"/>
            <a:ext cx="49672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604360" cy="24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13.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已知：如图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AD∠BAC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DE⊥AB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于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DF⊥AC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于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DB=DC</a:t>
            </a: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，</a:t>
            </a:r>
            <a:br>
              <a:rPr sz="3200"/>
            </a:br>
            <a:r>
              <a:rPr b="1" lang="zh-CN" sz="3200" spc="-1" strike="noStrike">
                <a:solidFill>
                  <a:srgbClr val="0c0c0c"/>
                </a:solidFill>
                <a:latin typeface="黑体"/>
                <a:ea typeface="黑体"/>
              </a:rPr>
              <a:t>求证：</a:t>
            </a:r>
            <a:r>
              <a:rPr b="1" lang="en-US" sz="3200" spc="-1" strike="noStrike">
                <a:solidFill>
                  <a:srgbClr val="0c0c0c"/>
                </a:solidFill>
                <a:latin typeface="黑体"/>
                <a:ea typeface="黑体"/>
              </a:rPr>
              <a:t>EB=FC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76" name="文本占位符 2" descr=""/>
          <p:cNvPicPr/>
          <p:nvPr/>
        </p:nvPicPr>
        <p:blipFill>
          <a:blip r:embed="rId2"/>
          <a:srcRect l="63830" t="3566" r="8511" b="82084"/>
          <a:stretch/>
        </p:blipFill>
        <p:spPr>
          <a:xfrm>
            <a:off x="4645080" y="3070080"/>
            <a:ext cx="4181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总结提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"/>
          <p:cNvSpPr/>
          <p:nvPr/>
        </p:nvSpPr>
        <p:spPr>
          <a:xfrm>
            <a:off x="468360" y="981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omic Sans MS"/>
                <a:ea typeface="隶书"/>
              </a:rPr>
              <a:t>学习全等三角形应注意以下几个问题：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00000" y="1628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1)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要正确区分“对应边”与“对边”，“对应角”与      “对角”的不同含义；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2492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）表示两个三角形全等时，表示对应顶点的字母要写在对应的位置上；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00000" y="3357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）要记住“有三个角对应相等”或“有两边及其中一边的对角对应相等”的两个三角形不一定全等；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00000" y="422100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）时刻注意图形中的隐含条件，如 “公共角” 、“公共边”、“对顶角”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3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3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8" descr="Q"/>
          <p:cNvPicPr/>
          <p:nvPr/>
        </p:nvPicPr>
        <p:blipFill>
          <a:blip r:embed="rId1"/>
          <a:stretch/>
        </p:blipFill>
        <p:spPr>
          <a:xfrm>
            <a:off x="-290520" y="-214200"/>
            <a:ext cx="9739440" cy="73008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1"/>
          <p:cNvPicPr/>
          <p:nvPr/>
        </p:nvPicPr>
        <p:blipFill>
          <a:blip r:embed="rId2"/>
          <a:srcRect l="5296" t="5523" r="16407" b="16099"/>
          <a:stretch/>
        </p:blipFill>
        <p:spPr>
          <a:xfrm>
            <a:off x="-333360" y="-255600"/>
            <a:ext cx="9796320" cy="73515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汽泡"/>
          <p:cNvPicPr/>
          <p:nvPr/>
        </p:nvPicPr>
        <p:blipFill>
          <a:blip r:embed="rId3"/>
          <a:stretch/>
        </p:blipFill>
        <p:spPr>
          <a:xfrm>
            <a:off x="6515280" y="630864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1" descr="汽泡"/>
          <p:cNvPicPr/>
          <p:nvPr/>
        </p:nvPicPr>
        <p:blipFill>
          <a:blip r:embed="rId4"/>
          <a:stretch/>
        </p:blipFill>
        <p:spPr>
          <a:xfrm>
            <a:off x="7913520" y="5229360"/>
            <a:ext cx="1051200" cy="1081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" descr="汽泡"/>
          <p:cNvPicPr/>
          <p:nvPr/>
        </p:nvPicPr>
        <p:blipFill>
          <a:blip r:embed="rId5"/>
          <a:stretch/>
        </p:blipFill>
        <p:spPr>
          <a:xfrm>
            <a:off x="5003640" y="472428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3" descr="汽泡"/>
          <p:cNvPicPr/>
          <p:nvPr/>
        </p:nvPicPr>
        <p:blipFill>
          <a:blip r:embed="rId6"/>
          <a:stretch/>
        </p:blipFill>
        <p:spPr>
          <a:xfrm>
            <a:off x="5003640" y="5732640"/>
            <a:ext cx="981360" cy="10080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4" descr="汽泡"/>
          <p:cNvPicPr/>
          <p:nvPr/>
        </p:nvPicPr>
        <p:blipFill>
          <a:blip r:embed="rId7"/>
          <a:stretch/>
        </p:blipFill>
        <p:spPr>
          <a:xfrm>
            <a:off x="4214880" y="645336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5" descr="汽泡"/>
          <p:cNvPicPr/>
          <p:nvPr/>
        </p:nvPicPr>
        <p:blipFill>
          <a:blip r:embed="rId8"/>
          <a:stretch/>
        </p:blipFill>
        <p:spPr>
          <a:xfrm>
            <a:off x="3271680" y="6021360"/>
            <a:ext cx="420840" cy="4320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6" descr="汽泡"/>
          <p:cNvPicPr/>
          <p:nvPr/>
        </p:nvPicPr>
        <p:blipFill>
          <a:blip r:embed="rId9"/>
          <a:stretch/>
        </p:blipFill>
        <p:spPr>
          <a:xfrm>
            <a:off x="1979640" y="573408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7" descr="汽泡"/>
          <p:cNvPicPr/>
          <p:nvPr/>
        </p:nvPicPr>
        <p:blipFill>
          <a:blip r:embed="rId10"/>
          <a:stretch/>
        </p:blipFill>
        <p:spPr>
          <a:xfrm>
            <a:off x="1187280" y="4724280"/>
            <a:ext cx="773280" cy="7923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8" descr="汽泡"/>
          <p:cNvPicPr/>
          <p:nvPr/>
        </p:nvPicPr>
        <p:blipFill>
          <a:blip r:embed="rId11"/>
          <a:stretch/>
        </p:blipFill>
        <p:spPr>
          <a:xfrm>
            <a:off x="1547640" y="6453360"/>
            <a:ext cx="420840" cy="431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9" descr="汽泡"/>
          <p:cNvPicPr/>
          <p:nvPr/>
        </p:nvPicPr>
        <p:blipFill>
          <a:blip r:embed="rId12"/>
          <a:stretch/>
        </p:blipFill>
        <p:spPr>
          <a:xfrm>
            <a:off x="3708360" y="5229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0" descr="汽泡"/>
          <p:cNvPicPr/>
          <p:nvPr/>
        </p:nvPicPr>
        <p:blipFill>
          <a:blip r:embed="rId13"/>
          <a:stretch/>
        </p:blipFill>
        <p:spPr>
          <a:xfrm>
            <a:off x="6732720" y="573408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1" descr="汽泡"/>
          <p:cNvPicPr/>
          <p:nvPr/>
        </p:nvPicPr>
        <p:blipFill>
          <a:blip r:embed="rId14"/>
          <a:stretch/>
        </p:blipFill>
        <p:spPr>
          <a:xfrm>
            <a:off x="2914560" y="580536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2" descr="汽泡"/>
          <p:cNvPicPr/>
          <p:nvPr/>
        </p:nvPicPr>
        <p:blipFill>
          <a:blip r:embed="rId15"/>
          <a:stretch/>
        </p:blipFill>
        <p:spPr>
          <a:xfrm>
            <a:off x="324000" y="5661000"/>
            <a:ext cx="631800" cy="649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3" descr="汽泡"/>
          <p:cNvPicPr/>
          <p:nvPr/>
        </p:nvPicPr>
        <p:blipFill>
          <a:blip r:embed="rId16"/>
          <a:stretch/>
        </p:blipFill>
        <p:spPr>
          <a:xfrm>
            <a:off x="7380360" y="630864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4" descr="551_03"/>
          <p:cNvPicPr/>
          <p:nvPr/>
        </p:nvPicPr>
        <p:blipFill>
          <a:blip r:embed="rId17"/>
          <a:stretch/>
        </p:blipFill>
        <p:spPr>
          <a:xfrm>
            <a:off x="1187280" y="2349360"/>
            <a:ext cx="857520" cy="11620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5" descr="551_07"/>
          <p:cNvPicPr/>
          <p:nvPr/>
        </p:nvPicPr>
        <p:blipFill>
          <a:blip r:embed="rId18"/>
          <a:stretch/>
        </p:blipFill>
        <p:spPr>
          <a:xfrm>
            <a:off x="7667640" y="2349360"/>
            <a:ext cx="1123920" cy="1152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6" descr="551_11"/>
          <p:cNvPicPr/>
          <p:nvPr/>
        </p:nvPicPr>
        <p:blipFill>
          <a:blip r:embed="rId19"/>
          <a:stretch/>
        </p:blipFill>
        <p:spPr>
          <a:xfrm>
            <a:off x="1979640" y="479736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502" name="WordArt 4"/>
          <p:cNvSpPr txBox="1"/>
          <p:nvPr/>
        </p:nvSpPr>
        <p:spPr>
          <a:xfrm>
            <a:off x="3205080" y="3141720"/>
            <a:ext cx="388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dddddd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楷体_GB2312"/>
              </a:rPr>
              <a:t>谢谢！</a:t>
            </a:r>
            <a:endParaRPr b="1" lang="en-US" sz="9600" spc="1" strike="noStrike">
              <a:ln w="12600">
                <a:solidFill>
                  <a:srgbClr val="dddddd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03" name=""/>
          <p:cNvSpPr/>
          <p:nvPr/>
        </p:nvSpPr>
        <p:spPr>
          <a:xfrm>
            <a:off x="1866240" y="65260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1d3a"/>
                </a:solidFill>
                <a:uFillTx/>
                <a:latin typeface="华文新魏"/>
                <a:ea typeface="华文新魏"/>
                <a:hlinkClick r:id="rId20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1d3a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50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5440" y="1107720"/>
            <a:ext cx="7696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2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（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SAS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定理）如图：△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BC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与△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DEF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中      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∵    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009800" y="1612800"/>
                <a:ext cx="33112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__________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________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__________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________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86520" y="1901880"/>
            <a:ext cx="3778200" cy="1949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5440" y="398736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omic Sans MS"/>
              </a:rPr>
              <a:t>语言概述：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68360" y="1898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宋体"/>
              </a:rPr>
              <a:t>∠</a:t>
            </a:r>
            <a:r>
              <a:rPr b="0" lang="en-US" sz="3200" spc="-1" strike="noStrike">
                <a:solidFill>
                  <a:srgbClr val="66ff33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97080" y="2331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宋体"/>
              </a:rPr>
              <a:t>EF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1440" y="2331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宋体"/>
              </a:rPr>
              <a:t>BC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97080" y="1466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宋体"/>
              </a:rPr>
              <a:t>DE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1440" y="1466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宋体"/>
              </a:rPr>
              <a:t>AB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29080" y="319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SAS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3440" y="3267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∴△</a:t>
            </a: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ABC≌△DEF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（         ）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0720" y="3977640"/>
            <a:ext cx="66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两边及夹角对应相等，两三角形全等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52720" y="1898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宋体"/>
              </a:rPr>
              <a:t>∠</a:t>
            </a:r>
            <a:r>
              <a:rPr b="0" lang="en-US" sz="3200" spc="-1" strike="noStrike">
                <a:solidFill>
                  <a:srgbClr val="66ff33"/>
                </a:solidFill>
                <a:latin typeface="宋体"/>
              </a:rPr>
              <a:t>E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96360" y="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知识回顾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：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60360" y="1139400"/>
            <a:ext cx="7696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3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（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SA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定理）如图：△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BC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与△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DEF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中      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∵    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4720" y="1644480"/>
                <a:ext cx="33112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__________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________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__________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________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861080" y="1644480"/>
            <a:ext cx="3779640" cy="1949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60360" y="401904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omic Sans MS"/>
              </a:rPr>
              <a:t>语言概述：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3280" y="19299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AB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23634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d969"/>
                </a:solidFill>
                <a:latin typeface="宋体"/>
              </a:rPr>
              <a:t>∠ </a:t>
            </a: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E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23634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d969"/>
                </a:solidFill>
                <a:latin typeface="宋体"/>
              </a:rPr>
              <a:t>∠ </a:t>
            </a: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32000" y="14983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d969"/>
                </a:solidFill>
                <a:latin typeface="宋体"/>
              </a:rPr>
              <a:t>∠ </a:t>
            </a: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14983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d969"/>
                </a:solidFill>
                <a:latin typeface="宋体"/>
              </a:rPr>
              <a:t>∠ </a:t>
            </a: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4000" y="32270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ASA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32990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Comic Sans MS"/>
              </a:rPr>
              <a:t>∴</a:t>
            </a: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△</a:t>
            </a: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ABC≌△DEF</a:t>
            </a:r>
            <a:r>
              <a:rPr b="0" lang="zh-CN" sz="2800" spc="-1" strike="noStrike">
                <a:solidFill>
                  <a:srgbClr val="0c0c0c"/>
                </a:solidFill>
                <a:latin typeface="Comic Sans MS"/>
              </a:rPr>
              <a:t>（         ）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8360" y="3690360"/>
            <a:ext cx="669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三边及夹角对应相等，两三角形全等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19299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DE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6720" y="0"/>
            <a:ext cx="69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知识回顾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5280" y="1123920"/>
            <a:ext cx="769608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4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、（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AS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定理）如图：△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ABC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与△</a:t>
            </a: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DEF</a:t>
            </a:r>
            <a:r>
              <a:rPr b="0" lang="zh-CN" sz="2800" spc="-1" strike="noStrike">
                <a:solidFill>
                  <a:srgbClr val="0c0c0c"/>
                </a:solidFill>
                <a:latin typeface="黑体"/>
              </a:rPr>
              <a:t>中      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∵     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79640" y="1628640"/>
                <a:ext cx="33112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__________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________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__________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________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111640" y="1774800"/>
            <a:ext cx="3745080" cy="1930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5280" y="400320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omic Sans MS"/>
              </a:rPr>
              <a:t>语言概述：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38200" y="19141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d969"/>
                </a:solidFill>
                <a:latin typeface="宋体"/>
              </a:rPr>
              <a:t>∠ </a:t>
            </a: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66920" y="234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EF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11280" y="2349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BC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66920" y="14824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d969"/>
                </a:solidFill>
                <a:latin typeface="宋体"/>
              </a:rPr>
              <a:t>∠ </a:t>
            </a: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11280" y="14824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d969"/>
                </a:solidFill>
                <a:latin typeface="宋体"/>
              </a:rPr>
              <a:t>∠ </a:t>
            </a: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3212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AAS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6200" y="328320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Comic Sans MS"/>
              </a:rPr>
              <a:t>∴</a:t>
            </a: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△</a:t>
            </a: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ABC≌△DEF</a:t>
            </a:r>
            <a:r>
              <a:rPr b="0" lang="zh-CN" sz="2800" spc="-1" strike="noStrike">
                <a:solidFill>
                  <a:srgbClr val="0c0c0c"/>
                </a:solidFill>
                <a:latin typeface="Comic Sans MS"/>
              </a:rPr>
              <a:t>（         ）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79640" y="4395240"/>
            <a:ext cx="79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两角及其中一条对应相等，两三角形全等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22560" y="19141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d969"/>
                </a:solidFill>
                <a:latin typeface="宋体"/>
              </a:rPr>
              <a:t>∠ </a:t>
            </a: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E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知识回顾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：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81080" y="115704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黑体"/>
              </a:rPr>
              <a:t>5</a:t>
            </a:r>
            <a:r>
              <a:rPr b="0" lang="zh-CN" sz="2400" spc="-1" strike="noStrike">
                <a:solidFill>
                  <a:srgbClr val="0c0c0c"/>
                </a:solidFill>
                <a:latin typeface="黑体"/>
              </a:rPr>
              <a:t>、（</a:t>
            </a:r>
            <a:r>
              <a:rPr b="0" lang="en-US" sz="2400" spc="-1" strike="noStrike">
                <a:solidFill>
                  <a:srgbClr val="0c0c0c"/>
                </a:solidFill>
                <a:latin typeface="黑体"/>
              </a:rPr>
              <a:t>HL</a:t>
            </a:r>
            <a:r>
              <a:rPr b="0" lang="zh-CN" sz="2400" spc="-1" strike="noStrike">
                <a:solidFill>
                  <a:srgbClr val="0c0c0c"/>
                </a:solidFill>
                <a:latin typeface="黑体"/>
              </a:rPr>
              <a:t>定理）如图：</a:t>
            </a:r>
            <a:r>
              <a:rPr b="0" lang="en-US" sz="2400" spc="-1" strike="noStrike">
                <a:solidFill>
                  <a:srgbClr val="0c0c0c"/>
                </a:solidFill>
                <a:latin typeface="黑体"/>
              </a:rPr>
              <a:t>R</a:t>
            </a:r>
            <a:r>
              <a:rPr b="0" lang="en-US" sz="2400" spc="-1" strike="noStrike">
                <a:solidFill>
                  <a:srgbClr val="0c0c0c"/>
                </a:solidFill>
                <a:latin typeface="宋体"/>
              </a:rPr>
              <a:t>t</a:t>
            </a:r>
            <a:r>
              <a:rPr b="0" lang="en-US" sz="2400" spc="-1" strike="noStrike">
                <a:solidFill>
                  <a:srgbClr val="0c0c0c"/>
                </a:solidFill>
                <a:latin typeface="黑体"/>
              </a:rPr>
              <a:t>△ABC</a:t>
            </a:r>
            <a:r>
              <a:rPr b="0" lang="zh-CN" sz="2400" spc="-1" strike="noStrike">
                <a:solidFill>
                  <a:srgbClr val="0c0c0c"/>
                </a:solidFill>
                <a:latin typeface="黑体"/>
              </a:rPr>
              <a:t>与</a:t>
            </a:r>
            <a:r>
              <a:rPr b="0" lang="en-US" sz="2400" spc="-1" strike="noStrike">
                <a:solidFill>
                  <a:srgbClr val="0c0c0c"/>
                </a:solidFill>
                <a:latin typeface="黑体"/>
              </a:rPr>
              <a:t>R</a:t>
            </a:r>
            <a:r>
              <a:rPr b="0" lang="en-US" sz="2400" spc="-1" strike="noStrike">
                <a:solidFill>
                  <a:srgbClr val="0c0c0c"/>
                </a:solidFill>
                <a:latin typeface="宋体"/>
              </a:rPr>
              <a:t>t</a:t>
            </a:r>
            <a:r>
              <a:rPr b="0" lang="en-US" sz="2400" spc="-1" strike="noStrike">
                <a:solidFill>
                  <a:srgbClr val="0c0c0c"/>
                </a:solidFill>
                <a:latin typeface="黑体"/>
              </a:rPr>
              <a:t>△DEF</a:t>
            </a:r>
            <a:r>
              <a:rPr b="0" lang="zh-CN" sz="2400" spc="-1" strike="noStrike">
                <a:solidFill>
                  <a:srgbClr val="0c0c0c"/>
                </a:solidFill>
                <a:latin typeface="黑体"/>
              </a:rPr>
              <a:t>中 </a:t>
            </a:r>
            <a:r>
              <a:rPr b="0" lang="en-US" sz="2400" spc="-1" strike="noStrike">
                <a:solidFill>
                  <a:srgbClr val="0c0c0c"/>
                </a:solidFill>
                <a:latin typeface="黑体"/>
              </a:rPr>
              <a:t>, ∠ A= ∠ D=90° </a:t>
            </a:r>
            <a:endParaRPr b="0" lang="en-US" sz="24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黑体"/>
              </a:rPr>
              <a:t>∵      </a:t>
            </a:r>
            <a:endParaRPr b="0" lang="en-US" sz="24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黑体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865080" y="2165400"/>
                <a:ext cx="3311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__________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________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__________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_________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81440" y="1517760"/>
            <a:ext cx="4464000" cy="1949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81080" y="418104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c0c"/>
                </a:solidFill>
                <a:latin typeface="Comic Sans MS"/>
              </a:rPr>
              <a:t>语言概述：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24000" y="24523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AB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52720" y="19476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EF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7080" y="19476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BC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1440" y="35319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HL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6160" y="3531960"/>
            <a:ext cx="60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∴ 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Rt </a:t>
            </a: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△ABC≌ </a:t>
            </a:r>
            <a:r>
              <a:rPr b="0" lang="en-US" sz="3200" spc="-1" strike="noStrike">
                <a:solidFill>
                  <a:srgbClr val="0c0c0c"/>
                </a:solidFill>
                <a:latin typeface="宋体"/>
              </a:rPr>
              <a:t>Rt </a:t>
            </a:r>
            <a:r>
              <a:rPr b="0" lang="en-US" sz="2800" spc="-1" strike="noStrike">
                <a:solidFill>
                  <a:srgbClr val="0c0c0c"/>
                </a:solidFill>
                <a:latin typeface="宋体"/>
              </a:rPr>
              <a:t>△DEF</a:t>
            </a:r>
            <a:r>
              <a:rPr b="0" lang="zh-CN" sz="2800" spc="-1" strike="noStrike">
                <a:solidFill>
                  <a:srgbClr val="0c0c0c"/>
                </a:solidFill>
                <a:latin typeface="宋体"/>
              </a:rPr>
              <a:t>（   ）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0720" y="4266720"/>
            <a:ext cx="66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Comic Sans MS"/>
              </a:rPr>
              <a:t>斜边及一条直角边对应相等的两个直角三角形全等。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08360" y="24523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d969"/>
                </a:solidFill>
                <a:latin typeface="宋体"/>
              </a:rPr>
              <a:t>DE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知识回顾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：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87280" y="1125360"/>
            <a:ext cx="55436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00"/>
                </a:solidFill>
                <a:uFillTx/>
                <a:latin typeface="Arial"/>
                <a:ea typeface="黑体"/>
                <a:hlinkClick r:id="rId2"/>
              </a:rPr>
              <a:t>一般三角形</a:t>
            </a:r>
            <a:r>
              <a:rPr b="0" lang="en-US" sz="3600" spc="-1" strike="noStrike" u="sng">
                <a:solidFill>
                  <a:srgbClr val="009900"/>
                </a:solidFill>
                <a:uFillTx/>
                <a:latin typeface="Arial"/>
                <a:ea typeface="黑体"/>
                <a:hlinkClick r:id="rId3"/>
              </a:rPr>
              <a:t> </a:t>
            </a:r>
            <a:r>
              <a:rPr b="0" lang="zh-CN" sz="3600" spc="-1" strike="noStrike" u="sng">
                <a:solidFill>
                  <a:srgbClr val="009900"/>
                </a:solidFill>
                <a:uFillTx/>
                <a:latin typeface="Arial"/>
                <a:ea typeface="黑体"/>
                <a:hlinkClick r:id="rId4"/>
              </a:rPr>
              <a:t>全等的条件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19280" y="184464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定义（重合）法；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249228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黑体"/>
                <a:ea typeface="黑体"/>
              </a:rPr>
              <a:t>2.SSS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7840" y="314172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黑体"/>
                <a:ea typeface="黑体"/>
              </a:rPr>
              <a:t>3.SAS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3789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黑体"/>
                <a:ea typeface="黑体"/>
              </a:rPr>
              <a:t>4.ASA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4437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黑体"/>
                <a:ea typeface="黑体"/>
              </a:rPr>
              <a:t>5.AAS.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157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直角三角形 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  <a:ea typeface="黑体"/>
              </a:rPr>
              <a:t>全等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黑体"/>
              </a:rPr>
              <a:t>特有</a:t>
            </a:r>
            <a:r>
              <a:rPr b="1" lang="zh-CN" sz="3600" spc="-1" strike="noStrike">
                <a:solidFill>
                  <a:srgbClr val="0c0c0c"/>
                </a:solidFill>
                <a:latin typeface="Arial"/>
                <a:ea typeface="黑体"/>
              </a:rPr>
              <a:t>的条件：</a:t>
            </a:r>
            <a:endParaRPr b="0" lang="en-US" sz="3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91280" y="508464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HL</a:t>
            </a:r>
            <a:r>
              <a:rPr b="1" lang="en-US" sz="4000" spc="-1" strike="noStrike">
                <a:solidFill>
                  <a:srgbClr val="0066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56000" y="189000"/>
            <a:ext cx="4608720" cy="936360"/>
          </a:xfrm>
          <a:prstGeom prst="wedgeRoundRectCallout">
            <a:avLst>
              <a:gd name="adj1" fmla="val -59439"/>
              <a:gd name="adj2" fmla="val 48268"/>
              <a:gd name="adj3" fmla="val 16667"/>
            </a:avLst>
          </a:prstGeom>
          <a:solidFill>
            <a:srgbClr val="005414"/>
          </a:solidFill>
          <a:ln w="93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包括直角三角形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03640" y="2925720"/>
            <a:ext cx="3600720" cy="1584360"/>
          </a:xfrm>
          <a:prstGeom prst="wedgeRoundRectCallout">
            <a:avLst>
              <a:gd name="adj1" fmla="val -58555"/>
              <a:gd name="adj2" fmla="val 84768"/>
              <a:gd name="adj3" fmla="val 16667"/>
            </a:avLst>
          </a:prstGeom>
          <a:solidFill>
            <a:srgbClr val="005414"/>
          </a:solidFill>
          <a:ln w="936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不包括其它形状的三角形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-96480" y="2462040"/>
            <a:ext cx="1715760" cy="2838600"/>
            <a:chOff x="-96480" y="2462040"/>
            <a:chExt cx="1715760" cy="2838600"/>
          </a:xfrm>
        </p:grpSpPr>
        <p:sp>
          <p:nvSpPr>
            <p:cNvPr id="216" name=""/>
            <p:cNvSpPr/>
            <p:nvPr/>
          </p:nvSpPr>
          <p:spPr>
            <a:xfrm>
              <a:off x="-96480" y="2462040"/>
              <a:ext cx="1642680" cy="28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c0c0c"/>
                  </a:solidFill>
                  <a:latin typeface="黑体"/>
                  <a:ea typeface="黑体"/>
                </a:rPr>
                <a:t>解题中常用的</a:t>
              </a:r>
              <a:r>
                <a:rPr b="1" lang="en-US" sz="3200" spc="-1" strike="noStrike">
                  <a:solidFill>
                    <a:srgbClr val="0c0c0c"/>
                  </a:solidFill>
                  <a:latin typeface="黑体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c0c0c"/>
                  </a:solidFill>
                  <a:latin typeface="黑体"/>
                  <a:ea typeface="黑体"/>
                </a:rPr>
                <a:t>种方法</a:t>
              </a:r>
              <a:endParaRPr b="0" lang="en-US" sz="32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74560" y="2923920"/>
              <a:ext cx="144720" cy="19447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50400 h 1944720"/>
                <a:gd name="textAreaBottom" fmla="*/ 18943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知识回顾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：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96720" y="909720"/>
            <a:ext cx="84250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边边边：</a:t>
            </a:r>
            <a:r>
              <a:rPr b="1" lang="zh-CN" sz="2400" spc="-1" strike="noStrike">
                <a:solidFill>
                  <a:srgbClr val="0c0c0c"/>
                </a:solidFill>
                <a:latin typeface="黑体"/>
                <a:ea typeface="黑体"/>
              </a:rPr>
              <a:t>三边对应相等的两个三角形全等（可简写成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“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SSS”</a:t>
            </a:r>
            <a:r>
              <a:rPr b="1" lang="en-US" sz="4000" spc="-1" strike="noStrike">
                <a:solidFill>
                  <a:srgbClr val="0c0c0c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边角边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c0c0c"/>
                </a:solidFill>
                <a:latin typeface="黑体"/>
                <a:ea typeface="黑体"/>
              </a:rPr>
              <a:t>两边</a:t>
            </a:r>
            <a:r>
              <a:rPr b="1" lang="zh-CN" sz="2800" spc="-1" strike="noStrike">
                <a:solidFill>
                  <a:srgbClr val="0c0c0c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0c0c0c"/>
                </a:solidFill>
                <a:latin typeface="黑体"/>
                <a:ea typeface="黑体"/>
              </a:rPr>
              <a:t>它们的夹角对应相等两个三角形全等（可简写成“</a:t>
            </a:r>
            <a:r>
              <a:rPr b="1" lang="en-US" sz="2400" spc="-1" strike="noStrike">
                <a:solidFill>
                  <a:srgbClr val="0c0c0c"/>
                </a:solidFill>
                <a:latin typeface="黑体"/>
                <a:ea typeface="黑体"/>
              </a:rPr>
              <a:t>SAS”)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角边角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c0c0c"/>
                </a:solidFill>
                <a:latin typeface="黑体"/>
                <a:ea typeface="黑体"/>
              </a:rPr>
              <a:t>两角和它们的夹边对应相等的两个三角形全等（可简写成“</a:t>
            </a:r>
            <a:r>
              <a:rPr b="1" lang="en-US" sz="2400" spc="-1" strike="noStrike">
                <a:solidFill>
                  <a:srgbClr val="0c0c0c"/>
                </a:solidFill>
                <a:latin typeface="黑体"/>
                <a:ea typeface="黑体"/>
              </a:rPr>
              <a:t>ASA”)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角角边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c0c0c"/>
                </a:solidFill>
                <a:latin typeface="黑体"/>
                <a:ea typeface="黑体"/>
              </a:rPr>
              <a:t>两角和其中一角的对边对应相等的两个三角形全等（可简写成“</a:t>
            </a:r>
            <a:r>
              <a:rPr b="1" lang="en-US" sz="2400" spc="-1" strike="noStrike">
                <a:solidFill>
                  <a:srgbClr val="0c0c0c"/>
                </a:solidFill>
                <a:latin typeface="黑体"/>
                <a:ea typeface="黑体"/>
              </a:rPr>
              <a:t>AAS”)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斜边</a:t>
            </a:r>
            <a:r>
              <a:rPr b="1" lang="en-US" sz="2400" spc="-1" strike="noStrike">
                <a:solidFill>
                  <a:srgbClr val="99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直角边：</a:t>
            </a:r>
            <a:r>
              <a:rPr b="1" lang="zh-CN" sz="2400" spc="-1" strike="noStrike">
                <a:solidFill>
                  <a:srgbClr val="0c0c0c"/>
                </a:solidFill>
                <a:latin typeface="黑体"/>
                <a:ea typeface="黑体"/>
              </a:rPr>
              <a:t>斜边和一条直角边对应相等的两个直角三角形全等（可简写成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“</a:t>
            </a:r>
            <a:r>
              <a:rPr b="1" lang="en-US" sz="2800" spc="-1" strike="noStrike">
                <a:solidFill>
                  <a:srgbClr val="0c0c0c"/>
                </a:solidFill>
                <a:latin typeface="黑体"/>
                <a:ea typeface="黑体"/>
              </a:rPr>
              <a:t>HL”)</a:t>
            </a:r>
            <a:endParaRPr b="0" lang="en-US" sz="2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6760" y="133200"/>
            <a:ext cx="73454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知识回顾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0:56:49Z</dcterms:created>
  <dc:creator/>
  <dc:description/>
  <dc:language>en-US</dc:language>
  <cp:lastModifiedBy>微软用户</cp:lastModifiedBy>
  <dcterms:modified xsi:type="dcterms:W3CDTF">2015-01-11T06:47:57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