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4D3-5B5A-466C-8352-1C35E69E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90E-3E90-4480-8565-AB9D7FB8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5BF-0E69-4CBC-B3BC-DF02CC02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826-4184-462B-8944-1AD05B44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276-0146-4BAD-B501-B064D574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7EE-E87C-4293-8398-21D586F4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6667-38DB-4CA5-BA79-E5911E85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EDF-D51A-40D7-BE14-471BD042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14C-DF6D-43F5-808C-325E22F6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E0E5-C39D-496F-A98F-D20747C6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B4A-7993-4496-A42B-8038EAF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AFC-DD95-4CD7-B00E-FAD223ED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C618-85E9-4B44-BE1A-0EA18F636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多彩</a:t>
            </a: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PPT</a:t>
            </a: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254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4ebc"/>
                </a:solidFill>
                <a:latin typeface="Calibri"/>
              </a:rPr>
              <a:t>Lorem ipsum dolor sit amet, consectetuer adipiscing elit. Vivamus et magna. Fusce sed sem sed magna suscipit egestas. Lorem ipsum dolor sit amet, consectetuer adipiscing elit. Vivamus et mag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4ebc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4ebc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08:19Z</dcterms:created>
  <dc:creator/>
  <dc:description/>
  <dc:language>en-US</dc:language>
  <cp:lastModifiedBy>Eric</cp:lastModifiedBy>
  <dcterms:modified xsi:type="dcterms:W3CDTF">2015-01-10T11:37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