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72D-8706-464D-ADFA-9F1A4AC8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075-3138-44B6-B2EB-48615E2F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E16-B488-4F9A-9CF3-8A499CD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605-FCCC-4157-8A6D-03E52A73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180-66B4-4F8C-8931-08E83D55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4D1D-BC82-4C64-89EE-ACBFAA7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BBA-ADEB-4247-88EC-7B6FF62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8EFE-82E5-4B8C-8723-4FE8C93E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66D0-8BB1-47F9-AE63-5AA06A38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96CD-36EF-4B8E-863F-5CE88BA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A53-18A9-4F2B-A6C6-BA3168D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CD5-19F5-4E5E-8719-2BE9964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C6F-9FCD-4CA4-96B3-3F556EE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1F20-4E45-4D71-A2CE-92772674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4A5-EC7E-4F77-A70F-90A8359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21D-1C2F-4039-BD84-BB6CBDAB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37B1-2CB2-4490-AC06-CEB45768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44B6-C8BE-402C-9438-ACD05792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FB69-F449-4604-AB25-1AA2EAA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4EE0-42CB-4F0D-BB9A-E98F818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892D-8AC3-40A1-92C1-DA29C93E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EC22-7353-48BD-B2AC-B915FAA9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0DA-AAAA-4EA7-82DB-C08BD258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4FDE-C428-46A3-96C4-1F95CD5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68D5-997E-4393-8239-C8F9A17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9715-E7E4-491E-8A3F-9727F3EA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50CE-0718-4D56-BF52-40465D2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FA39-004B-4FAF-B016-71656971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9E9B-9F13-45CE-83BB-F0DEAC6A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2FD2-E955-454F-8DF9-95F1CA1F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BAA8-8477-493A-84C3-518C0329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D58B-7441-4F13-B957-F255986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1BE8-7430-48FB-894E-F1B7EDD4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3E-A99B-4752-85FE-C92127A1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D143-7ED6-439E-856E-F0BC5B3F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B5F5-E4A3-4B92-B5DE-DA67DEEE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D6FD-3300-4CE2-BD8A-E0C50FE4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38DE-BD19-470E-9A60-5F995CA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9A72-858F-4623-A67C-9451E4F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3F0D-7439-44D8-896A-E5A3A1F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C4B5-73A9-4B15-9AFE-391584A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41E6-AAB8-4DDD-A2EC-126DDBEF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BE3A-C8AB-4588-B9AA-19594B5D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E95-DDA6-40B9-8D47-9A3CFBB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B24-C861-4697-B49F-9C3DFED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770-E471-4713-BCF2-FE561E6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040-5565-42A8-83C9-5D557CE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80C-2176-4681-9F9B-6A68916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360"/>
            <a:ext cx="9144000" cy="69519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Harlow Solid Italic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Harlow Solid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CFD-DB08-49F9-AF69-7BFADD36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349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195640" y="476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c7c9cf"/>
                </a:solidFill>
                <a:latin typeface="Arial"/>
                <a:ea typeface="微软雅黑"/>
              </a:rPr>
              <a:t>赛车总动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FF9F-622D-4158-BDB3-97A78A8B7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" y="1440"/>
            <a:ext cx="9169200" cy="689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DAFB-EF8C-4D72-A99C-6A06EF89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未标题-1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90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8E91-8B32-4D93-8A5D-68B46216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未标题-2" descr=""/>
          <p:cNvPicPr/>
          <p:nvPr/>
        </p:nvPicPr>
        <p:blipFill>
          <a:blip r:embed="rId2"/>
          <a:stretch/>
        </p:blipFill>
        <p:spPr>
          <a:xfrm>
            <a:off x="-31680" y="0"/>
            <a:ext cx="921204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48:48Z</dcterms:created>
  <dc:creator/>
  <dc:description/>
  <dc:language>en-US</dc:language>
  <cp:lastModifiedBy/>
  <dcterms:modified xsi:type="dcterms:W3CDTF">2015-01-10T08:27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