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8F7-378A-4A03-960F-E59A95A9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BE0-B2B5-4F50-8A48-2707E889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B32-467D-4013-B323-C1F1DB8A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225-4A75-4C62-87CE-9C82D730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3B85-9A48-4F69-93E3-8248F7DF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4B9B-3550-4226-8AC2-06FF352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7EF0-52E0-47B1-A075-26682FC4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E10F-AE1A-4DD4-BDBB-1CE5DBA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5E71-6400-4EE2-B6AD-8BC713F2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2DB-02E8-4982-BD68-AB05B33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AB1C-0688-42D9-A0B2-8BE7B11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461-8B3A-4109-B265-1F7F6CF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81D9-EEDE-481D-81CF-C65A183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A26C-8392-459B-8D6B-52BE19E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C8C2-A7A8-4783-BE4B-B0EB64C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B129-B820-45D2-BB4C-B90E5492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4B41-CDAF-42F8-94BD-1A8355B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A87-E479-4401-B2D9-5609750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B2D-06C6-4D74-8314-4A853519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6D3-BDA6-4F0F-907C-1DE6128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485-6F68-48A9-8FC0-CA5F739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FD4-086D-4F17-B443-077D28D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819-5C23-4F2C-BD91-70F9C436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EDF-3431-4351-808B-07404AB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5F21-4CE6-4ED6-A990-F91DAAB0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538-7E30-4AEC-B03F-FEE18C43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11560" y="-20520"/>
            <a:ext cx="900000" cy="68659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565360"/>
            <a:ext cx="6804000" cy="1434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《轩辕剑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55811"/>
          <a:stretch/>
        </p:blipFill>
        <p:spPr>
          <a:xfrm>
            <a:off x="-30240" y="-20520"/>
            <a:ext cx="4141800" cy="2585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17529"/>
          <a:stretch/>
        </p:blipFill>
        <p:spPr>
          <a:xfrm>
            <a:off x="5011560" y="3998880"/>
            <a:ext cx="4132440" cy="284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1080" y="6480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5440" y="692280"/>
            <a:ext cx="5616360" cy="82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员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文拓 —— 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剑痴 —— 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靖仇 —— 蒋劲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挞拔玉儿 —— 刘诗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孤宁珂 —— 唐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雪 —— 古力娜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烈 —— 林更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吕承志 —— 马天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烟 —— 叶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辅 —— 高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禄孤红 —— 黄瀛漩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氐人族女皇 —— 吕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杨素 —— 巴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挞跋月儿 —— 李呈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月仙人 —— 吴启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女娲娘娘 —— 米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杨广 —— 赵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员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品人： 林丽霞；孙莉萍；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人： 蔡艺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制： 胡歌；张丹；李伟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著： 大宇资讯股份有限公司；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O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演： 李国立；梁胜权；黄俊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导演（助理）： 郭虎；李亦翀；周丹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剧： 陈十三；邓力奇；黄浩然；梁礼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：关柏煊；史广柱；孙伟强；栗心超；蒋继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乐： 黄英华；郑嘉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辑： 王维；蒋光雄；谢嘉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角导演： 刘运强；王知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音导演： 张惠；王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术设计： 何剑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指导： 陈伟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造型设计： 陈顾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装设计：郭碧茵；张芳弟；方思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特效：许汉坚；冯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音： 声动录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记：成卫平；李静；周公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行： 张丹；朱静雅；陈颖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7:03:55Z</dcterms:created>
  <dc:creator>Administrator</dc:creator>
  <dc:description/>
  <dc:language>en-US</dc:language>
  <cp:lastModifiedBy/>
  <dcterms:modified xsi:type="dcterms:W3CDTF">2015-01-10T11:47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