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4880" y="306324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92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732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976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88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732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976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880" y="10224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25480" y="284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4880" y="10224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92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880" y="306324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92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732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9760" y="102240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488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732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9760" y="3063240"/>
            <a:ext cx="264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25480" y="284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920" y="306324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488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920" y="1022400"/>
            <a:ext cx="40158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4880" y="3063240"/>
            <a:ext cx="822960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5480" y="2844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0224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4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9640" y="3455640"/>
            <a:ext cx="52196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9640" y="3455640"/>
            <a:ext cx="52196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房地产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69640" y="4510080"/>
            <a:ext cx="521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199120" y="166536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3160" y="5346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68360" y="1655640"/>
            <a:ext cx="4638960" cy="478080"/>
            <a:chOff x="2268360" y="1655640"/>
            <a:chExt cx="4638960" cy="478080"/>
          </a:xfrm>
        </p:grpSpPr>
        <p:grpSp>
          <p:nvGrpSpPr>
            <p:cNvPr id="84" name=""/>
            <p:cNvGrpSpPr/>
            <p:nvPr/>
          </p:nvGrpSpPr>
          <p:grpSpPr>
            <a:xfrm>
              <a:off x="2268360" y="1655640"/>
              <a:ext cx="4638960" cy="478080"/>
              <a:chOff x="2268360" y="1655640"/>
              <a:chExt cx="4638960" cy="478080"/>
            </a:xfrm>
          </p:grpSpPr>
          <p:pic>
            <p:nvPicPr>
              <p:cNvPr id="8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65564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2356920" y="1705320"/>
                <a:ext cx="44686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268360" y="1679400"/>
              <a:ext cx="4638960" cy="397080"/>
              <a:chOff x="2268360" y="1679400"/>
              <a:chExt cx="4638960" cy="397080"/>
            </a:xfrm>
          </p:grpSpPr>
          <p:pic>
            <p:nvPicPr>
              <p:cNvPr id="8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1679400"/>
                <a:ext cx="4638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350080" y="1755720"/>
                <a:ext cx="448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268360" y="2382840"/>
            <a:ext cx="4638960" cy="477720"/>
            <a:chOff x="2268360" y="2382840"/>
            <a:chExt cx="4638960" cy="477720"/>
          </a:xfrm>
        </p:grpSpPr>
        <p:grpSp>
          <p:nvGrpSpPr>
            <p:cNvPr id="91" name=""/>
            <p:cNvGrpSpPr/>
            <p:nvPr/>
          </p:nvGrpSpPr>
          <p:grpSpPr>
            <a:xfrm>
              <a:off x="2268360" y="2382840"/>
              <a:ext cx="4638960" cy="477720"/>
              <a:chOff x="2268360" y="2382840"/>
              <a:chExt cx="4638960" cy="47772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23828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356920" y="243396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68360" y="2406600"/>
              <a:ext cx="4638960" cy="401400"/>
              <a:chOff x="2268360" y="2406600"/>
              <a:chExt cx="4638960" cy="401400"/>
            </a:xfrm>
          </p:grpSpPr>
          <p:pic>
            <p:nvPicPr>
              <p:cNvPr id="95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8360" y="24066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2350080" y="248400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268360" y="3111480"/>
            <a:ext cx="4638960" cy="476280"/>
            <a:chOff x="2268360" y="3111480"/>
            <a:chExt cx="4638960" cy="476280"/>
          </a:xfrm>
        </p:grpSpPr>
        <p:grpSp>
          <p:nvGrpSpPr>
            <p:cNvPr id="98" name=""/>
            <p:cNvGrpSpPr/>
            <p:nvPr/>
          </p:nvGrpSpPr>
          <p:grpSpPr>
            <a:xfrm>
              <a:off x="2268360" y="3111480"/>
              <a:ext cx="4638960" cy="476280"/>
              <a:chOff x="2268360" y="3111480"/>
              <a:chExt cx="4638960" cy="476280"/>
            </a:xfrm>
          </p:grpSpPr>
          <p:pic>
            <p:nvPicPr>
              <p:cNvPr id="99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311148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2356920" y="3164400"/>
                <a:ext cx="44690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68360" y="3134880"/>
              <a:ext cx="4638960" cy="396360"/>
              <a:chOff x="2268360" y="3134880"/>
              <a:chExt cx="4638960" cy="396360"/>
            </a:xfrm>
          </p:grpSpPr>
          <p:pic>
            <p:nvPicPr>
              <p:cNvPr id="102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8360" y="3134880"/>
                <a:ext cx="4638960" cy="3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2350080" y="3213720"/>
                <a:ext cx="448236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2268360" y="3838680"/>
            <a:ext cx="4638960" cy="477720"/>
            <a:chOff x="2268360" y="3838680"/>
            <a:chExt cx="4638960" cy="477720"/>
          </a:xfrm>
        </p:grpSpPr>
        <p:grpSp>
          <p:nvGrpSpPr>
            <p:cNvPr id="105" name=""/>
            <p:cNvGrpSpPr/>
            <p:nvPr/>
          </p:nvGrpSpPr>
          <p:grpSpPr>
            <a:xfrm>
              <a:off x="2268360" y="3838680"/>
              <a:ext cx="4638960" cy="477720"/>
              <a:chOff x="2268360" y="3838680"/>
              <a:chExt cx="4638960" cy="47772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8360" y="383868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356920" y="388872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68360" y="3862440"/>
              <a:ext cx="4638960" cy="396720"/>
              <a:chOff x="2268360" y="3862440"/>
              <a:chExt cx="4638960" cy="396720"/>
            </a:xfrm>
          </p:grpSpPr>
          <p:pic>
            <p:nvPicPr>
              <p:cNvPr id="109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68360" y="386244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350080" y="393912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97160" y="2379600"/>
            <a:ext cx="4638600" cy="478080"/>
            <a:chOff x="2297160" y="2379600"/>
            <a:chExt cx="4638600" cy="478080"/>
          </a:xfrm>
        </p:grpSpPr>
        <p:grpSp>
          <p:nvGrpSpPr>
            <p:cNvPr id="113" name=""/>
            <p:cNvGrpSpPr/>
            <p:nvPr/>
          </p:nvGrpSpPr>
          <p:grpSpPr>
            <a:xfrm>
              <a:off x="2297160" y="2379600"/>
              <a:ext cx="4638600" cy="478080"/>
              <a:chOff x="2297160" y="2379600"/>
              <a:chExt cx="4638600" cy="478080"/>
            </a:xfrm>
          </p:grpSpPr>
          <p:pic>
            <p:nvPicPr>
              <p:cNvPr id="114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97160" y="2379600"/>
                <a:ext cx="463860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2383920" y="2432520"/>
                <a:ext cx="4468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297160" y="2403000"/>
              <a:ext cx="4638600" cy="397800"/>
              <a:chOff x="2297160" y="2403000"/>
              <a:chExt cx="4638600" cy="397800"/>
            </a:xfrm>
          </p:grpSpPr>
          <p:pic>
            <p:nvPicPr>
              <p:cNvPr id="11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7160" y="2403000"/>
                <a:ext cx="4638600" cy="3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377080" y="2482200"/>
                <a:ext cx="448200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6836400" y="538488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001880" y="1860480"/>
            <a:ext cx="7037280" cy="2203560"/>
            <a:chOff x="1001880" y="1860480"/>
            <a:chExt cx="7037280" cy="2203560"/>
          </a:xfrm>
        </p:grpSpPr>
        <p:grpSp>
          <p:nvGrpSpPr>
            <p:cNvPr id="121" name=""/>
            <p:cNvGrpSpPr/>
            <p:nvPr/>
          </p:nvGrpSpPr>
          <p:grpSpPr>
            <a:xfrm>
              <a:off x="1001880" y="1860480"/>
              <a:ext cx="7037280" cy="2203560"/>
              <a:chOff x="1001880" y="1860480"/>
              <a:chExt cx="7037280" cy="22035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001880" y="1860480"/>
                <a:ext cx="7037280" cy="2203560"/>
                <a:chOff x="1001880" y="1860480"/>
                <a:chExt cx="7037280" cy="2203560"/>
              </a:xfrm>
            </p:grpSpPr>
            <p:pic>
              <p:nvPicPr>
                <p:cNvPr id="12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1880" y="1860480"/>
                  <a:ext cx="7037280" cy="220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1085040" y="1916640"/>
                  <a:ext cx="6877440" cy="20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007640" y="1969200"/>
                <a:ext cx="7025400" cy="1974240"/>
                <a:chOff x="1007640" y="1969200"/>
                <a:chExt cx="7025400" cy="197424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07640" y="1969200"/>
                  <a:ext cx="7025400" cy="19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1087200" y="2025000"/>
                  <a:ext cx="6872040" cy="18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 Box 11"/>
            <p:cNvSpPr/>
            <p:nvPr/>
          </p:nvSpPr>
          <p:spPr>
            <a:xfrm>
              <a:off x="1383120" y="2269080"/>
              <a:ext cx="632556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855960" y="2365200"/>
            <a:ext cx="1441440" cy="1432080"/>
            <a:chOff x="3855960" y="2365200"/>
            <a:chExt cx="1441440" cy="1432080"/>
          </a:xfrm>
        </p:grpSpPr>
        <p:grpSp>
          <p:nvGrpSpPr>
            <p:cNvPr id="131" name=""/>
            <p:cNvGrpSpPr/>
            <p:nvPr/>
          </p:nvGrpSpPr>
          <p:grpSpPr>
            <a:xfrm>
              <a:off x="3855960" y="2365200"/>
              <a:ext cx="1441440" cy="1432080"/>
              <a:chOff x="3855960" y="2365200"/>
              <a:chExt cx="1441440" cy="143208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855960" y="2365200"/>
                <a:ext cx="1441440" cy="1432080"/>
                <a:chOff x="3855960" y="2365200"/>
                <a:chExt cx="1441440" cy="1432080"/>
              </a:xfrm>
            </p:grpSpPr>
            <p:pic>
              <p:nvPicPr>
                <p:cNvPr id="133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55960" y="2365200"/>
                  <a:ext cx="1441440" cy="14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4109400" y="2595960"/>
                  <a:ext cx="937800" cy="92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906360" y="2409480"/>
                <a:ext cx="1262160" cy="1248480"/>
                <a:chOff x="3906360" y="2409480"/>
                <a:chExt cx="1262160" cy="1248480"/>
              </a:xfrm>
            </p:grpSpPr>
            <p:pic>
              <p:nvPicPr>
                <p:cNvPr id="136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06360" y="2409480"/>
                  <a:ext cx="1262160" cy="124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135680" y="2612520"/>
                  <a:ext cx="808200" cy="79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Text Box 18"/>
            <p:cNvSpPr/>
            <p:nvPr/>
          </p:nvSpPr>
          <p:spPr>
            <a:xfrm>
              <a:off x="3927600" y="2739240"/>
              <a:ext cx="114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30320" y="1438200"/>
            <a:ext cx="2666160" cy="1218600"/>
            <a:chOff x="1930320" y="1438200"/>
            <a:chExt cx="2666160" cy="1218600"/>
          </a:xfrm>
        </p:grpSpPr>
        <p:grpSp>
          <p:nvGrpSpPr>
            <p:cNvPr id="140" name=""/>
            <p:cNvGrpSpPr/>
            <p:nvPr/>
          </p:nvGrpSpPr>
          <p:grpSpPr>
            <a:xfrm>
              <a:off x="1930320" y="1438200"/>
              <a:ext cx="2666160" cy="1218600"/>
              <a:chOff x="1930320" y="1438200"/>
              <a:chExt cx="2666160" cy="12186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930320" y="1438200"/>
                <a:ext cx="2666160" cy="1218600"/>
                <a:chOff x="1930320" y="1438200"/>
                <a:chExt cx="2666160" cy="1218600"/>
              </a:xfrm>
            </p:grpSpPr>
            <p:sp>
              <p:nvSpPr>
                <p:cNvPr id="142" name="AutoShape 73"/>
                <p:cNvSpPr/>
                <p:nvPr/>
              </p:nvSpPr>
              <p:spPr>
                <a:xfrm rot="2700000">
                  <a:off x="3637800" y="1589400"/>
                  <a:ext cx="730440" cy="9475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圆角矩形 14"/>
                <p:cNvSpPr/>
                <p:nvPr/>
              </p:nvSpPr>
              <p:spPr>
                <a:xfrm>
                  <a:off x="1930320" y="1438200"/>
                  <a:ext cx="1760400" cy="666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375000" y="1438200"/>
                <a:ext cx="672840" cy="668160"/>
                <a:chOff x="3375000" y="1438200"/>
                <a:chExt cx="672840" cy="66816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375000" y="1438200"/>
                  <a:ext cx="672840" cy="668160"/>
                  <a:chOff x="3375000" y="1438200"/>
                  <a:chExt cx="672840" cy="668160"/>
                </a:xfrm>
              </p:grpSpPr>
              <p:pic>
                <p:nvPicPr>
                  <p:cNvPr id="146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5000" y="143820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"/>
                  <p:cNvSpPr/>
                  <p:nvPr/>
                </p:nvSpPr>
                <p:spPr>
                  <a:xfrm>
                    <a:off x="3512520" y="1555200"/>
                    <a:ext cx="40104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390120" y="1453320"/>
                  <a:ext cx="595800" cy="591840"/>
                  <a:chOff x="3390120" y="1453320"/>
                  <a:chExt cx="595800" cy="591840"/>
                </a:xfrm>
              </p:grpSpPr>
              <p:pic>
                <p:nvPicPr>
                  <p:cNvPr id="149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0120" y="1453320"/>
                    <a:ext cx="59580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"/>
                  <p:cNvSpPr/>
                  <p:nvPr/>
                </p:nvSpPr>
                <p:spPr>
                  <a:xfrm>
                    <a:off x="3518640" y="1559520"/>
                    <a:ext cx="342720" cy="33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Text Box 18"/>
            <p:cNvSpPr/>
            <p:nvPr/>
          </p:nvSpPr>
          <p:spPr>
            <a:xfrm>
              <a:off x="1947960" y="1622520"/>
              <a:ext cx="14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6"/>
            <p:cNvSpPr/>
            <p:nvPr/>
          </p:nvSpPr>
          <p:spPr>
            <a:xfrm>
              <a:off x="3497400" y="1615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28520" y="1442880"/>
            <a:ext cx="2569320" cy="1297800"/>
            <a:chOff x="4628520" y="1442880"/>
            <a:chExt cx="2569320" cy="1297800"/>
          </a:xfrm>
        </p:grpSpPr>
        <p:grpSp>
          <p:nvGrpSpPr>
            <p:cNvPr id="154" name=""/>
            <p:cNvGrpSpPr/>
            <p:nvPr/>
          </p:nvGrpSpPr>
          <p:grpSpPr>
            <a:xfrm>
              <a:off x="4628520" y="1442880"/>
              <a:ext cx="2569320" cy="1297800"/>
              <a:chOff x="4628520" y="1442880"/>
              <a:chExt cx="2569320" cy="12978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628520" y="1442880"/>
                <a:ext cx="2569320" cy="1297800"/>
                <a:chOff x="4628520" y="1442880"/>
                <a:chExt cx="2569320" cy="129780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4628520" y="1442880"/>
                  <a:ext cx="2569320" cy="1297800"/>
                  <a:chOff x="4628520" y="1442880"/>
                  <a:chExt cx="2569320" cy="1297800"/>
                </a:xfrm>
              </p:grpSpPr>
              <p:sp>
                <p:nvSpPr>
                  <p:cNvPr id="157" name="AutoShape 67"/>
                  <p:cNvSpPr/>
                  <p:nvPr/>
                </p:nvSpPr>
                <p:spPr>
                  <a:xfrm flipH="1" rot="18900000">
                    <a:off x="4830120" y="1681200"/>
                    <a:ext cx="807480" cy="9068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圆角矩形 54"/>
                  <p:cNvSpPr/>
                  <p:nvPr/>
                </p:nvSpPr>
                <p:spPr>
                  <a:xfrm>
                    <a:off x="5511960" y="1442880"/>
                    <a:ext cx="1685880" cy="7372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82480" y="1442880"/>
                  <a:ext cx="672480" cy="667800"/>
                  <a:chOff x="5082480" y="1442880"/>
                  <a:chExt cx="672480" cy="6678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082480" y="1442880"/>
                    <a:ext cx="672480" cy="667800"/>
                    <a:chOff x="5082480" y="1442880"/>
                    <a:chExt cx="672480" cy="667800"/>
                  </a:xfrm>
                </p:grpSpPr>
                <p:pic>
                  <p:nvPicPr>
                    <p:cNvPr id="161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82480" y="1442880"/>
                      <a:ext cx="67248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220720" y="1558800"/>
                      <a:ext cx="400320" cy="39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5097600" y="1458000"/>
                    <a:ext cx="595440" cy="591480"/>
                    <a:chOff x="5097600" y="1458000"/>
                    <a:chExt cx="595440" cy="591480"/>
                  </a:xfrm>
                </p:grpSpPr>
                <p:pic>
                  <p:nvPicPr>
                    <p:cNvPr id="164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97600" y="1458000"/>
                      <a:ext cx="595440" cy="59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225760" y="1562760"/>
                      <a:ext cx="34308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6" name="Rectangle 26"/>
              <p:cNvSpPr/>
              <p:nvPr/>
            </p:nvSpPr>
            <p:spPr>
              <a:xfrm>
                <a:off x="5215320" y="1620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8"/>
            <p:cNvSpPr/>
            <p:nvPr/>
          </p:nvSpPr>
          <p:spPr>
            <a:xfrm>
              <a:off x="5740560" y="162720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40240" y="2546280"/>
            <a:ext cx="2527560" cy="941400"/>
            <a:chOff x="5340240" y="2546280"/>
            <a:chExt cx="2527560" cy="941400"/>
          </a:xfrm>
        </p:grpSpPr>
        <p:grpSp>
          <p:nvGrpSpPr>
            <p:cNvPr id="169" name=""/>
            <p:cNvGrpSpPr/>
            <p:nvPr/>
          </p:nvGrpSpPr>
          <p:grpSpPr>
            <a:xfrm>
              <a:off x="5340240" y="2546280"/>
              <a:ext cx="2527560" cy="941400"/>
              <a:chOff x="5340240" y="2546280"/>
              <a:chExt cx="2527560" cy="9414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5340240" y="2546280"/>
                <a:ext cx="2527560" cy="941400"/>
                <a:chOff x="5340240" y="2546280"/>
                <a:chExt cx="2527560" cy="94140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5340240" y="2546280"/>
                  <a:ext cx="2527560" cy="941400"/>
                  <a:chOff x="5340240" y="2546280"/>
                  <a:chExt cx="2527560" cy="941400"/>
                </a:xfrm>
              </p:grpSpPr>
              <p:sp>
                <p:nvSpPr>
                  <p:cNvPr id="172" name="AutoShape 49"/>
                  <p:cNvSpPr/>
                  <p:nvPr/>
                </p:nvSpPr>
                <p:spPr>
                  <a:xfrm flipH="1">
                    <a:off x="5340240" y="2546280"/>
                    <a:ext cx="736560" cy="9414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圆角矩形 47"/>
                  <p:cNvSpPr/>
                  <p:nvPr/>
                </p:nvSpPr>
                <p:spPr>
                  <a:xfrm>
                    <a:off x="6107040" y="2680920"/>
                    <a:ext cx="1760760" cy="6717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5761440" y="2682720"/>
                  <a:ext cx="672840" cy="668160"/>
                  <a:chOff x="5761440" y="2682720"/>
                  <a:chExt cx="672840" cy="66816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761440" y="2682720"/>
                    <a:ext cx="672840" cy="668160"/>
                    <a:chOff x="5761440" y="2682720"/>
                    <a:chExt cx="672840" cy="668160"/>
                  </a:xfrm>
                </p:grpSpPr>
                <p:pic>
                  <p:nvPicPr>
                    <p:cNvPr id="176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61440" y="2682720"/>
                      <a:ext cx="672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00400" y="2799720"/>
                      <a:ext cx="397800" cy="392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5781600" y="2697840"/>
                    <a:ext cx="586440" cy="587160"/>
                    <a:chOff x="5781600" y="2697840"/>
                    <a:chExt cx="586440" cy="587160"/>
                  </a:xfrm>
                </p:grpSpPr>
                <p:pic>
                  <p:nvPicPr>
                    <p:cNvPr id="179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1600" y="2697840"/>
                      <a:ext cx="586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5906520" y="2803680"/>
                      <a:ext cx="34020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1" name="Rectangle 26"/>
              <p:cNvSpPr/>
              <p:nvPr/>
            </p:nvSpPr>
            <p:spPr>
              <a:xfrm>
                <a:off x="5883840" y="2849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8"/>
            <p:cNvSpPr/>
            <p:nvPr/>
          </p:nvSpPr>
          <p:spPr>
            <a:xfrm>
              <a:off x="6382800" y="28674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71520" y="2546280"/>
            <a:ext cx="2538360" cy="941400"/>
            <a:chOff x="1271520" y="2546280"/>
            <a:chExt cx="2538360" cy="941400"/>
          </a:xfrm>
        </p:grpSpPr>
        <p:grpSp>
          <p:nvGrpSpPr>
            <p:cNvPr id="184" name=""/>
            <p:cNvGrpSpPr/>
            <p:nvPr/>
          </p:nvGrpSpPr>
          <p:grpSpPr>
            <a:xfrm>
              <a:off x="1271520" y="2546280"/>
              <a:ext cx="2538360" cy="941400"/>
              <a:chOff x="1271520" y="2546280"/>
              <a:chExt cx="2538360" cy="94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271520" y="2546280"/>
                <a:ext cx="2538360" cy="941400"/>
                <a:chOff x="1271520" y="2546280"/>
                <a:chExt cx="2538360" cy="941400"/>
              </a:xfrm>
            </p:grpSpPr>
            <p:sp>
              <p:nvSpPr>
                <p:cNvPr id="186" name="AutoShape 71"/>
                <p:cNvSpPr/>
                <p:nvPr/>
              </p:nvSpPr>
              <p:spPr>
                <a:xfrm>
                  <a:off x="3073320" y="2546280"/>
                  <a:ext cx="736560" cy="9414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圆角矩形 21"/>
                <p:cNvSpPr/>
                <p:nvPr/>
              </p:nvSpPr>
              <p:spPr>
                <a:xfrm>
                  <a:off x="1271520" y="2680920"/>
                  <a:ext cx="1760400" cy="6717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716560" y="2682720"/>
                <a:ext cx="672840" cy="668160"/>
                <a:chOff x="2716560" y="2682720"/>
                <a:chExt cx="672840" cy="6681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2716560" y="2682720"/>
                  <a:ext cx="672840" cy="668160"/>
                  <a:chOff x="2716560" y="2682720"/>
                  <a:chExt cx="672840" cy="668160"/>
                </a:xfrm>
              </p:grpSpPr>
              <p:pic>
                <p:nvPicPr>
                  <p:cNvPr id="190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6560" y="268272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2854080" y="2799720"/>
                    <a:ext cx="401040" cy="39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2731680" y="2702880"/>
                  <a:ext cx="595800" cy="582120"/>
                  <a:chOff x="2731680" y="2702880"/>
                  <a:chExt cx="595800" cy="582120"/>
                </a:xfrm>
              </p:grpSpPr>
              <p:pic>
                <p:nvPicPr>
                  <p:cNvPr id="193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31680" y="2702880"/>
                    <a:ext cx="595800" cy="5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2860200" y="2803680"/>
                    <a:ext cx="34272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5" name="Text Box 18"/>
            <p:cNvSpPr/>
            <p:nvPr/>
          </p:nvSpPr>
          <p:spPr>
            <a:xfrm>
              <a:off x="1319400" y="2867400"/>
              <a:ext cx="145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2838960" y="2849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901880" y="3506400"/>
            <a:ext cx="2693520" cy="1202040"/>
            <a:chOff x="1901880" y="3506400"/>
            <a:chExt cx="2693520" cy="1202040"/>
          </a:xfrm>
        </p:grpSpPr>
        <p:grpSp>
          <p:nvGrpSpPr>
            <p:cNvPr id="198" name=""/>
            <p:cNvGrpSpPr/>
            <p:nvPr/>
          </p:nvGrpSpPr>
          <p:grpSpPr>
            <a:xfrm>
              <a:off x="1930680" y="3506400"/>
              <a:ext cx="2664720" cy="1202040"/>
              <a:chOff x="1930680" y="3506400"/>
              <a:chExt cx="2664720" cy="12020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30680" y="3506400"/>
                <a:ext cx="2664720" cy="1202040"/>
                <a:chOff x="1930680" y="3506400"/>
                <a:chExt cx="2664720" cy="1202040"/>
              </a:xfrm>
            </p:grpSpPr>
            <p:sp>
              <p:nvSpPr>
                <p:cNvPr id="200" name="AutoShape 75"/>
                <p:cNvSpPr/>
                <p:nvPr/>
              </p:nvSpPr>
              <p:spPr>
                <a:xfrm rot="18900000">
                  <a:off x="3629160" y="3627000"/>
                  <a:ext cx="736560" cy="9543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圆角矩形 31"/>
                <p:cNvSpPr/>
                <p:nvPr/>
              </p:nvSpPr>
              <p:spPr>
                <a:xfrm>
                  <a:off x="1930680" y="4041720"/>
                  <a:ext cx="1760400" cy="666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374640" y="4041360"/>
                <a:ext cx="672480" cy="667080"/>
                <a:chOff x="3374640" y="4041360"/>
                <a:chExt cx="672480" cy="66708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3374640" y="4041360"/>
                  <a:ext cx="672480" cy="667080"/>
                  <a:chOff x="3374640" y="4041360"/>
                  <a:chExt cx="672480" cy="667080"/>
                </a:xfrm>
              </p:grpSpPr>
              <p:pic>
                <p:nvPicPr>
                  <p:cNvPr id="204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74640" y="4041360"/>
                    <a:ext cx="6724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" name=""/>
                  <p:cNvSpPr/>
                  <p:nvPr/>
                </p:nvSpPr>
                <p:spPr>
                  <a:xfrm>
                    <a:off x="3511800" y="4158360"/>
                    <a:ext cx="400320" cy="39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389760" y="4061520"/>
                  <a:ext cx="595440" cy="585720"/>
                  <a:chOff x="3389760" y="4061520"/>
                  <a:chExt cx="595440" cy="585720"/>
                </a:xfrm>
              </p:grpSpPr>
              <p:pic>
                <p:nvPicPr>
                  <p:cNvPr id="207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89760" y="4061520"/>
                    <a:ext cx="595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"/>
                  <p:cNvSpPr/>
                  <p:nvPr/>
                </p:nvSpPr>
                <p:spPr>
                  <a:xfrm>
                    <a:off x="3517200" y="4162680"/>
                    <a:ext cx="34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Text Box 18"/>
            <p:cNvSpPr/>
            <p:nvPr/>
          </p:nvSpPr>
          <p:spPr>
            <a:xfrm>
              <a:off x="1901880" y="4225320"/>
              <a:ext cx="144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6"/>
            <p:cNvSpPr/>
            <p:nvPr/>
          </p:nvSpPr>
          <p:spPr>
            <a:xfrm>
              <a:off x="3497400" y="42080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487040" y="3570480"/>
            <a:ext cx="2710800" cy="1144080"/>
            <a:chOff x="4487040" y="3570480"/>
            <a:chExt cx="2710800" cy="1144080"/>
          </a:xfrm>
        </p:grpSpPr>
        <p:grpSp>
          <p:nvGrpSpPr>
            <p:cNvPr id="212" name=""/>
            <p:cNvGrpSpPr/>
            <p:nvPr/>
          </p:nvGrpSpPr>
          <p:grpSpPr>
            <a:xfrm>
              <a:off x="4487040" y="3570480"/>
              <a:ext cx="2710800" cy="1144080"/>
              <a:chOff x="4487040" y="3570480"/>
              <a:chExt cx="2710800" cy="11440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487040" y="3570480"/>
                <a:ext cx="2710800" cy="1144080"/>
                <a:chOff x="4487040" y="3570480"/>
                <a:chExt cx="2710800" cy="114408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487040" y="3570480"/>
                  <a:ext cx="2710800" cy="1144080"/>
                  <a:chOff x="4487040" y="3570480"/>
                  <a:chExt cx="2710800" cy="1144080"/>
                </a:xfrm>
              </p:grpSpPr>
              <p:sp>
                <p:nvSpPr>
                  <p:cNvPr id="215" name="AutoShape 69"/>
                  <p:cNvSpPr/>
                  <p:nvPr/>
                </p:nvSpPr>
                <p:spPr>
                  <a:xfrm flipH="1" rot="2700000">
                    <a:off x="4674240" y="3717720"/>
                    <a:ext cx="768600" cy="84960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圆角矩形 38"/>
                  <p:cNvSpPr/>
                  <p:nvPr/>
                </p:nvSpPr>
                <p:spPr>
                  <a:xfrm>
                    <a:off x="5362560" y="4086360"/>
                    <a:ext cx="1835280" cy="6030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5083200" y="4022280"/>
                  <a:ext cx="672120" cy="667080"/>
                  <a:chOff x="5083200" y="4022280"/>
                  <a:chExt cx="672120" cy="6670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5083200" y="4022280"/>
                    <a:ext cx="672120" cy="667080"/>
                    <a:chOff x="5083200" y="4022280"/>
                    <a:chExt cx="672120" cy="667080"/>
                  </a:xfrm>
                </p:grpSpPr>
                <p:pic>
                  <p:nvPicPr>
                    <p:cNvPr id="219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83200" y="4022280"/>
                      <a:ext cx="6721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221440" y="4138560"/>
                      <a:ext cx="400320" cy="39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098320" y="4037400"/>
                    <a:ext cx="595440" cy="590760"/>
                    <a:chOff x="5098320" y="4037400"/>
                    <a:chExt cx="595440" cy="590760"/>
                  </a:xfrm>
                </p:grpSpPr>
                <p:pic>
                  <p:nvPicPr>
                    <p:cNvPr id="222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98320" y="4037400"/>
                      <a:ext cx="595440" cy="5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227560" y="4142160"/>
                      <a:ext cx="34200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4" name="Rectangle 26"/>
              <p:cNvSpPr/>
              <p:nvPr/>
            </p:nvSpPr>
            <p:spPr>
              <a:xfrm>
                <a:off x="5205240" y="4188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18"/>
            <p:cNvSpPr/>
            <p:nvPr/>
          </p:nvSpPr>
          <p:spPr>
            <a:xfrm>
              <a:off x="5645880" y="420660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979560" y="1185840"/>
            <a:ext cx="7408800" cy="3800520"/>
            <a:chOff x="979560" y="1185840"/>
            <a:chExt cx="7408800" cy="3800520"/>
          </a:xfrm>
        </p:grpSpPr>
        <p:grpSp>
          <p:nvGrpSpPr>
            <p:cNvPr id="228" name=""/>
            <p:cNvGrpSpPr/>
            <p:nvPr/>
          </p:nvGrpSpPr>
          <p:grpSpPr>
            <a:xfrm>
              <a:off x="979560" y="1491840"/>
              <a:ext cx="7408800" cy="3494520"/>
              <a:chOff x="979560" y="1491840"/>
              <a:chExt cx="7408800" cy="349452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979560" y="1491840"/>
                <a:ext cx="7408800" cy="3494520"/>
                <a:chOff x="979560" y="1491840"/>
                <a:chExt cx="7408800" cy="3494520"/>
              </a:xfrm>
            </p:grpSpPr>
            <p:sp>
              <p:nvSpPr>
                <p:cNvPr id="230" name="AutoShape 5"/>
                <p:cNvSpPr/>
                <p:nvPr/>
              </p:nvSpPr>
              <p:spPr>
                <a:xfrm>
                  <a:off x="979560" y="1491840"/>
                  <a:ext cx="7408800" cy="3494520"/>
                </a:xfrm>
                <a:prstGeom prst="roundRect">
                  <a:avLst>
                    <a:gd name="adj" fmla="val 3231"/>
                  </a:avLst>
                </a:prstGeom>
                <a:noFill/>
                <a:ln w="25560">
                  <a:solidFill>
                    <a:srgbClr val="26262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"/>
                <p:cNvSpPr/>
                <p:nvPr/>
              </p:nvSpPr>
              <p:spPr>
                <a:xfrm>
                  <a:off x="1101240" y="1596600"/>
                  <a:ext cx="7165440" cy="3285000"/>
                </a:xfrm>
                <a:prstGeom prst="roundRect">
                  <a:avLst>
                    <a:gd name="adj" fmla="val 3486"/>
                  </a:avLst>
                </a:prstGeom>
                <a:solidFill>
                  <a:srgbClr val="ffffff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406160" y="2072880"/>
                <a:ext cx="6475680" cy="2644200"/>
                <a:chOff x="1406160" y="2072880"/>
                <a:chExt cx="6475680" cy="2644200"/>
              </a:xfrm>
            </p:grpSpPr>
            <p:sp>
              <p:nvSpPr>
                <p:cNvPr id="233" name="Line 11"/>
                <p:cNvSpPr/>
                <p:nvPr/>
              </p:nvSpPr>
              <p:spPr>
                <a:xfrm>
                  <a:off x="301392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2"/>
                <p:cNvSpPr/>
                <p:nvPr/>
              </p:nvSpPr>
              <p:spPr>
                <a:xfrm>
                  <a:off x="467496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3"/>
                <p:cNvSpPr/>
                <p:nvPr/>
              </p:nvSpPr>
              <p:spPr>
                <a:xfrm>
                  <a:off x="6324840" y="2464920"/>
                  <a:ext cx="288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56"/>
                <p:cNvSpPr/>
                <p:nvPr/>
              </p:nvSpPr>
              <p:spPr>
                <a:xfrm>
                  <a:off x="189864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7"/>
                <p:cNvSpPr/>
                <p:nvPr/>
              </p:nvSpPr>
              <p:spPr>
                <a:xfrm>
                  <a:off x="355788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8"/>
                <p:cNvSpPr/>
                <p:nvPr/>
              </p:nvSpPr>
              <p:spPr>
                <a:xfrm>
                  <a:off x="52200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59"/>
                <p:cNvSpPr/>
                <p:nvPr/>
              </p:nvSpPr>
              <p:spPr>
                <a:xfrm>
                  <a:off x="68886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AutoShape 25"/>
                <p:cNvSpPr/>
                <p:nvPr/>
              </p:nvSpPr>
              <p:spPr>
                <a:xfrm>
                  <a:off x="1707840" y="4251240"/>
                  <a:ext cx="479160" cy="12060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6"/>
                <p:cNvSpPr/>
                <p:nvPr/>
              </p:nvSpPr>
              <p:spPr>
                <a:xfrm>
                  <a:off x="3362040" y="3976560"/>
                  <a:ext cx="476280" cy="39528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7"/>
                <p:cNvSpPr/>
                <p:nvPr/>
              </p:nvSpPr>
              <p:spPr>
                <a:xfrm>
                  <a:off x="5022720" y="3589200"/>
                  <a:ext cx="479160" cy="78264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28"/>
                <p:cNvSpPr/>
                <p:nvPr/>
              </p:nvSpPr>
              <p:spPr>
                <a:xfrm>
                  <a:off x="6674040" y="3473280"/>
                  <a:ext cx="477720" cy="89856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29"/>
                <p:cNvSpPr/>
                <p:nvPr/>
              </p:nvSpPr>
              <p:spPr>
                <a:xfrm>
                  <a:off x="2187360" y="3395880"/>
                  <a:ext cx="465840" cy="97488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30"/>
                <p:cNvSpPr/>
                <p:nvPr/>
              </p:nvSpPr>
              <p:spPr>
                <a:xfrm>
                  <a:off x="3837600" y="3549600"/>
                  <a:ext cx="479160" cy="82116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31"/>
                <p:cNvSpPr/>
                <p:nvPr/>
              </p:nvSpPr>
              <p:spPr>
                <a:xfrm>
                  <a:off x="5511240" y="3077640"/>
                  <a:ext cx="465840" cy="129312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32"/>
                <p:cNvSpPr/>
                <p:nvPr/>
              </p:nvSpPr>
              <p:spPr>
                <a:xfrm>
                  <a:off x="7151760" y="3312720"/>
                  <a:ext cx="468720" cy="105804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56"/>
                <p:cNvSpPr/>
                <p:nvPr/>
              </p:nvSpPr>
              <p:spPr>
                <a:xfrm>
                  <a:off x="2230560" y="31348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56"/>
                <p:cNvSpPr/>
                <p:nvPr/>
              </p:nvSpPr>
              <p:spPr>
                <a:xfrm>
                  <a:off x="1762200" y="3992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56"/>
                <p:cNvSpPr/>
                <p:nvPr/>
              </p:nvSpPr>
              <p:spPr>
                <a:xfrm>
                  <a:off x="3673440" y="3274560"/>
                  <a:ext cx="7999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56"/>
                <p:cNvSpPr/>
                <p:nvPr/>
              </p:nvSpPr>
              <p:spPr>
                <a:xfrm>
                  <a:off x="3409920" y="3709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56"/>
                <p:cNvSpPr/>
                <p:nvPr/>
              </p:nvSpPr>
              <p:spPr>
                <a:xfrm>
                  <a:off x="5387760" y="2782440"/>
                  <a:ext cx="7236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56"/>
                <p:cNvSpPr/>
                <p:nvPr/>
              </p:nvSpPr>
              <p:spPr>
                <a:xfrm>
                  <a:off x="5056560" y="3325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56"/>
                <p:cNvSpPr/>
                <p:nvPr/>
              </p:nvSpPr>
              <p:spPr>
                <a:xfrm>
                  <a:off x="7121520" y="3063600"/>
                  <a:ext cx="62388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56"/>
                <p:cNvSpPr/>
                <p:nvPr/>
              </p:nvSpPr>
              <p:spPr>
                <a:xfrm>
                  <a:off x="6715440" y="32079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8"/>
                <p:cNvSpPr/>
                <p:nvPr/>
              </p:nvSpPr>
              <p:spPr>
                <a:xfrm>
                  <a:off x="1415160" y="2072880"/>
                  <a:ext cx="0" cy="229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1406160" y="4366440"/>
                  <a:ext cx="6475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657440" y="1185840"/>
              <a:ext cx="6100920" cy="534240"/>
              <a:chOff x="1657440" y="1185840"/>
              <a:chExt cx="6100920" cy="5342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657440" y="1185840"/>
                <a:ext cx="6100920" cy="534240"/>
                <a:chOff x="1657440" y="1185840"/>
                <a:chExt cx="6100920" cy="53424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57440" y="1185840"/>
                  <a:ext cx="6100920" cy="534240"/>
                  <a:chOff x="1657440" y="1185840"/>
                  <a:chExt cx="6100920" cy="534240"/>
                </a:xfrm>
              </p:grpSpPr>
              <p:pic>
                <p:nvPicPr>
                  <p:cNvPr id="261" name="AutoShape 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57440" y="1185840"/>
                    <a:ext cx="6100920" cy="5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"/>
                  <p:cNvSpPr/>
                  <p:nvPr/>
                </p:nvSpPr>
                <p:spPr>
                  <a:xfrm>
                    <a:off x="1747800" y="1238760"/>
                    <a:ext cx="5923440" cy="38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57440" y="1249560"/>
                  <a:ext cx="6095160" cy="406800"/>
                  <a:chOff x="1657440" y="1249560"/>
                  <a:chExt cx="6095160" cy="406800"/>
                </a:xfrm>
              </p:grpSpPr>
              <p:pic>
                <p:nvPicPr>
                  <p:cNvPr id="264" name="AutoShap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249560"/>
                    <a:ext cx="609516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5" name=""/>
                  <p:cNvSpPr/>
                  <p:nvPr/>
                </p:nvSpPr>
                <p:spPr>
                  <a:xfrm>
                    <a:off x="1740240" y="1297440"/>
                    <a:ext cx="5936760" cy="27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6" name="Rectangle 13"/>
              <p:cNvSpPr/>
              <p:nvPr/>
            </p:nvSpPr>
            <p:spPr>
              <a:xfrm>
                <a:off x="4206240" y="12639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36400" y="5346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7" descr="C:\Documents and Settings\Administrator\My Documents\My Pictures\2009219211523391_2.jpg"/>
          <p:cNvPicPr/>
          <p:nvPr/>
        </p:nvPicPr>
        <p:blipFill>
          <a:blip r:embed="rId1"/>
          <a:stretch/>
        </p:blipFill>
        <p:spPr>
          <a:xfrm>
            <a:off x="363600" y="1241280"/>
            <a:ext cx="5430600" cy="40608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892840" y="1536840"/>
            <a:ext cx="2413080" cy="2997000"/>
            <a:chOff x="5892840" y="1536840"/>
            <a:chExt cx="2413080" cy="2997000"/>
          </a:xfrm>
        </p:grpSpPr>
        <p:grpSp>
          <p:nvGrpSpPr>
            <p:cNvPr id="271" name=""/>
            <p:cNvGrpSpPr/>
            <p:nvPr/>
          </p:nvGrpSpPr>
          <p:grpSpPr>
            <a:xfrm>
              <a:off x="5892840" y="1536840"/>
              <a:ext cx="2413080" cy="2997000"/>
              <a:chOff x="5892840" y="1536840"/>
              <a:chExt cx="2413080" cy="29970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5892840" y="1536840"/>
                <a:ext cx="2413080" cy="2997000"/>
                <a:chOff x="5892840" y="1536840"/>
                <a:chExt cx="2413080" cy="2997000"/>
              </a:xfrm>
            </p:grpSpPr>
            <p:pic>
              <p:nvPicPr>
                <p:cNvPr id="273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92840" y="1536840"/>
                  <a:ext cx="2413080" cy="299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5970960" y="1594440"/>
                  <a:ext cx="2257920" cy="283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892840" y="1600920"/>
                <a:ext cx="2407320" cy="2863080"/>
                <a:chOff x="5892840" y="1600920"/>
                <a:chExt cx="2407320" cy="2863080"/>
              </a:xfrm>
            </p:grpSpPr>
            <p:pic>
              <p:nvPicPr>
                <p:cNvPr id="276" name="AutoShap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2840" y="1600920"/>
                  <a:ext cx="2407320" cy="286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>
                  <a:off x="5973480" y="1657080"/>
                  <a:ext cx="2252520" cy="26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Text Box 11"/>
            <p:cNvSpPr/>
            <p:nvPr/>
          </p:nvSpPr>
          <p:spPr>
            <a:xfrm>
              <a:off x="6062400" y="1889280"/>
              <a:ext cx="20908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595440" y="3875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/>
  <dc:description/>
  <dc:language>en-US</dc:language>
  <cp:lastModifiedBy>chenkui</cp:lastModifiedBy>
  <dcterms:modified xsi:type="dcterms:W3CDTF">2015-01-10T07:26:1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