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D2F-F8C7-41A5-8797-DAF789FF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2EF-A19A-462C-A795-2F08A8E5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187280" y="85320"/>
            <a:ext cx="7375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13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94144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FE9A-6D1C-4B58-8D09-819209F3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389F-5AD7-4A3D-85F6-5022F8A2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87280" y="85320"/>
            <a:ext cx="7375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490-55DC-4CC3-A7AE-DCDBAFE2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2D22-F75E-4529-B6C9-7B9C2811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87280" y="85320"/>
            <a:ext cx="7375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BADF-064C-4BE0-BB58-3FA74301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58EA-E2BA-4EA0-B405-390B6B21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777E-B1D0-4634-84B4-FC50B0C4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30F8-77BE-4D2F-AE03-E27EB0EE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5545-370A-4118-900E-CA197290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6CED-4F39-4792-A91A-2C019E97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187280" y="85320"/>
            <a:ext cx="7375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4A92-705D-4A75-ACED-70DEE54A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83E2-C1AE-4D2B-92B7-F8CE9CAE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A9B7-CF71-4281-A6B9-66461ADB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B45D-508E-4E79-9291-1ACC261A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7583-8828-42FC-89F1-B8F7CB20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2EE0-FB19-43BF-8DD7-2EC3FD13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3DF9-7C63-4C64-BED4-49B06001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59B02-90A8-4BD0-8616-5BF6E58F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68D-08EB-4E70-92D1-C67FC058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B99A2-25C4-4DE0-BD18-562D1DCC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0FA7B-E0D0-4592-A70A-C636738F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C601A-11BC-408E-9D33-EE49ADD1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68646-B640-43F9-8A8D-2592212F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187280" y="85320"/>
            <a:ext cx="7375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CA2A4-E502-47F4-84F2-341C2079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8EAAC-8CAC-4B32-8CE9-DC962132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5F43B-046A-4CBD-B53A-8632857A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5E97B-DF5D-44D6-839D-58C1BC66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674A7-8E48-4DE4-BC4B-878E0F5C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FE681-7AEB-4844-B990-0E9D5E83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87280" y="85320"/>
            <a:ext cx="7375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EE6-4B81-4D7B-AF90-08D73262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3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4144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397FF-0E11-4DFB-A236-0A6D14F3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187280" y="85320"/>
            <a:ext cx="7375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794E-4968-45B7-BEEF-39A16910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13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4144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187280" y="85320"/>
            <a:ext cx="7375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B61-32C1-448C-ABC8-9BADC28C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13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144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DD381-EB0C-42C0-898E-9F69F695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64B55-50DA-43C6-A06E-AAF1EF26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AA83B-1535-4B3F-A393-E1A7F197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B4619-6015-422D-B476-662104FF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042A1-6525-490E-B215-ED7D05B6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62FF-C6B9-46CE-BD9A-578F7B7D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187280" y="85320"/>
            <a:ext cx="7375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43E71-EF74-4AA7-97D8-B3EF0A57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82463-DFF9-4BC4-B113-3974B4FE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8D5EA-9BB9-4ED7-B27D-8088B190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47116-98F7-477D-8CCC-B62FB8B5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4127F-AB0F-4B41-BBC5-730B59CC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9957A-49A5-42C6-877A-9465A22F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13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144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5B112-A635-402E-957E-72CB5D3F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2448c"/>
                </a:solidFill>
                <a:latin typeface="Helvetica Condensed"/>
              </a:rPr>
              <a:t>Click to edit the title text format</a:t>
            </a: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D3C9-C543-48B7-BB6B-76706D9D1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33920" y="482400"/>
            <a:ext cx="54100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lvetica Condense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Helvetica Condense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Condense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  <a:p>
            <a:pPr lvl="1" marL="457200" indent="0" algn="ctr">
              <a:lnSpc>
                <a:spcPct val="85000"/>
              </a:lnSpc>
              <a:spcBef>
                <a:spcPts val="62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561"/>
              </a:spcBef>
              <a:spcAft>
                <a:spcPts val="113"/>
              </a:spcAft>
              <a:buClr>
                <a:srgbClr val="7fba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4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4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448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2448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809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448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2448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EC97-8AAC-4E55-82D5-B592401E4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2448c"/>
                </a:solidFill>
                <a:latin typeface="Helvetica Condensed"/>
              </a:rPr>
              <a:t>Click to edit the title text format</a:t>
            </a: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5856-2452-41BB-B609-63E2FF1A1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733920" y="482400"/>
            <a:ext cx="54100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lvetica Condense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Helvetic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448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2448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2448c"/>
                </a:solidFill>
                <a:latin typeface="Helvetica Condensed"/>
              </a:rPr>
              <a:t>Click to edit the title text format</a:t>
            </a: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D150-9D55-4033-93D1-E289EDD61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733920" y="482400"/>
            <a:ext cx="54100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lvetica Condense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Helvetic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06992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640080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0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0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2448c"/>
                </a:solidFill>
                <a:latin typeface="Helvetica Condensed"/>
              </a:rPr>
              <a:t>使用规范说明</a:t>
            </a: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37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9:42:02Z</dcterms:created>
  <dc:creator>mfrancis</dc:creator>
  <dc:description/>
  <dc:language>en-US</dc:language>
  <cp:lastModifiedBy>rswisher</cp:lastModifiedBy>
  <dcterms:modified xsi:type="dcterms:W3CDTF">2015-01-11T08:32:19Z</dcterms:modified>
  <cp:revision>32</cp:revision>
  <dc:subject/>
  <dc:title>Wind Power in the United St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