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795-B344-420C-89CD-3CEBA641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CD9-8DD2-416B-97DA-DDB6A4C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6CB-40EB-4906-9D6E-26B7047E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B44-D69B-46E8-A28C-13C1435A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B941-1D87-4403-B54B-2ABDD3E6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0DE4-49DC-4ACB-996E-ED1BE554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F118-DBD4-417E-8BD4-F8582BD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D19-473F-4FBD-A721-976A4C5E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AD02-225E-4FF1-BCBD-C7980E4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2DC-7833-48BD-802B-6930A027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2CC0-9B80-4E9C-B5EC-44769CF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DC3-5B63-41B0-B1EF-DD9F30A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23F-8113-4D8F-BD76-77074594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BB8-5773-4932-A923-1F626F1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10CB-5A7F-45BC-872C-9825932E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AA6B-244D-48D5-9F3E-668310E4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45A1-2958-4AB8-AE82-366E1637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288-3B32-4B52-8173-4075A275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669-C0A1-40B8-B3BA-31E7420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7A8-B189-4A17-9ADA-625A0D5B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614-5E68-4A95-A207-E61CB25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7FF-C3C9-4976-B409-B252BB1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63F-3D8D-44AB-941E-CDDFDC7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FA1-416D-4EDE-A908-15B3837D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FBD-75EC-4F00-946A-504B3A0DA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D85-DE78-4DB8-A3A9-667F2D80A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6560" y="631044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3:02Z</dcterms:created>
  <dc:creator/>
  <dc:description/>
  <dc:language>en-US</dc:language>
  <cp:lastModifiedBy/>
  <dcterms:modified xsi:type="dcterms:W3CDTF">2015-01-11T11:45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