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2E0-AE38-42E6-B996-99809224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1280" y="370548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2C9-6992-4DE1-B6AF-0A0C74D1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834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51C-5A57-42CA-851B-21544BFF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632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100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128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632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100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142-9983-4767-8CA9-7E19CDE6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2F2D-DCC5-47FA-9F9D-D7CE77DD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8717-A3B1-4374-AD5C-BCC299ED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5B4F-694D-473D-9EBA-D433FC46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F61E-D3B2-48FF-9AA2-3C144AA5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71A4-5FF9-4027-966D-D70E5907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85327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768A-7F0F-4BB5-B3BB-3AFA26A9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C0C4-C772-4C22-9903-1DCBF3F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0B9-5E99-44C3-8015-FB6B96A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34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0948-11F2-47D0-A81C-CE342CF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229C-0E6E-4C56-A680-9CD99982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11280" y="370548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E1B9-30A5-40DE-9829-B1F6C701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834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8DBD-28F5-4017-8B2E-D9CA1BCF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9632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81000" y="134136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1128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9632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81000" y="3705480"/>
            <a:ext cx="274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E055-0268-4A8B-AF7C-6F249E11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B2D-E7AF-41D9-A20C-4C5E4415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19D-2814-4C83-B16B-35BFF94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CD2-7FF4-4CA7-97FF-703A23A9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85327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3F7-B918-48EA-9DD1-31FA0F51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111-3C96-4BAF-AE9E-643F14C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83480" y="370548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675-7315-4BCD-AFCF-875FF8FF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3480" y="1341360"/>
            <a:ext cx="416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1280" y="3705480"/>
            <a:ext cx="85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0D1-5667-490F-A859-A7596788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1117440"/>
            <a:ext cx="8532720" cy="574056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480" y="0"/>
            <a:ext cx="604800" cy="1117440"/>
          </a:xfrm>
          <a:prstGeom prst="rect">
            <a:avLst/>
          </a:prstGeom>
          <a:solidFill>
            <a:srgbClr val="1c5f92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0"/>
            <a:ext cx="6805440" cy="111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416720" y="0"/>
            <a:ext cx="1727280" cy="111744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80" y="1117440"/>
            <a:ext cx="604800" cy="574056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60" y="1341360"/>
            <a:ext cx="6678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e8c5"/>
                </a:solidFill>
                <a:latin typeface="Arial"/>
                <a:ea typeface="宋体"/>
              </a:rPr>
              <a:t>Science 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11280" y="6244920"/>
            <a:ext cx="23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492000" y="6244920"/>
            <a:ext cx="28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877080" y="6244920"/>
            <a:ext cx="216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C6A6-501F-40FA-A20C-53B29378A3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80" y="5300640"/>
            <a:ext cx="8243640" cy="1557360"/>
          </a:xfrm>
          <a:prstGeom prst="rect">
            <a:avLst/>
          </a:prstGeom>
          <a:solidFill>
            <a:srgbClr val="1c5f92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4572000"/>
            <a:ext cx="8237520" cy="728640"/>
          </a:xfrm>
          <a:prstGeom prst="rect">
            <a:avLst/>
          </a:prstGeom>
          <a:solidFill>
            <a:srgbClr val="1c5f92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50120" y="5300640"/>
            <a:ext cx="893880" cy="1557360"/>
          </a:xfrm>
          <a:prstGeom prst="rect">
            <a:avLst/>
          </a:prstGeom>
          <a:solidFill>
            <a:srgbClr val="1c5f92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50120" y="4572000"/>
            <a:ext cx="893880" cy="728640"/>
          </a:xfrm>
          <a:prstGeom prst="rect">
            <a:avLst/>
          </a:prstGeom>
          <a:solidFill>
            <a:srgbClr val="61909f">
              <a:alpha val="96000"/>
            </a:srgbClr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57200"/>
            <a:ext cx="8243640" cy="321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50120" y="1357200"/>
            <a:ext cx="893880" cy="3214800"/>
          </a:xfrm>
          <a:prstGeom prst="rect">
            <a:avLst/>
          </a:prstGeom>
          <a:solidFill>
            <a:srgbClr val="e48800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0"/>
            <a:ext cx="8237520" cy="135720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50120" y="0"/>
            <a:ext cx="893880" cy="47628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1680" y="4649760"/>
            <a:ext cx="50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fe7f5"/>
                </a:solidFill>
                <a:latin typeface="Arial"/>
                <a:ea typeface="宋体"/>
              </a:rPr>
              <a:t>Science 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50120" y="476280"/>
            <a:ext cx="893880" cy="880920"/>
          </a:xfrm>
          <a:prstGeom prst="rect">
            <a:avLst/>
          </a:prstGeom>
          <a:solidFill>
            <a:srgbClr val="ffb54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5940000" y="6244920"/>
            <a:ext cx="2303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2B0A-27CD-4F27-842F-F4D8208C0A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国外黄色简约商务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43200" y="321120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720" y="63262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19:10Z</dcterms:created>
  <dc:creator/>
  <dc:description/>
  <dc:language>en-US</dc:language>
  <cp:lastModifiedBy/>
  <dcterms:modified xsi:type="dcterms:W3CDTF">2015-01-10T12:58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