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026-CAFF-4C5F-8A26-A82A7380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2B0-19AE-48E1-A060-D9F14677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70E-87BC-4C16-AA77-C7C7C11E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76B-D51C-456D-8752-451518B3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59B-58CA-43C4-BA13-31D02779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4AA-75AE-445C-9B00-A67B130D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752-88A8-4C99-8C6B-4E6ADEFA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219-09D6-4FD5-B5FD-98E6920F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775-BC79-4633-A0D4-21A5CAE7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C48-7DE7-4484-AEEB-C5E99F42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ACF-9AE6-46AB-B84A-1B6ACA3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9B5-7167-4076-9EBD-C736118F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412E-26BF-42C5-8E38-AEA4F861EFE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2660760"/>
            <a:ext cx="604836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92200" y="3490920"/>
            <a:ext cx="56005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367040" y="45878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a5d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a5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aa5d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295400" y="4732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a5d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a5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2aa5d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18:27:16Z</dcterms:created>
  <dc:creator/>
  <dc:description/>
  <dc:language>en-US</dc:language>
  <cp:lastModifiedBy>Ric6000</cp:lastModifiedBy>
  <dcterms:modified xsi:type="dcterms:W3CDTF">2015-01-11T15:17:4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