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1D0-0B7C-41A5-8C28-CF8B1CF07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A321D-FB06-40CA-BD0B-156BD571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C593A-8D12-4888-AC47-3E18E8A02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53511-5E5D-444C-ACD6-99582B98F6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F4D5D-481B-4FC1-A94A-0E37E998B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D92D-24A9-4D35-8351-CFBD4E621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9264-7693-4210-A8F0-30C3CD0AB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874D-567E-4E6C-A336-D8034D9D5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335-C100-471B-B40F-5F34525EB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8063-9D25-4A73-A2BB-1C538D425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C13F-CFB8-4B21-9482-9288DA4B7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670-9D7A-4C00-9BD1-20A769017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CA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96525-CF87-4786-A340-0886B7BD8FDC}" type="slidenum">
              <a:rPr b="0" lang="fr-CA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571920" y="2600280"/>
            <a:ext cx="5572080" cy="81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1f15"/>
                </a:solidFill>
                <a:latin typeface="Calibri"/>
              </a:rPr>
              <a:t>PRESENTATION  NA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285800" y="3171600"/>
            <a:ext cx="36529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481f15"/>
                </a:solidFill>
                <a:latin typeface="Calibri"/>
              </a:rPr>
              <a:t>Company Nam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142720" y="274320"/>
            <a:ext cx="65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1f1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2071440" y="1600200"/>
            <a:ext cx="6615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/>
          <p:nvPr/>
        </p:nvSpPr>
        <p:spPr>
          <a:xfrm>
            <a:off x="7164360" y="64022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1f15"/>
                </a:solidFill>
                <a:latin typeface="Calibri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999800"/>
            <a:ext cx="822960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481f1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200" spc="-1" strike="noStrike">
                <a:solidFill>
                  <a:srgbClr val="481f15"/>
                </a:solidFill>
                <a:latin typeface="Calibri"/>
              </a:rPr>
              <a:t>Lorem ipsum dolor sit amet, consectetuer adipiscing elit. Vivamus et magna. Fusce sed sem sed magna suscipit egestas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----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EEPPT.COM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fr-FR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</a:t>
            </a:r>
            <a:r>
              <a:rPr b="1" lang="fr-FR" sz="1600" spc="-1" strike="noStrike">
                <a:solidFill>
                  <a:srgbClr val="ededed"/>
                </a:solidFill>
                <a:latin typeface="Calibri"/>
              </a:rPr>
              <a:t>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</a:t>
            </a:r>
            <a:r>
              <a:rPr b="1" lang="fr-FR" sz="1800" spc="-1" strike="noStrike">
                <a:solidFill>
                  <a:srgbClr val="ededed"/>
                </a:solidFill>
                <a:latin typeface="Calibri"/>
              </a:rPr>
              <a:t>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fr-FR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：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8T16:11:42Z</dcterms:created>
  <dc:creator>我爱PPT官方网 - 中文演示设计平台 www.iloveppt.org; Admin</dc:creator>
  <dc:description>我爱PPT官方网 - 中文演示设计平台 www.iloveppt.org</dc:description>
  <cp:keywords>我爱PPT官方网 - 中文演示设计平台 www.iloveppt.org</cp:keywords>
  <dc:language>en-US</dc:language>
  <cp:lastModifiedBy>ilovePPT.ORG</cp:lastModifiedBy>
  <dcterms:modified xsi:type="dcterms:W3CDTF">2015-01-11T14:01:30Z</dcterms:modified>
  <cp:revision>157</cp:revision>
  <dc:subject>通用纹理</dc:subject>
  <dc:title>我爱PPT官方网 - 中文演示设计平台 www.iloveppt.or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