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F83-46DF-43B1-96A5-172A4C70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262-60DF-4F34-96CE-F1782DE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CB1-DEB0-46CE-9BDB-31EF7E0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0BB-02AC-4E50-A61D-4C5A3C6C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9790-5260-467E-A99E-1B67C68B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1E37-8180-4B91-BF62-50D8BD5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2E85-FE77-44A8-9EAD-D65ACC10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F86C-2A12-4F5A-A2B6-3850945E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D59-C883-419E-826E-FD71E64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DD1-9A76-4EBE-B6C5-2F46844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5171-B119-4C90-BAAB-0F0A023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695-F2DA-41E7-B9A5-D97DE9C5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4965-5F23-4DEF-8EBD-2279213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522D-D88F-403D-8971-C8C6EA7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F72-C21F-4BE5-A07D-EF4D94E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9F9-6DAE-4648-9BAC-836031CC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65B-0F29-476B-BCF5-4DBEC7A7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B56-3461-4210-9CA0-52A27A0B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7B7-60AB-4350-BBC7-E7296B0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975-2477-4CA8-9512-2E4E4A21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044-5D01-42DA-85F9-C3AC893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550-5742-409A-84B0-0DBD7F40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6D-E008-485C-8BCB-3499487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E71-C31A-41DE-AB76-9847F9F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406-FD75-4598-8DEF-F89168572D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3240" y="-1440"/>
            <a:ext cx="9156600" cy="103500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1440"/>
            <a:ext cx="4762440" cy="631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B43-DC9E-495B-AB68-C5B119C07EC7}" type="slidenum">
              <a:rPr b="0" lang="en-US" sz="1200" spc="-1" strike="noStrike">
                <a:solidFill>
                  <a:srgbClr val="045c7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03040"/>
              <a:ext cx="9156240" cy="648000"/>
              <a:chOff x="-12600" y="203040"/>
              <a:chExt cx="915624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40" y="203040"/>
                <a:ext cx="91332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0" y="248040"/>
                <a:ext cx="915876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224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mba gyaan\images\gap fill.jpg"/>
          <p:cNvPicPr/>
          <p:nvPr/>
        </p:nvPicPr>
        <p:blipFill>
          <a:blip r:embed="rId1"/>
          <a:stretch/>
        </p:blipFill>
        <p:spPr>
          <a:xfrm>
            <a:off x="2438280" y="457200"/>
            <a:ext cx="4407120" cy="439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73076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181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国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市场营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128520" y="4857840"/>
            <a:ext cx="8863200" cy="185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mba gyaan\images\stand alone marketer.png"/>
          <p:cNvPicPr/>
          <p:nvPr/>
        </p:nvPicPr>
        <p:blipFill>
          <a:blip r:embed="rId2"/>
          <a:stretch/>
        </p:blipFill>
        <p:spPr>
          <a:xfrm>
            <a:off x="1752480" y="380880"/>
            <a:ext cx="6061320" cy="420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mba gyaan\images\success.jpg"/>
          <p:cNvPicPr/>
          <p:nvPr/>
        </p:nvPicPr>
        <p:blipFill>
          <a:blip r:embed="rId3"/>
          <a:stretch/>
        </p:blipFill>
        <p:spPr>
          <a:xfrm>
            <a:off x="7316640" y="0"/>
            <a:ext cx="1827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36120" y="400320"/>
            <a:ext cx="6899760" cy="6114960"/>
            <a:chOff x="636120" y="400320"/>
            <a:chExt cx="6899760" cy="6114960"/>
          </a:xfrm>
        </p:grpSpPr>
        <p:pic>
          <p:nvPicPr>
            <p:cNvPr id="99" name="Picture 2" descr="D:\mba gyaan\images\bulb.png"/>
            <p:cNvPicPr/>
            <p:nvPr/>
          </p:nvPicPr>
          <p:blipFill>
            <a:blip r:embed="rId1"/>
            <a:stretch/>
          </p:blipFill>
          <p:spPr>
            <a:xfrm>
              <a:off x="1337400" y="2092680"/>
              <a:ext cx="5673240" cy="442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5757120" y="1334520"/>
              <a:ext cx="982440" cy="990360"/>
              <a:chOff x="5757120" y="1334520"/>
              <a:chExt cx="982440" cy="990360"/>
            </a:xfrm>
          </p:grpSpPr>
          <p:sp>
            <p:nvSpPr>
              <p:cNvPr id="101" name="Rounded Rectangle 5"/>
              <p:cNvSpPr/>
              <p:nvPr/>
            </p:nvSpPr>
            <p:spPr>
              <a:xfrm rot="2700000">
                <a:off x="6286680" y="1254240"/>
                <a:ext cx="151920" cy="913680"/>
              </a:xfrm>
              <a:custGeom>
                <a:avLst/>
                <a:gdLst>
                  <a:gd name="textAreaLeft" fmla="*/ 7200 w 151920"/>
                  <a:gd name="textAreaRight" fmla="*/ 144720 w 151920"/>
                  <a:gd name="textAreaTop" fmla="*/ 7200 h 913680"/>
                  <a:gd name="textAreaBottom" fmla="*/ 906480 h 913680"/>
                </a:gdLst>
                <a:ahLst/>
                <a:rect l="textAreaLeft" t="textAreaTop" r="textAreaRight" b="textAreaBottom"/>
                <a:pathLst>
                  <a:path w="21600" h="129651">
                    <a:moveTo>
                      <a:pt x="3600" y="0"/>
                    </a:moveTo>
                    <a:arcTo wR="3600" hR="3600" stAng="16200000" swAng="-5400000"/>
                    <a:lnTo>
                      <a:pt x="0" y="126051"/>
                    </a:lnTo>
                    <a:arcTo wR="3600" hR="3600" stAng="10800000" swAng="-5400000"/>
                    <a:lnTo>
                      <a:pt x="18000" y="1296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6"/>
              <p:cNvSpPr/>
              <p:nvPr/>
            </p:nvSpPr>
            <p:spPr>
              <a:xfrm>
                <a:off x="5757120" y="2172960"/>
                <a:ext cx="152280" cy="151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140360" y="400320"/>
              <a:ext cx="225720" cy="1320480"/>
              <a:chOff x="4140360" y="400320"/>
              <a:chExt cx="225720" cy="1320480"/>
            </a:xfrm>
          </p:grpSpPr>
          <p:sp>
            <p:nvSpPr>
              <p:cNvPr id="104" name="Rounded Rectangle 9"/>
              <p:cNvSpPr/>
              <p:nvPr/>
            </p:nvSpPr>
            <p:spPr>
              <a:xfrm rot="127800">
                <a:off x="4195080" y="402840"/>
                <a:ext cx="153720" cy="914400"/>
              </a:xfrm>
              <a:custGeom>
                <a:avLst/>
                <a:gdLst>
                  <a:gd name="textAreaLeft" fmla="*/ 7200 w 153720"/>
                  <a:gd name="textAreaRight" fmla="*/ 146520 w 153720"/>
                  <a:gd name="textAreaTop" fmla="*/ 7200 h 914400"/>
                  <a:gd name="textAreaBottom" fmla="*/ 907200 h 914400"/>
                </a:gdLst>
                <a:ahLst/>
                <a:rect l="textAreaLeft" t="textAreaTop" r="textAreaRight" b="textAreaBottom"/>
                <a:pathLst>
                  <a:path w="21600" h="128237">
                    <a:moveTo>
                      <a:pt x="3600" y="0"/>
                    </a:moveTo>
                    <a:arcTo wR="3600" hR="3600" stAng="16200000" swAng="-5400000"/>
                    <a:lnTo>
                      <a:pt x="0" y="124637"/>
                    </a:lnTo>
                    <a:arcTo wR="3600" hR="3600" stAng="10800000" swAng="-5400000"/>
                    <a:lnTo>
                      <a:pt x="18000" y="1282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0"/>
              <p:cNvSpPr/>
              <p:nvPr/>
            </p:nvSpPr>
            <p:spPr>
              <a:xfrm rot="19027800">
                <a:off x="4172040" y="1535760"/>
                <a:ext cx="152280" cy="153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94760" y="970560"/>
              <a:ext cx="818280" cy="1143360"/>
              <a:chOff x="1994760" y="970560"/>
              <a:chExt cx="818280" cy="1143360"/>
            </a:xfrm>
          </p:grpSpPr>
          <p:sp>
            <p:nvSpPr>
              <p:cNvPr id="107" name="Rounded Rectangle 12"/>
              <p:cNvSpPr/>
              <p:nvPr/>
            </p:nvSpPr>
            <p:spPr>
              <a:xfrm rot="19617000">
                <a:off x="2230920" y="937800"/>
                <a:ext cx="150480" cy="911880"/>
              </a:xfrm>
              <a:custGeom>
                <a:avLst/>
                <a:gdLst>
                  <a:gd name="textAreaLeft" fmla="*/ 7200 w 150480"/>
                  <a:gd name="textAreaRight" fmla="*/ 143280 w 150480"/>
                  <a:gd name="textAreaTop" fmla="*/ 7200 h 911880"/>
                  <a:gd name="textAreaBottom" fmla="*/ 904680 h 911880"/>
                </a:gdLst>
                <a:ahLst/>
                <a:rect l="textAreaLeft" t="textAreaTop" r="textAreaRight" b="textAreaBottom"/>
                <a:pathLst>
                  <a:path w="21600" h="130631">
                    <a:moveTo>
                      <a:pt x="3600" y="0"/>
                    </a:moveTo>
                    <a:arcTo wR="3600" hR="3600" stAng="16200000" swAng="-5400000"/>
                    <a:lnTo>
                      <a:pt x="0" y="127031"/>
                    </a:lnTo>
                    <a:arcTo wR="3600" hR="3600" stAng="10800000" swAng="-5400000"/>
                    <a:lnTo>
                      <a:pt x="18000" y="1306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3"/>
              <p:cNvSpPr/>
              <p:nvPr/>
            </p:nvSpPr>
            <p:spPr>
              <a:xfrm rot="16917000">
                <a:off x="2646360" y="1947240"/>
                <a:ext cx="151200" cy="153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214680" y="3223800"/>
              <a:ext cx="1321200" cy="243000"/>
              <a:chOff x="6214680" y="3223800"/>
              <a:chExt cx="1321200" cy="243000"/>
            </a:xfrm>
          </p:grpSpPr>
          <p:sp>
            <p:nvSpPr>
              <p:cNvPr id="110" name="Rounded Rectangle 15"/>
              <p:cNvSpPr/>
              <p:nvPr/>
            </p:nvSpPr>
            <p:spPr>
              <a:xfrm rot="5252400">
                <a:off x="6998760" y="2860920"/>
                <a:ext cx="151920" cy="916560"/>
              </a:xfrm>
              <a:custGeom>
                <a:avLst/>
                <a:gdLst>
                  <a:gd name="textAreaLeft" fmla="*/ 7200 w 151920"/>
                  <a:gd name="textAreaRight" fmla="*/ 144720 w 151920"/>
                  <a:gd name="textAreaTop" fmla="*/ 7200 h 916560"/>
                  <a:gd name="textAreaBottom" fmla="*/ 909360 h 916560"/>
                </a:gdLst>
                <a:ahLst/>
                <a:rect l="textAreaLeft" t="textAreaTop" r="textAreaRight" b="textAreaBottom"/>
                <a:pathLst>
                  <a:path w="21600" h="130060">
                    <a:moveTo>
                      <a:pt x="3600" y="0"/>
                    </a:moveTo>
                    <a:arcTo wR="3600" hR="3600" stAng="16200000" swAng="-5400000"/>
                    <a:lnTo>
                      <a:pt x="0" y="126460"/>
                    </a:lnTo>
                    <a:arcTo wR="3600" hR="3600" stAng="10800000" swAng="-5400000"/>
                    <a:lnTo>
                      <a:pt x="18000" y="1300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6"/>
              <p:cNvSpPr/>
              <p:nvPr/>
            </p:nvSpPr>
            <p:spPr>
              <a:xfrm rot="2553000">
                <a:off x="6245640" y="3282480"/>
                <a:ext cx="153720" cy="151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6120" y="3071880"/>
              <a:ext cx="1318680" cy="214920"/>
              <a:chOff x="636120" y="3071880"/>
              <a:chExt cx="1318680" cy="214920"/>
            </a:xfrm>
          </p:grpSpPr>
          <p:sp>
            <p:nvSpPr>
              <p:cNvPr id="113" name="Rounded Rectangle 18"/>
              <p:cNvSpPr/>
              <p:nvPr/>
            </p:nvSpPr>
            <p:spPr>
              <a:xfrm rot="16204200">
                <a:off x="1015920" y="2727360"/>
                <a:ext cx="151560" cy="911160"/>
              </a:xfrm>
              <a:custGeom>
                <a:avLst/>
                <a:gdLst>
                  <a:gd name="textAreaLeft" fmla="*/ 7200 w 151560"/>
                  <a:gd name="textAreaRight" fmla="*/ 144360 w 151560"/>
                  <a:gd name="textAreaTop" fmla="*/ 7200 h 911160"/>
                  <a:gd name="textAreaBottom" fmla="*/ 903960 h 911160"/>
                </a:gdLst>
                <a:ahLst/>
                <a:rect l="textAreaLeft" t="textAreaTop" r="textAreaRight" b="textAreaBottom"/>
                <a:pathLst>
                  <a:path w="21600" h="129600">
                    <a:moveTo>
                      <a:pt x="3600" y="0"/>
                    </a:moveTo>
                    <a:arcTo wR="3600" hR="3600" stAng="16200000" swAng="-5400000"/>
                    <a:lnTo>
                      <a:pt x="0" y="126000"/>
                    </a:lnTo>
                    <a:arcTo wR="3600" hR="3600" stAng="10800000" swAng="-5400000"/>
                    <a:lnTo>
                      <a:pt x="18000" y="129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9"/>
              <p:cNvSpPr/>
              <p:nvPr/>
            </p:nvSpPr>
            <p:spPr>
              <a:xfrm rot="13504200">
                <a:off x="1771200" y="3103560"/>
                <a:ext cx="152280" cy="151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mba gyaan\images\blocks.jpg"/>
          <p:cNvPicPr/>
          <p:nvPr/>
        </p:nvPicPr>
        <p:blipFill>
          <a:blip r:embed="rId1"/>
          <a:stretch/>
        </p:blipFill>
        <p:spPr>
          <a:xfrm>
            <a:off x="0" y="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mba gyaan\images\blocks.jpg"/>
          <p:cNvPicPr/>
          <p:nvPr/>
        </p:nvPicPr>
        <p:blipFill>
          <a:blip r:embed="rId2"/>
          <a:stretch/>
        </p:blipFill>
        <p:spPr>
          <a:xfrm>
            <a:off x="6643800" y="436572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7" descr=""/>
          <p:cNvPicPr/>
          <p:nvPr/>
        </p:nvPicPr>
        <p:blipFill>
          <a:blip r:embed="rId3"/>
          <a:stretch/>
        </p:blipFill>
        <p:spPr>
          <a:xfrm>
            <a:off x="774720" y="2541600"/>
            <a:ext cx="7607160" cy="26636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8" descr=""/>
          <p:cNvPicPr/>
          <p:nvPr/>
        </p:nvPicPr>
        <p:blipFill>
          <a:blip r:embed="rId4"/>
          <a:stretch/>
        </p:blipFill>
        <p:spPr>
          <a:xfrm>
            <a:off x="3187800" y="1200240"/>
            <a:ext cx="28954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mba gyaan\images\blocks.jpg"/>
          <p:cNvPicPr/>
          <p:nvPr/>
        </p:nvPicPr>
        <p:blipFill>
          <a:blip r:embed="rId5"/>
          <a:stretch/>
        </p:blipFill>
        <p:spPr>
          <a:xfrm>
            <a:off x="6643800" y="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mba gyaan\images\blocks.jpg"/>
          <p:cNvPicPr/>
          <p:nvPr/>
        </p:nvPicPr>
        <p:blipFill>
          <a:blip r:embed="rId6"/>
          <a:stretch/>
        </p:blipFill>
        <p:spPr>
          <a:xfrm>
            <a:off x="0" y="4365720"/>
            <a:ext cx="2500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mba gyaan\images\money.jpg"/>
          <p:cNvPicPr/>
          <p:nvPr/>
        </p:nvPicPr>
        <p:blipFill>
          <a:blip r:embed="rId2"/>
          <a:stretch/>
        </p:blipFill>
        <p:spPr>
          <a:xfrm>
            <a:off x="6746760" y="5257800"/>
            <a:ext cx="23972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D:\mba gyaan\images\buy sell.jpg"/>
          <p:cNvPicPr/>
          <p:nvPr/>
        </p:nvPicPr>
        <p:blipFill>
          <a:blip r:embed="rId3"/>
          <a:stretch/>
        </p:blipFill>
        <p:spPr>
          <a:xfrm>
            <a:off x="6113520" y="2971800"/>
            <a:ext cx="3030480" cy="227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914400" y="10666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us Marketing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OCIAL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t is a social process by which  individuals and groups obtain what they need and want through creating, offering and freely exchanging products and services of value with other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ANAGERIAL DEFIN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arketing is the art of meeting demands profitab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mba gyaan\images\search.jpg"/>
          <p:cNvPicPr/>
          <p:nvPr/>
        </p:nvPicPr>
        <p:blipFill>
          <a:blip r:embed="rId2"/>
          <a:stretch/>
        </p:blipFill>
        <p:spPr>
          <a:xfrm>
            <a:off x="152280" y="990720"/>
            <a:ext cx="1452600" cy="17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mic Sans MS"/>
                <a:ea typeface="宋体"/>
              </a:rPr>
              <a:t>Another dimension….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23880" y="2590920"/>
            <a:ext cx="5965920" cy="1015920"/>
            <a:chOff x="1523880" y="2590920"/>
            <a:chExt cx="5965920" cy="1015920"/>
          </a:xfrm>
        </p:grpSpPr>
        <p:pic>
          <p:nvPicPr>
            <p:cNvPr id="128" name="Rectangle 3" descr=""/>
            <p:cNvPicPr/>
            <p:nvPr/>
          </p:nvPicPr>
          <p:blipFill>
            <a:blip r:embed="rId3"/>
            <a:stretch/>
          </p:blipFill>
          <p:spPr>
            <a:xfrm>
              <a:off x="1523880" y="2590920"/>
              <a:ext cx="263844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ectangle 4" descr=""/>
            <p:cNvPicPr/>
            <p:nvPr/>
          </p:nvPicPr>
          <p:blipFill>
            <a:blip r:embed="rId4"/>
            <a:stretch/>
          </p:blipFill>
          <p:spPr>
            <a:xfrm>
              <a:off x="4810320" y="2590920"/>
              <a:ext cx="2679480" cy="10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Box 5"/>
          <p:cNvSpPr/>
          <p:nvPr/>
        </p:nvSpPr>
        <p:spPr>
          <a:xfrm>
            <a:off x="838080" y="37339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USTOMERS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NVIN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OMO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  <a:ea typeface="宋体"/>
              </a:rPr>
              <a:t>PRODUCTS……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宋体"/>
              </a:rPr>
              <a:t>Products are the commodities offered for sale or an artifact that has been created by someone or some pro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宋体"/>
              </a:rPr>
              <a:t>It is basically something that can be differentiated from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2" descr="D:\mba gyaan\images\products.jpg"/>
          <p:cNvPicPr/>
          <p:nvPr/>
        </p:nvPicPr>
        <p:blipFill>
          <a:blip r:embed="rId2"/>
          <a:stretch/>
        </p:blipFill>
        <p:spPr>
          <a:xfrm>
            <a:off x="5780160" y="3935520"/>
            <a:ext cx="33638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使用规范说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nstanti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nstanti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微软中国</cp:lastModifiedBy>
  <dcterms:modified xsi:type="dcterms:W3CDTF">2015-01-10T08:06:49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