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0E8B85B-54D8-41FF-B787-D105C41B7EE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3240" y="386676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000000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02880" y="4943520"/>
            <a:ext cx="751068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3480" y="62737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Jennifer</cp:lastModifiedBy>
  <dcterms:modified xsi:type="dcterms:W3CDTF">2015-01-10T11:52:38Z</dcterms:modified>
  <cp:revision>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