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119-FF08-46D9-B122-289128B4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9C8-1559-498F-B21A-640C555E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D28-B933-46F8-A587-DB1D23CC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6F4-CBF9-484A-B7CF-AA112EEB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B52-7660-4A9A-892B-0645C8B5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A724-240D-4E85-AC06-91BEB5E3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64B4-A579-4F40-9814-92A051CD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ED12-41E6-4E8C-A8B8-ECDDE7CA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DA8-226F-4CAA-937A-596B3CFC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7AB-440C-4200-B3F0-CC1B2433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135-2C20-4EF5-AF72-07385DDC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0EF4-B867-4912-9257-D1D15DA5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1055-78B7-4185-ACD5-47BCEEB70D3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5E99-7AFE-4383-AD37-18A85C1346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540120" y="616572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6:59:30Z</dcterms:created>
  <dc:creator>Administrator</dc:creator>
  <dc:description/>
  <dc:language>en-US</dc:language>
  <cp:lastModifiedBy>微软用户</cp:lastModifiedBy>
  <dcterms:modified xsi:type="dcterms:W3CDTF">2015-01-11T08:47:32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