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00D-2D1E-40F7-AA92-30CF692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51B-BE17-447B-9359-6C50D1D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FD3-A96C-4396-B191-21F0DF9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DAD-365E-46C7-8E13-7A186AF1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130-FCDD-49DA-84D6-9474CE8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5CB-8134-4F8D-90B6-CB850C6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CE1-72F4-46CE-ABD0-F66D6C4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F24-25F8-4057-8CA8-14C5193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64C-8193-469A-B1D2-22EF898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CD0-7AF8-4EDC-BD5F-0ACCFC9D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B7C-F6A2-4B50-8C09-E536C8F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0FC-831F-48A3-8A22-A583231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1" descr="fly_butterfly_bottom"/>
          <p:cNvPicPr/>
          <p:nvPr/>
        </p:nvPicPr>
        <p:blipFill>
          <a:blip r:embed="rId3"/>
          <a:stretch/>
        </p:blipFill>
        <p:spPr>
          <a:xfrm>
            <a:off x="2065320" y="5464080"/>
            <a:ext cx="6207120" cy="13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3" descr="fly_butterfly_right"/>
          <p:cNvPicPr/>
          <p:nvPr/>
        </p:nvPicPr>
        <p:blipFill>
          <a:blip r:embed="rId4"/>
          <a:stretch/>
        </p:blipFill>
        <p:spPr>
          <a:xfrm>
            <a:off x="8264520" y="3668760"/>
            <a:ext cx="879480" cy="3189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82" descr="fly_butterfly_left"/>
          <p:cNvPicPr/>
          <p:nvPr/>
        </p:nvPicPr>
        <p:blipFill>
          <a:blip r:embed="rId5"/>
          <a:stretch/>
        </p:blipFill>
        <p:spPr>
          <a:xfrm>
            <a:off x="0" y="0"/>
            <a:ext cx="879480" cy="3840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4" descr="fly_butterfly_top"/>
          <p:cNvPicPr/>
          <p:nvPr/>
        </p:nvPicPr>
        <p:blipFill>
          <a:blip r:embed="rId6"/>
          <a:stretch/>
        </p:blipFill>
        <p:spPr>
          <a:xfrm>
            <a:off x="871560" y="0"/>
            <a:ext cx="6251400" cy="1393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6" descr="1"/>
          <p:cNvPicPr/>
          <p:nvPr/>
        </p:nvPicPr>
        <p:blipFill>
          <a:blip r:embed="rId7"/>
          <a:stretch/>
        </p:blipFill>
        <p:spPr>
          <a:xfrm>
            <a:off x="0" y="3733920"/>
            <a:ext cx="86688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7" descr="1"/>
          <p:cNvPicPr/>
          <p:nvPr/>
        </p:nvPicPr>
        <p:blipFill>
          <a:blip r:embed="rId8"/>
          <a:stretch/>
        </p:blipFill>
        <p:spPr>
          <a:xfrm>
            <a:off x="8277120" y="0"/>
            <a:ext cx="866880" cy="3666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596-9C38-4618-BAD2-CF222729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01" descr="bear_business_spacer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0" descr="cuddly_cow_spacer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单击此处添加幻灯片标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击添加副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62373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01440" y="5878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08:38:14Z</dcterms:created>
  <dc:creator/>
  <dc:description/>
  <dc:language>en-US</dc:language>
  <cp:lastModifiedBy>king</cp:lastModifiedBy>
  <dcterms:modified xsi:type="dcterms:W3CDTF">2015-01-11T08:49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