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9443-AF7D-4DC3-9C84-E6E06226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659B-60FB-4134-A4B8-8C9833A3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BCA6-9019-4795-B3A7-FB313CDAE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6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072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6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81B-124F-4B48-83EC-BB1283F2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80720" y="233280"/>
            <a:ext cx="69231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F69-9464-4CC1-9468-9CC80504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6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8072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6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4EB2-CE57-40ED-958C-148D6EA75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3712-7562-4C7B-BEE7-665B7195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B268-EEA6-44E8-9D8A-EE4929E4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C836-6644-4559-AA4A-35D7BEB6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680E-7680-4BA4-8E5D-7B909418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F136-9CDC-4ED9-9C85-76584A25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80720" y="233280"/>
            <a:ext cx="69231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0E84-EF66-4FF3-8950-6ADA3303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33CC-6732-43E9-B036-EE0AE698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2E3F-40D4-4D2D-8E69-08235322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0D46-E02C-45BA-88A0-C0641EC9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B87E-47FC-42F4-AEF6-BA2E3086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12DBF-D46D-4641-A202-06FC71B1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2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6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8072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2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6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40F9-3C2D-44B7-B4DD-83A9E44F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C97A-8492-4B81-8B28-D7F0859A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E71-B9FE-4B1B-8E0C-CBBA833E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0720" y="233280"/>
            <a:ext cx="69231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6EE-9680-44F9-B869-192608E8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6C9-F729-43A6-8956-E152FF22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3DD-3469-43CA-B5CB-E45F72DC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0CD-5465-4704-A2D6-AA53B873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43328" r="0" b="29336"/>
          <a:stretch/>
        </p:blipFill>
        <p:spPr>
          <a:xfrm>
            <a:off x="0" y="-17640"/>
            <a:ext cx="9144000" cy="155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1197-B7B9-40FF-A8C1-302C52E95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1136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53792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11160" y="3182760"/>
            <a:ext cx="9155160" cy="20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e400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400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47840"/>
            <a:ext cx="82292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3CE7-ED96-4037-85F5-B50297697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24557" t="0" r="55181" b="0"/>
          <a:stretch/>
        </p:blipFill>
        <p:spPr>
          <a:xfrm>
            <a:off x="-12600" y="25560"/>
            <a:ext cx="1847880" cy="571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e400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33692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99000" y="54007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8466120" cy="5759280"/>
            <a:chOff x="0" y="0"/>
            <a:chExt cx="8466120" cy="575928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39640"/>
              <a:ext cx="84661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37520" y="29980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42:41Z</dcterms:created>
  <dc:creator>Administrator</dc:creator>
  <dc:description/>
  <dc:language>en-US</dc:language>
  <cp:lastModifiedBy/>
  <dcterms:modified xsi:type="dcterms:W3CDTF">2015-01-11T12:27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