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CF0-1C39-421E-9621-684389A1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7B7-A18E-4042-99DA-225D6C7E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DF9-4133-4F84-87D5-EF98355B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816-5AD7-4F29-9287-D106BF35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EFAF-AEB2-4855-B248-79D26CC7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7C0E-DD43-4ACF-8F91-959B800B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CE4D-411D-48B7-8C2D-7813C394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828A-6BC6-4014-B11F-522B379F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8D6F-940A-4F43-BAF4-02413B02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EF3F-A68D-4F7D-B372-2B4F21CF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87A3-23AB-4277-842C-8D989431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6BD-38AC-41C1-8210-4A998AE8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2EFD-2670-40FC-843B-C8BBFE93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4B85-9D1D-4139-8BCF-7E1DED05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E13E-9D2B-417A-B2EB-5AC67107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FCF0-ACAF-4F43-A208-89588FED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AF9A-A2B6-496D-8F30-7C3B56CC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4D4-663D-41FC-B806-A2BA8FA6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7E2-483F-44D2-A84A-F1052A96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DD0-D39F-46FA-80EB-5851FDC7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D47-02E3-4FC0-A3C8-441468A5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F25-6C15-475A-AD37-C3E0FD23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885-3511-42C2-B706-4DCC77D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150-4FF0-4271-91A7-2898FB54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5133-19F3-4855-927E-7190F7BED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1A70-3299-4BDC-9AB4-116331726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25320" y="623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7:13:54Z</dcterms:created>
  <dc:creator/>
  <dc:description/>
  <dc:language>en-US</dc:language>
  <cp:lastModifiedBy>echo</cp:lastModifiedBy>
  <dcterms:modified xsi:type="dcterms:W3CDTF">2015-01-10T12:02:2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