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CB0-CF17-48CB-9588-6B3EF706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960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984-B9CB-4106-9129-58BEEE40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C46-2119-44C2-9D75-1020FAA4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4F5-F9CB-4D10-88FB-CC381794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0257-B5A7-49B4-B0C8-A7C33195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6979-0C17-44A3-849B-66ED4B15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E56B-48D0-437F-8EF1-5404263D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378C-5927-4C6A-A5B5-7692925B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3AD0-9093-463B-97A3-91272826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BF8F-2035-429B-A069-C9A7AF2C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4E90-1AEF-4C55-8C83-9FC4A80F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CC6-2B16-4448-A04C-FA2E3AF6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C164-1795-4A8A-9EB3-4EEB5A81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DED0-EBAF-4BF4-A446-CD69888B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0960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4A5D-450A-4752-9730-FC8535B5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0D47-958E-4814-A81C-970FD332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09600"/>
            <a:ext cx="264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4313-BDF8-47AE-9F5D-1ADA7238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2C8-8EB2-4A74-8028-C2B3E1F5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576-DAD6-433F-8DF1-DAD6D497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444-4E60-421A-9A39-F7485923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259-81BB-407D-95B0-0778F933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576-E1E2-4803-A002-D6DDD0FF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960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160-7D30-4472-809E-5A384565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9600"/>
            <a:ext cx="82296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DC48-4305-4FB6-8198-CB1474A8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c001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B47D-A311-492A-925B-ADAA180DC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c001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9033-ADB5-452C-B97B-F1E2AE108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596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c0015"/>
                </a:solidFill>
                <a:latin typeface="Arial"/>
              </a:rPr>
              <a:t>红色通用会议</a:t>
            </a:r>
            <a:r>
              <a:rPr b="1" lang="zh-CN" sz="4400" spc="-1" strike="noStrike">
                <a:solidFill>
                  <a:srgbClr val="6c0015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6c0015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19280" y="3886200"/>
            <a:ext cx="54720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c0015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6c001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58:22Z</dcterms:created>
  <dc:creator/>
  <dc:description/>
  <dc:language>en-US</dc:language>
  <cp:lastModifiedBy/>
  <dcterms:modified xsi:type="dcterms:W3CDTF">2015-01-10T11:56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