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1D8E-610B-4580-9777-12716D48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604B-F84F-4EC5-9071-889E7E83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F28C-64D3-4766-BB72-BB15A00D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0B4A-5A7D-46B8-B74E-7D08CE11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DA47-2BFE-4CFC-8C3D-F23B043E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B31-A1CC-4F15-88B3-9E813B2B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F9C5-241B-4EF2-883B-923D92E3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F49-06E7-445D-B48E-6021725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B5B4-34AC-45B1-B34F-5B586691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6560" y="269640"/>
            <a:ext cx="822960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99B6-C0C7-41BC-8816-482C800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8096-0FA0-41CB-82FE-B2CD89D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D66A-9649-4E26-B2F8-2F9039D5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C867-4CC6-4F34-B10F-B40C09F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1DDD-51AA-44DB-A433-C32B4F2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901A-6FA5-4686-A9EB-B1FE3EF9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B83-1F48-4C43-95F0-ED480651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E845-4876-452C-BB9C-046BCEBD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B160-F17B-4E6C-A45F-95CD833A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76A8-9D91-449D-864E-9578C62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D67C-1D60-4FF1-95AF-A785F03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6560" y="269640"/>
            <a:ext cx="822960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BC13-21E2-403A-B84E-BE1B5ED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E888-EA1E-4E20-9499-BFDF0215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318E-173C-488A-B514-5A510C05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63D2-0C97-4A50-8515-5C6C0ED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E35-CBBE-4262-BD58-5ADB53F9DB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1440"/>
            <a:ext cx="9144000" cy="126864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7"/>
          <p:cNvSpPr/>
          <p:nvPr/>
        </p:nvSpPr>
        <p:spPr>
          <a:xfrm>
            <a:off x="7236000" y="6240600"/>
            <a:ext cx="1428480" cy="500040"/>
          </a:xfrm>
          <a:prstGeom prst="rect">
            <a:avLst/>
          </a:prstGeom>
          <a:solidFill>
            <a:srgbClr val="ffffff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黑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0" y="2060640"/>
            <a:ext cx="9144000" cy="1571400"/>
          </a:xfrm>
          <a:prstGeom prst="rect">
            <a:avLst/>
          </a:prstGeom>
          <a:solidFill>
            <a:srgbClr val="ffc0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0F4B-10A0-4CB4-AE61-570C632A9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000" y="3886200"/>
            <a:ext cx="6048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26964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19:35Z</dcterms:created>
  <dc:creator/>
  <dc:description/>
  <dc:language>en-US</dc:language>
  <cp:lastModifiedBy>dell</cp:lastModifiedBy>
  <dcterms:modified xsi:type="dcterms:W3CDTF">2015-01-11T12:17:27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