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8617F-97D7-47CA-B22F-D676A676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51214-81F5-477D-8C87-CD94BB93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D63D-BE19-4BAC-BCBB-139EC4C9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6A8AA-8587-4D50-AFA6-0997819A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0FBBD-4D99-41A1-BFD8-DC8E4512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6585-F370-41F1-8E89-AAF9B249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7F219-C30F-4007-AA8D-34E76247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6AC28-F51C-4762-BB56-74A8F98E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EB71-E51E-4A1A-BC1E-6B353B51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786C1-8846-40CF-B84F-197B451C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717A5-6DAD-4C9B-9506-78E51A10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C2F2E-69F2-4188-A7A0-F8611DA7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11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236000" y="632772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BDE5CD7D-3A94-4011-ADF1-A763EBFFFFE6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7C3E-AF2C-40D0-BA4C-1F96BB1FE08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1A72-E44E-49B0-BE64-36F5A54F3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2003400"/>
            <a:ext cx="82072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8080" y="64533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700280"/>
            <a:ext cx="8207280" cy="863640"/>
            <a:chOff x="457200" y="1700280"/>
            <a:chExt cx="8207280" cy="863640"/>
          </a:xfrm>
        </p:grpSpPr>
        <p:grpSp>
          <p:nvGrpSpPr>
            <p:cNvPr id="128" name=""/>
            <p:cNvGrpSpPr/>
            <p:nvPr/>
          </p:nvGrpSpPr>
          <p:grpSpPr>
            <a:xfrm>
              <a:off x="457200" y="1700280"/>
              <a:ext cx="8207280" cy="576360"/>
              <a:chOff x="457200" y="1700280"/>
              <a:chExt cx="8207280" cy="576360"/>
            </a:xfrm>
          </p:grpSpPr>
          <p:sp>
            <p:nvSpPr>
              <p:cNvPr id="129" name=""/>
              <p:cNvSpPr/>
              <p:nvPr/>
            </p:nvSpPr>
            <p:spPr>
              <a:xfrm>
                <a:off x="457200" y="170028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82840" y="170028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508120" y="170028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33760" y="170028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62640" y="1700280"/>
                <a:ext cx="102528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587920" y="170028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13560" y="1700280"/>
                <a:ext cx="102564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639200" y="1700280"/>
                <a:ext cx="102528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457200" y="2276640"/>
              <a:ext cx="8207280" cy="287280"/>
              <a:chOff x="457200" y="2276640"/>
              <a:chExt cx="8207280" cy="287280"/>
            </a:xfrm>
          </p:grpSpPr>
          <p:sp>
            <p:nvSpPr>
              <p:cNvPr id="138" name=""/>
              <p:cNvSpPr/>
              <p:nvPr/>
            </p:nvSpPr>
            <p:spPr>
              <a:xfrm>
                <a:off x="45720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48284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0812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3376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6264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8792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61356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3920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6040" y="26020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黑体"/>
              </a:rPr>
              <a:t>LOGO</a:t>
            </a: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删除与替换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依次点击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母板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幻灯片母板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进入模板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95160" y="1438200"/>
            <a:ext cx="2306160" cy="2305080"/>
            <a:chOff x="695160" y="1438200"/>
            <a:chExt cx="2306160" cy="2305080"/>
          </a:xfrm>
        </p:grpSpPr>
        <p:sp>
          <p:nvSpPr>
            <p:cNvPr id="150" name=""/>
            <p:cNvSpPr/>
            <p:nvPr/>
          </p:nvSpPr>
          <p:spPr>
            <a:xfrm>
              <a:off x="6951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27964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728640" y="1495440"/>
              <a:ext cx="2085840" cy="21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"/>
          <p:cNvGrpSpPr/>
          <p:nvPr/>
        </p:nvGrpSpPr>
        <p:grpSpPr>
          <a:xfrm>
            <a:off x="3344760" y="1438200"/>
            <a:ext cx="2306160" cy="2305080"/>
            <a:chOff x="3344760" y="1438200"/>
            <a:chExt cx="2306160" cy="2305080"/>
          </a:xfrm>
        </p:grpSpPr>
        <p:sp>
          <p:nvSpPr>
            <p:cNvPr id="154" name=""/>
            <p:cNvSpPr/>
            <p:nvPr/>
          </p:nvSpPr>
          <p:spPr>
            <a:xfrm>
              <a:off x="33447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54460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2"/>
            <a:srcRect l="29589" t="0" r="0" b="0"/>
            <a:stretch/>
          </p:blipFill>
          <p:spPr>
            <a:xfrm>
              <a:off x="3368520" y="1474560"/>
              <a:ext cx="2100240" cy="222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"/>
          <p:cNvGrpSpPr/>
          <p:nvPr/>
        </p:nvGrpSpPr>
        <p:grpSpPr>
          <a:xfrm>
            <a:off x="6002280" y="1438200"/>
            <a:ext cx="2160720" cy="2305080"/>
            <a:chOff x="6002280" y="1438200"/>
            <a:chExt cx="2160720" cy="2305080"/>
          </a:xfrm>
        </p:grpSpPr>
        <p:sp>
          <p:nvSpPr>
            <p:cNvPr id="158" name=""/>
            <p:cNvSpPr/>
            <p:nvPr/>
          </p:nvSpPr>
          <p:spPr>
            <a:xfrm>
              <a:off x="600228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6122880" y="2235240"/>
              <a:ext cx="194004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/>
          <p:nvPr/>
        </p:nvSpPr>
        <p:spPr>
          <a:xfrm>
            <a:off x="3297240" y="3843360"/>
            <a:ext cx="2303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选择母板内的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图标进行删除和替换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编辑完成后点击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关闭母板视图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返回幻灯片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38080" y="64533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4183200" y="1052640"/>
            <a:ext cx="295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10280" y="6453360"/>
            <a:ext cx="432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i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i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A9639-5F54-4245-B69E-9D57A8A77C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6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36064-3B4E-4651-A81B-5B49A6ECAA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Atlantic</cp:lastModifiedBy>
  <dcterms:modified xsi:type="dcterms:W3CDTF">2015-01-11T08:45:52Z</dcterms:modified>
  <cp:revision>2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