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9A4-AE82-4363-8DD1-57FADAA1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7F9-70D7-43C7-9A25-FE5FC8E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2AA-F8CB-49D4-BFEC-99235A4A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9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591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27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059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591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DE-F975-410E-ABEC-9C62EB3E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526-BD8E-4FBC-BB67-C5B1087F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E734-02A6-4168-99EA-D271EC70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B86E-CD25-4DA3-B2C5-D658374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3AA1-7C17-4674-B0F1-844C6960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136-C238-4C66-BCDD-DCD9F77E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AB4-CBF3-4BF0-B7D5-97208269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46CB-B95F-4FC4-BB2A-BA0B9BED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975-AA82-4CA8-A534-8451E4F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E977-6C8A-40CE-AD9B-86628AF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FBD4-2821-4FE5-8246-E211D69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AB6C-950F-417E-955F-478C282F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1B09-F563-4C40-8AEE-0B5138F1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9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591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27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059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591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F19-7E22-420A-8DBC-BBC672B3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A70F-4C0E-4503-A9BA-16D5E98D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3B0A-DE75-41CA-81DC-7D0EB43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FA62-22DF-43FA-81EC-B026F7A2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72BE-42CE-43F2-9A73-422EDF7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5218-9954-447C-A51B-FA7A287C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F85-BE85-4E91-9A11-C8A6DE38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ED19-3369-4FA0-8E54-DB7ACDF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ADEC-50FF-4BE1-9004-B16FFAA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F414-D93D-4C83-A499-3CB4560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8BD8-95C7-40B8-97AC-1896E52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3B6B-0506-412D-94DF-A10C4417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3640-0150-470A-8D19-9E6E3D1F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59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591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527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59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591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230E-98D5-48F2-9114-D71064D9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94C2-4732-4AA7-A69F-34A4EF42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1A82-6BFB-48F4-B786-41796840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2AA5-DF5B-4187-B272-882946D3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16B-4AAF-44AB-BD90-D716D729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4C8D-2440-44FF-B311-403513DA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E11E-DBF9-490E-8C4F-7D7CE824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A41C-8796-4051-9B76-52062BE6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D0E9-1348-43AC-A8AB-B1995CF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D0AD-CD87-4365-B59D-6C26CB5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94DC-CAA2-4AB8-B641-09AC6FD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6435-21BF-4754-84F9-CEC9CC1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A81A-A92F-40A7-817D-80EF3AD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059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59120" y="292536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527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059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559120" y="3602880"/>
            <a:ext cx="16693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C927-2EDC-4963-9083-AE1D8E95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FBD-A761-49A4-AFA8-66723D3F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929-EE17-46A4-93ED-ADC581A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DDA-F202-4268-A881-C12090E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9520" y="360288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A7C-9751-4D67-964C-713327E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27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9520" y="2925360"/>
            <a:ext cx="253008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2720" y="3602880"/>
            <a:ext cx="5184720" cy="6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11E-D3AD-4D1E-BB6F-D7A8EB7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908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605-8CD5-4182-850D-EAA829C2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80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6BB-927B-4C15-B291-EA3485A2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95560" y="0"/>
            <a:ext cx="7084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C5A-4E2C-47A2-8FAF-EA78E29E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01520" y="0"/>
            <a:ext cx="92836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2000" indent="-72000" algn="ctr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72000" indent="-7200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72000" indent="-72000" algn="ctr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72000" indent="-72000" algn="ctr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72000" indent="-72000" algn="ctr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72000" indent="-72000" algn="ctr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B62-B951-413C-9360-77AEF594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2720" y="2925360"/>
            <a:ext cx="518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3200" y="6453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06:38:52Z</dcterms:created>
  <dc:creator>Alpenstock</dc:creator>
  <dc:description/>
  <dc:language>en-US</dc:language>
  <cp:lastModifiedBy/>
  <dcterms:modified xsi:type="dcterms:W3CDTF">2015-01-10T11:42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