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CE2-5C3F-4296-979B-79358D24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94A-FAEB-4BBB-ACC2-EFF07104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28E-DEBF-4265-8018-643888BA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222-353F-4765-95BF-6BE8F4EE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0D49-640D-452C-A131-004F40A0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5775-5030-46EE-B181-2453E7B7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BEDD-4932-4F94-BC8F-27387FDC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2853-14A9-411B-A5E3-337DBC3A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C23F-C0AF-40AE-BCA3-72B1E474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B279-D3D0-4E52-B347-6AD3B722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46E0-1936-47A0-9C22-AB24BCD8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F31-F910-4B8A-8987-7D61B0D8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408E-2A15-471E-AA0C-328DB0D4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A570-EBAC-425E-AAFE-B4F63432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7705-74A2-4652-85FE-5D50FFEC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3A59-3160-4433-A5CD-1AEC1813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A85D-8942-4C90-8B20-8A3C2E03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A38-BFF1-4504-A91E-63CE4D24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17E-3BF3-4793-93A9-FD6D0AF0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255-99BE-4998-B011-87ABA7A7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1D4-4F53-4D5C-B22E-AE35DB9F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91C-BC7D-4FEE-B95F-04DFD5A5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0FF-CE66-4F3E-911C-CD2D5D49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696-BC88-4AF2-A1D9-3BA3980C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4A29-9EC9-4FA7-97F2-00369DD0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38AC-CF0E-4D78-B4A0-5FE48C486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降落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64480" y="50436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8640" y="4965840"/>
            <a:ext cx="605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5398920"/>
            <a:chOff x="0" y="0"/>
            <a:chExt cx="8466120" cy="539892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349640"/>
              <a:ext cx="84661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42920" y="280980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/>
  <dcterms:modified xsi:type="dcterms:W3CDTF">2015-01-10T11:49:4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