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CBA-8542-42BB-9BBA-2CD8FA95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25F-631B-41E2-8823-834B438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915-5D06-4DE5-9DD1-8528CFC1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379-3604-4421-9CE5-78BA7178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70AF-0DA4-4C5F-91A0-775DD5BC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7E8-1D00-441A-A411-391E5B2B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3C1-1ECC-4D78-B778-88B8FDD2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1DAC-C3A3-40BE-9FED-C7A333D2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733-D7B2-40EE-A4FD-5985D90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F29-15C8-44E3-8A4E-8182DACB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1E3-8F08-41FF-BB8A-88FC2F9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9AE-5B98-4CF1-8B8F-67317E0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BF29-4F10-4E8E-9EF7-26BAF7C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037-DD37-4340-90DB-19FB81DD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B066-46F7-4933-A4AB-47C5B71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861A-5F3D-4575-A77C-16447983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F9C2-1530-461A-BBB2-BF42EDFE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98-D080-45B3-9F47-76480BDD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039-BAE9-49BB-8F34-12CE409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9A0-BAEF-4F7A-BB59-BD9FAAC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A18-33BD-4825-B09A-D4ACFF69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0BF-4028-45B1-92E9-CE67B33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54F-3C52-44FB-83A8-57B99AB1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582-73C1-4A10-8C04-88E2A86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89B-8313-426A-B411-017F4DFE7E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BCF-AA86-4B62-9CAA-F44519041A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7930-1192-4633-9D73-8616B9032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638" b="5189"/>
          <a:stretch/>
        </p:blipFill>
        <p:spPr>
          <a:xfrm>
            <a:off x="0" y="1440"/>
            <a:ext cx="9142560" cy="105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12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3:33:00Z</dcterms:created>
  <dc:creator>善水达人</dc:creator>
  <dc:description/>
  <dc:language>en-US</dc:language>
  <cp:lastModifiedBy>善水达人</cp:lastModifiedBy>
  <dcterms:modified xsi:type="dcterms:W3CDTF">2015-01-11T06:54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