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D07-8F90-4261-B417-87508971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E7F-7CD9-4302-914E-B4F4A015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0EE-05B7-462A-9338-6716B0EF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6F0-BBF6-44C0-8307-2823CCB9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4507-BFC3-4077-BFEB-20312B6B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C957-F681-45C7-BEA2-709B2B9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EF5C-CEAB-41B8-8E9F-11333658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61F-3FB5-455E-AF22-34A068C7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884-13C1-444C-A1ED-3AF7DD54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E909-9821-4BEF-B504-572A20D0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C89F-9CFB-4300-BA89-66BDD8E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510-6D20-4407-A887-0FE01F19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1983-C840-4070-9EE2-0C3CB75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3FFC-C56C-48DB-95DB-E6B846D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3592-EEC2-409E-A80D-0901BA1D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AC2E-B8BD-4175-99DE-C15CF756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00E3-39CB-476F-8638-11FB4F9E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E30-0F1E-4CCE-9843-8052D06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11E-88DC-4F1E-8CEF-78050EF1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12F-2155-44BC-9F62-7B6EF53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86D-77E0-491C-AE4F-9DCB6BD3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E3E-407B-43F9-B1B7-0F93B6A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77E-4B9F-4EC3-8E6E-073E55F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D20-AEFA-4C50-A567-576F942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F9D5-083A-4EBF-A35A-861623A7D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9A6E-7A8F-4BBE-B2E0-0347FA45A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52448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0:35:52Z</dcterms:created>
  <dc:creator>Administrator</dc:creator>
  <dc:description/>
  <dc:language>en-US</dc:language>
  <cp:lastModifiedBy/>
  <dcterms:modified xsi:type="dcterms:W3CDTF">2015-01-10T12:13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