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EBC5-0B9F-4009-839E-82EE045E8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95280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B1D5-FCE7-454F-B976-4591DEE64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7D0F-CCFE-4CCD-8C27-0BD5B2C76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6E00-429A-4362-AFEF-763FFD6BB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6160" y="11854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7EC7-5462-41CE-B0DC-99945CAAA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95280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36C2-32C6-4A12-8CF7-BAC9B5E2C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4578-25F6-4212-88B3-F32598C4D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0D27-7994-4655-868A-1EF1AD0C0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6160" y="11854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E0C3-F63E-4272-A556-42525131F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EB33-E7F5-415B-9647-AF49B01EB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9DE9-DAA1-4CCF-B2AA-37BEC34DF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17BD-CD6F-4833-9558-41F699FFB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80360" cy="6878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9E7EEB9-0007-487D-A4F9-11E416E7C46A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30240" y="0"/>
            <a:ext cx="917424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370040"/>
            <a:ext cx="5408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5093dc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370040"/>
            <a:ext cx="5408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76280" y="5450040"/>
            <a:ext cx="5400720" cy="5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734040" y="0"/>
              <a:ext cx="6430680" cy="520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458a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458a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458a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0:56:42Z</dcterms:created>
  <dc:creator/>
  <dc:description/>
  <dc:language>en-US</dc:language>
  <cp:lastModifiedBy/>
  <dcterms:modified xsi:type="dcterms:W3CDTF">2015-01-11T13:58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