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448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80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448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80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7520" y="28080"/>
            <a:ext cx="83059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448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18040" y="14475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448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18040" y="36763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520" y="28080"/>
            <a:ext cx="83059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0320" y="36763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520" y="-342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4475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6763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520" y="28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920" y="2381400"/>
            <a:ext cx="3781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4560" y="5640120"/>
            <a:ext cx="46479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1920" y="4876920"/>
            <a:ext cx="53341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Microsoft Sans Serif"/>
                <a:ea typeface="宋体"/>
              </a:rPr>
              <a:t>卡通人物计算机</a:t>
            </a:r>
            <a:r>
              <a:rPr b="0" lang="zh-CN" sz="3600" spc="-1" strike="noStrike">
                <a:solidFill>
                  <a:srgbClr val="333333"/>
                </a:solidFill>
                <a:latin typeface="Microsoft Sans Serif"/>
                <a:ea typeface="宋体"/>
              </a:rPr>
              <a:t>PPT</a:t>
            </a:r>
            <a:r>
              <a:rPr b="0" lang="zh-CN" sz="3600" spc="-1" strike="noStrike">
                <a:solidFill>
                  <a:srgbClr val="333333"/>
                </a:solidFill>
                <a:latin typeface="Microsoft Sans Serif"/>
                <a:ea typeface="宋体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397280" y="6477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7164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7520" y="280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02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标题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"/>
          <p:cNvSpPr/>
          <p:nvPr/>
        </p:nvSpPr>
        <p:spPr>
          <a:xfrm>
            <a:off x="2249640" y="63244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471b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Nick</cp:lastModifiedBy>
  <dcterms:modified xsi:type="dcterms:W3CDTF">2015-01-10T08:50:30Z</dcterms:modified>
  <cp:revision>3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