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4B59-072C-4BD5-AF84-325477527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0F2F-69F0-4D37-913F-4ED385C9D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9BAA-AB3E-408D-B560-07777D0C3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37CC-81B5-43A6-8F5A-CC8A4F897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F3F5-CFF5-4D1C-ABAE-A26D8790D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E5A3-58A9-41E3-9ED0-C43D676F5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A999-11D4-43AA-BD50-A19496B68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6D4B-5382-4617-82F2-C84223DC0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3144-9ECC-47EA-A986-A30254DF1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282D-608E-4700-B7AD-03A29DE8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52FA-A5B4-45E0-8E05-1101C919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D945-53B5-419F-9A63-88668E0D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9/18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12D53-BA3E-40C9-A100-B815C0A222D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7120" y="2285640"/>
            <a:ext cx="850104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请在此输入标题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7093440" y="6454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4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Administrator</dc:creator>
  <dc:description/>
  <dc:language>en-US</dc:language>
  <cp:lastModifiedBy>xudongwei</cp:lastModifiedBy>
  <dcterms:modified xsi:type="dcterms:W3CDTF">2015-01-10T11:54:06Z</dcterms:modified>
  <cp:revision>30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