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8A9D4-1283-4283-B8FB-5BDA393A2B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2BB7E-8A24-4030-83F3-6981CDDC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BEF76-58C9-4187-B730-A3F02317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D226-646C-462C-93D6-5901AFFC8F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B1A54-02D0-4F28-836D-F8BC7441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19D82-3F1E-4EF6-853E-93DEA28D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D7683-3F57-408B-8521-7C5A40A3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7A22E-DF31-4D52-B6A4-93ED54E8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0430E-9684-4EE8-AEBD-2878B67C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0A5EA-D935-42FE-BA59-7B8997D3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3D9F7-EA3A-4D91-BC89-8F94C8DD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A2329-532C-45E3-B02F-2A0B31A6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E43FB-BB20-4718-B640-21929546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EC149-250F-4EB2-A08A-1849F980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5AD17-DE98-469D-A107-CC506761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E0571-80D1-4E5F-9CF3-98729D1D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3FE03-19FA-428C-BA90-D0375DF6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EC1E-931E-4ADA-90BC-94B3C507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BD72E-E47A-4BB0-96F6-C57F202E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89AE1-4E14-4A30-A033-D448E463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2EB81-CD4C-4E47-B562-5E590B69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3BDBF-1D98-4263-AD7B-C574B448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F8D76-23BF-48F2-88C5-1842689A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4890C-7FF6-4E31-9425-06F70DD9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e815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6e815b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0AEE-8595-497A-A3A8-00E81B6BFEC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5" name="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19160" y="336564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ABD4-1AB7-49A7-8CD0-D748A4F0D4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e815b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2514600"/>
            <a:ext cx="60195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酷炫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科技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PPT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模板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下载</a:t>
            </a:r>
            <a:endParaRPr b="1" lang="en-US" sz="40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95120" y="3200400"/>
            <a:ext cx="5715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411480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162920" y="64771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8880" y="1666800"/>
            <a:ext cx="754704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984c9"/>
                    </a:gs>
                    <a:gs pos="100000">
                      <a:srgbClr val="2e6272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984c9"/>
                  </a:gs>
                  <a:gs pos="100000">
                    <a:srgbClr val="2e6272"/>
                  </a:gs>
                </a:gsLst>
                <a:lin ang="1080000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3366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3366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3366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3366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9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6e815b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6e815b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6e815b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4:52:28Z</dcterms:created>
  <dc:creator>Sung Ha, Park</dc:creator>
  <dc:description/>
  <dc:language>en-US</dc:language>
  <cp:lastModifiedBy>Sung Ha, Park</cp:lastModifiedBy>
  <dcterms:modified xsi:type="dcterms:W3CDTF">2015-01-10T08:41:09Z</dcterms:modified>
  <cp:revision>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