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C8B-D813-41E1-B2D2-B34136B8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B9A-0A8B-41AD-96D9-04E1639B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85D-3372-49C1-8197-4ED5DE8B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46B-1FC8-45C6-A71A-70ED1A3D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0CE-21BB-4E0C-9E9E-7ECF08A0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A08-E4F6-411E-BDA3-B5A9E9D2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FAE-854D-46CF-A59E-0B273B0C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D2B-4EF4-494E-9953-FCCFF9ED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5EF-E1E4-4CF8-9535-BB5640EB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AA3-0B9B-46D3-8490-84133F5D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00C-E4E6-4B20-891C-A87712C1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1A5-1719-44F7-8994-04ADB807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EC6-CCC6-4413-AB1A-2D7BBABD3630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1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80a331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6104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a331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80a33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796680"/>
            <a:ext cx="77580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80a33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569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434600" y="501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6:02:56Z</dcterms:created>
  <dc:creator>我爱PPT官方网 - 中文演示设计平台 www.iloveppt.org; Eric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cp:lastPrinted>1899-12-30T00:00:00Z</cp:lastPrinted>
  <dcterms:modified xsi:type="dcterms:W3CDTF">2014-05-27T09:29:10Z</dcterms:modified>
  <cp:revision>24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