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5E9-0A06-4A24-9229-5D6F699D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EAD-F11B-4A65-B175-A18D57BB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9A2-88A5-49E3-AAE4-AF227C2D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C0E-B19A-4CA8-B6C5-3D642510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521-9F9B-4F04-94AE-71CD508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96BE-0EDA-4A96-837A-A70A920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A7F0-E4D9-4B50-8079-577538D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39F2-E8E1-4B88-9345-B38CCC9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8507-485A-42A3-AD93-3E07A773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406E-99CC-4F1B-9FEB-80137CC9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5BE-87A5-4635-A8BF-C51AC76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A89-DF46-4EF6-AC36-70308913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6BD-1E4C-410E-B08A-FE8C7A1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976B-E172-461D-90BC-4D9E1B9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110-3531-4A63-9869-DD5AACF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F2FB-8D2F-44BE-916E-302AF2A8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A5D-F31D-4360-84EC-2C7B196D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813-5B29-42E0-B00F-F30D8A70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461-EFE2-44D9-B37F-A243303A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D4F-D949-4BA6-8716-C46E0B9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01B-58E5-4A46-B93E-30E1070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D4E-EF24-48C2-8177-D20EF62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C1F-AF45-4752-9EAC-D8F3C7A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32A-92BA-4A14-9D50-93B720D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F97C-7D5C-497A-A8BF-7BF5E657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11280" y="5165280"/>
            <a:ext cx="8506800" cy="1479600"/>
            <a:chOff x="611280" y="5165280"/>
            <a:chExt cx="8506800" cy="1479600"/>
          </a:xfrm>
        </p:grpSpPr>
        <p:grpSp>
          <p:nvGrpSpPr>
            <p:cNvPr id="9" name=""/>
            <p:cNvGrpSpPr/>
            <p:nvPr/>
          </p:nvGrpSpPr>
          <p:grpSpPr>
            <a:xfrm>
              <a:off x="8093520" y="5165280"/>
              <a:ext cx="1024560" cy="1187640"/>
              <a:chOff x="8093520" y="5165280"/>
              <a:chExt cx="1024560" cy="1187640"/>
            </a:xfrm>
          </p:grpSpPr>
          <p:sp>
            <p:nvSpPr>
              <p:cNvPr id="10" name="未知"/>
              <p:cNvSpPr/>
              <p:nvPr/>
            </p:nvSpPr>
            <p:spPr>
              <a:xfrm rot="7320000">
                <a:off x="8102520" y="54864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7320000">
                <a:off x="8244720" y="5450760"/>
                <a:ext cx="660600" cy="45576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093520" y="5165280"/>
                <a:ext cx="1024560" cy="1187640"/>
                <a:chOff x="8093520" y="5165280"/>
                <a:chExt cx="1024560" cy="1187640"/>
              </a:xfrm>
            </p:grpSpPr>
            <p:sp>
              <p:nvSpPr>
                <p:cNvPr id="14" name="未知"/>
                <p:cNvSpPr/>
                <p:nvPr/>
              </p:nvSpPr>
              <p:spPr>
                <a:xfrm rot="7320000">
                  <a:off x="8217720" y="590400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7320000">
                  <a:off x="8075880" y="5485680"/>
                  <a:ext cx="1059120" cy="5464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7320000">
                  <a:off x="8384400" y="5603760"/>
                  <a:ext cx="749520" cy="308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7320000">
                  <a:off x="8862480" y="5396400"/>
                  <a:ext cx="100080" cy="2073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7320000">
                  <a:off x="8474400" y="5597640"/>
                  <a:ext cx="306360" cy="18216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21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CD7-8CB8-4905-9E59-21D2FD00D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11280" y="5165280"/>
            <a:ext cx="8506800" cy="1479600"/>
            <a:chOff x="611280" y="5165280"/>
            <a:chExt cx="8506800" cy="1479600"/>
          </a:xfrm>
        </p:grpSpPr>
        <p:grpSp>
          <p:nvGrpSpPr>
            <p:cNvPr id="68" name=""/>
            <p:cNvGrpSpPr/>
            <p:nvPr/>
          </p:nvGrpSpPr>
          <p:grpSpPr>
            <a:xfrm>
              <a:off x="8093520" y="5165280"/>
              <a:ext cx="1024560" cy="1187640"/>
              <a:chOff x="8093520" y="5165280"/>
              <a:chExt cx="1024560" cy="1187640"/>
            </a:xfrm>
          </p:grpSpPr>
          <p:sp>
            <p:nvSpPr>
              <p:cNvPr id="69" name="未知"/>
              <p:cNvSpPr/>
              <p:nvPr/>
            </p:nvSpPr>
            <p:spPr>
              <a:xfrm rot="7320000">
                <a:off x="8102520" y="54864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rot="7320000">
                <a:off x="8244720" y="5450760"/>
                <a:ext cx="660600" cy="45576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8093520" y="5165280"/>
                <a:ext cx="1024560" cy="1187640"/>
                <a:chOff x="8093520" y="5165280"/>
                <a:chExt cx="1024560" cy="1187640"/>
              </a:xfrm>
            </p:grpSpPr>
            <p:sp>
              <p:nvSpPr>
                <p:cNvPr id="73" name="未知"/>
                <p:cNvSpPr/>
                <p:nvPr/>
              </p:nvSpPr>
              <p:spPr>
                <a:xfrm rot="7320000">
                  <a:off x="8217720" y="590400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 rot="7320000">
                  <a:off x="8075880" y="5485680"/>
                  <a:ext cx="1059120" cy="5464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 rot="7320000">
                  <a:off x="8384400" y="5603760"/>
                  <a:ext cx="749520" cy="308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 rot="7320000">
                  <a:off x="8862480" y="5396400"/>
                  <a:ext cx="100080" cy="2073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未知"/>
                <p:cNvSpPr/>
                <p:nvPr/>
              </p:nvSpPr>
              <p:spPr>
                <a:xfrm rot="7320000">
                  <a:off x="8474400" y="5597640"/>
                  <a:ext cx="306360" cy="18216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80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84" name="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85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89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请输入课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讲师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135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138" name="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139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143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040" y="63086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411280" y="1413000"/>
            <a:ext cx="5043600" cy="720360"/>
            <a:chOff x="2411280" y="1413000"/>
            <a:chExt cx="5043600" cy="720360"/>
          </a:xfrm>
        </p:grpSpPr>
        <p:sp>
          <p:nvSpPr>
            <p:cNvPr id="151" name="未知"/>
            <p:cNvSpPr/>
            <p:nvPr/>
          </p:nvSpPr>
          <p:spPr>
            <a:xfrm>
              <a:off x="2411280" y="19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280" y="1413000"/>
              <a:ext cx="4393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一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11280" y="2205000"/>
            <a:ext cx="5043600" cy="790200"/>
            <a:chOff x="2411280" y="2205000"/>
            <a:chExt cx="5043600" cy="790200"/>
          </a:xfrm>
        </p:grpSpPr>
        <p:sp>
          <p:nvSpPr>
            <p:cNvPr id="154" name="未知"/>
            <p:cNvSpPr/>
            <p:nvPr/>
          </p:nvSpPr>
          <p:spPr>
            <a:xfrm>
              <a:off x="2411280" y="2780280"/>
              <a:ext cx="5043600" cy="21492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71280" y="220500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二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11280" y="3070080"/>
            <a:ext cx="5043600" cy="863280"/>
            <a:chOff x="2411280" y="3070080"/>
            <a:chExt cx="5043600" cy="863280"/>
          </a:xfrm>
        </p:grpSpPr>
        <p:sp>
          <p:nvSpPr>
            <p:cNvPr id="157" name="未知"/>
            <p:cNvSpPr/>
            <p:nvPr/>
          </p:nvSpPr>
          <p:spPr>
            <a:xfrm>
              <a:off x="2411280" y="37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1280" y="307008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三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411280" y="3789360"/>
            <a:ext cx="5043600" cy="892080"/>
            <a:chOff x="2411280" y="3789360"/>
            <a:chExt cx="5043600" cy="892080"/>
          </a:xfrm>
        </p:grpSpPr>
        <p:sp>
          <p:nvSpPr>
            <p:cNvPr id="160" name="未知"/>
            <p:cNvSpPr/>
            <p:nvPr/>
          </p:nvSpPr>
          <p:spPr>
            <a:xfrm>
              <a:off x="2411280" y="4509360"/>
              <a:ext cx="5043600" cy="172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1280" y="3789360"/>
              <a:ext cx="4393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11280" y="4581360"/>
            <a:ext cx="5043600" cy="1036440"/>
            <a:chOff x="2411280" y="4581360"/>
            <a:chExt cx="5043600" cy="1036440"/>
          </a:xfrm>
        </p:grpSpPr>
        <p:sp>
          <p:nvSpPr>
            <p:cNvPr id="163" name="未知"/>
            <p:cNvSpPr/>
            <p:nvPr/>
          </p:nvSpPr>
          <p:spPr>
            <a:xfrm>
              <a:off x="2411280" y="5301720"/>
              <a:ext cx="5043600" cy="316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71280" y="4581360"/>
              <a:ext cx="439272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0" y="-11160"/>
            <a:ext cx="2211480" cy="6850080"/>
            <a:chOff x="0" y="-11160"/>
            <a:chExt cx="2211480" cy="6850080"/>
          </a:xfrm>
        </p:grpSpPr>
        <p:grpSp>
          <p:nvGrpSpPr>
            <p:cNvPr id="166" name=""/>
            <p:cNvGrpSpPr/>
            <p:nvPr/>
          </p:nvGrpSpPr>
          <p:grpSpPr>
            <a:xfrm>
              <a:off x="0" y="-11160"/>
              <a:ext cx="2211480" cy="6850080"/>
              <a:chOff x="0" y="-11160"/>
              <a:chExt cx="2211480" cy="6850080"/>
            </a:xfrm>
          </p:grpSpPr>
          <p:sp>
            <p:nvSpPr>
              <p:cNvPr id="167" name="未知"/>
              <p:cNvSpPr/>
              <p:nvPr/>
            </p:nvSpPr>
            <p:spPr>
              <a:xfrm>
                <a:off x="0" y="3240"/>
                <a:ext cx="2211480" cy="683568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2880" y="-11160"/>
                <a:ext cx="1523160" cy="685008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 txBox="1"/>
            <p:nvPr/>
          </p:nvSpPr>
          <p:spPr>
            <a:xfrm rot="5400000">
              <a:off x="-609480" y="1128960"/>
              <a:ext cx="2515320" cy="937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目录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74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75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一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04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85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86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二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95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96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 txBox="1"/>
            <p:nvPr/>
          </p:nvSpPr>
          <p:spPr>
            <a:xfrm rot="5400000">
              <a:off x="-1013760" y="151884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第三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304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08000" y="764640"/>
            <a:ext cx="6778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202" name="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203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 txBox="1"/>
            <p:nvPr/>
          </p:nvSpPr>
          <p:spPr>
            <a:xfrm rot="5400000">
              <a:off x="-721440" y="1231920"/>
              <a:ext cx="2733840" cy="936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00ff00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楷体_GB2312"/>
                </a:rPr>
                <a:t>结束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47:35Z</dcterms:created>
  <dc:creator/>
  <dc:description/>
  <dc:language>en-US</dc:language>
  <cp:lastModifiedBy/>
  <dcterms:modified xsi:type="dcterms:W3CDTF">2015-01-11T14:03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