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21E-60CA-4678-81D8-FD50113C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1CD-4471-4949-B40A-44FF402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D71-700D-47F7-8CB4-0C7D91BB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6FF-C892-4A44-933B-3F856819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14B-B714-48B4-B230-96BE5935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648-1C47-44F1-A144-5DA48621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E3E-733A-4DF8-B79C-1CC9B7BF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EEA-1FA4-43ED-B512-FFB0B945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43B-0858-4A71-9346-82EEED42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5EB-2AA7-4ECF-9FA9-85D97736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18B-39ED-413B-B75F-8DFECDB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382-43E4-4B90-93CD-B29BD88B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D88E-A48C-4D76-9B91-50BB14FC9AA7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in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755640" y="4365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此处添加标题专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"/>
          <p:cNvSpPr/>
          <p:nvPr/>
        </p:nvSpPr>
        <p:spPr>
          <a:xfrm>
            <a:off x="71056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ASTER04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24000" y="18900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此处添加标题专业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1:06:09Z</dcterms:created>
  <dc:creator>我爱PPT官方网 - 中文演示设计平台 www.iloveppt.org; OFF_LINE02</dc:creator>
  <dc:description>我爱PPT官方网 - 中文演示设计平台 www.iloveppt.org</dc:description>
  <cp:keywords>我爱PPT官方网 - 中文演示设计平台 www.iloveppt.org</cp:keywords>
  <dc:language>en-US</dc:language>
  <cp:lastModifiedBy>rachel</cp:lastModifiedBy>
  <dcterms:modified xsi:type="dcterms:W3CDTF">2015-01-11T14:02:15Z</dcterms:modified>
  <cp:revision>7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