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636-FF4F-4DA9-9A56-846C42E9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A94-B58B-4370-99CC-194DDE5C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49E-150A-4C68-8A25-27281858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8DE-80AD-4281-8674-9108B8A7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6257-7B18-4577-AA8D-22EF13ED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3F42-7E59-4626-A280-C15205DA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8252-3C11-4773-A22E-F19989DB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A97E-3512-46FA-AAFF-3E5E28D0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1F9C-6E86-4AB8-BAE2-A1E09988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FE86-1E67-43D7-A97C-C65E3060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F13C-9C1D-465F-A33E-9B0AE8F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AC0-C903-48C7-B2EA-00297BA8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F5E6-7035-431D-81CE-C43B6E4F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8497-7AC3-4033-A8FC-F3BAFE1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7E7E-8A50-493B-A19A-1AAC6E2B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01B8-12A5-43A8-BF96-53E8D61D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6BEE-5163-4B75-96D5-E5C9E191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4DE-987E-4AC3-8883-83746375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A6C-A837-4A55-A2A2-B3959141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867-30B3-4D5A-82C3-D0331645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309-6F59-4962-8374-2C5CBD1A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100-DC7F-4C10-B3A9-1918FC8E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CE4-864A-4C07-A859-D997B15D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53B-B64D-43B0-B8E7-66C1DB1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5A9A-3B82-45AA-B830-F28AF8B7F0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8B20-7B06-43F1-BA03-376EE056EC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00360"/>
            <a:ext cx="64008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Rounded MT Bold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Rounded MT Bol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Rounded MT Bold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8:21Z</dcterms:created>
  <dc:creator/>
  <dc:description/>
  <dc:language>en-US</dc:language>
  <cp:lastModifiedBy/>
  <dcterms:modified xsi:type="dcterms:W3CDTF">2015-01-10T12:21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