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996C-2131-4711-9C07-829595741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AB05-623D-44CD-AD34-F4E5B79B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11E3-C7BE-491F-B410-21FF6BB25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E6A5-93A7-45E3-928E-79DCD969A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50FDD-562F-45A9-8921-9AFF98291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FA25-754F-4891-8776-EF8A7577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9D37-B5B2-47CE-9F7E-ECF9C80C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0391-6DED-4A51-8703-3FA083E1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9E93-4561-4932-A648-CDF92C8C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9F07-DBF4-427F-8CD4-33B99081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C1BA-0423-427E-B5B5-04D28BDD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9C88-4577-4F3D-8043-E74C42B0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1F0B-A0EA-4D8E-B5B3-0049E449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1DBD6-87CB-4AB1-9C28-F28EFD05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E809-F6F5-4FB8-A9E2-42B07488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5426-D0E8-4BC3-9C98-3E38FC428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3937-FD86-4E02-8393-293AA44D2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21FD-86FB-4D3E-8F94-74723DA6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3693-99B7-429A-8BF6-A6B47AED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FCA5-0305-49F1-858B-8D5ADD77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86AE-D31A-44C2-9A42-A2121CB0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3146-2F13-4DE7-B6EF-2357E6BA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6CD0-F780-4F45-B01A-B933C6CF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A36B-6638-498A-947B-BDC1A36C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608A-702D-4243-8871-330530EDC6B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A5DA-C84F-46F3-B67D-3F2C4673852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41497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Impact"/>
              </a:rPr>
              <a:t>蓝天白云</a:t>
            </a:r>
            <a:r>
              <a:rPr b="1" lang="zh-CN" sz="4000" spc="-1" strike="noStrike">
                <a:solidFill>
                  <a:srgbClr val="ffffff"/>
                </a:solidFill>
                <a:latin typeface="Impact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Impact"/>
              </a:rPr>
              <a:t>模板</a:t>
            </a: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4360" y="5373360"/>
            <a:ext cx="7775280" cy="6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09440" y="645336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Times New Roman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8:55:43Z</dcterms:created>
  <dc:creator>zouendong</dc:creator>
  <dc:description/>
  <dc:language>en-US</dc:language>
  <cp:lastModifiedBy>zouendong</cp:lastModifiedBy>
  <dcterms:modified xsi:type="dcterms:W3CDTF">2015-01-10T12:01:12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