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1010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280" y="4170960"/>
            <a:ext cx="81010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280" y="417096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0440" y="417096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26082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8160" y="1989000"/>
            <a:ext cx="26082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400" y="1989000"/>
            <a:ext cx="26082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280" y="4170960"/>
            <a:ext cx="26082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8160" y="4170960"/>
            <a:ext cx="26082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400" y="4170960"/>
            <a:ext cx="26082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280" y="1989000"/>
            <a:ext cx="8101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101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953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3953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50560" y="325440"/>
            <a:ext cx="74898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3953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280" y="417096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280" y="1989000"/>
            <a:ext cx="8101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953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0440" y="417096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280" y="4170960"/>
            <a:ext cx="81010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1010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280" y="4170960"/>
            <a:ext cx="81010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17096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0440" y="417096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26082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8160" y="1989000"/>
            <a:ext cx="26082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7400" y="1989000"/>
            <a:ext cx="26082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280" y="4170960"/>
            <a:ext cx="26082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8160" y="4170960"/>
            <a:ext cx="26082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7400" y="4170960"/>
            <a:ext cx="26082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101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953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3953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325440"/>
            <a:ext cx="74898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3953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280" y="417096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953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0440" y="417096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39531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280" y="4170960"/>
            <a:ext cx="810108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305000"/>
            <a:ext cx="9144000" cy="5553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606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31680" y="44280"/>
            <a:ext cx="1084320" cy="108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9280" y="1989000"/>
            <a:ext cx="8101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632640"/>
            <a:ext cx="4572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  <a:ea typeface="Gulim"/>
              </a:rPr>
              <a:t>Your company sloga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070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3494160"/>
            <a:ext cx="4572000" cy="3363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413080" y="3789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08040" y="2781360"/>
            <a:ext cx="792468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4c4c4c"/>
                  </a:outerShdw>
                </a:effectLst>
                <a:latin typeface="Verdana"/>
              </a:rPr>
              <a:t>Power Point Templat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4c4c4c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2305080" y="4797360"/>
            <a:ext cx="1438200" cy="574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efef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65840" y="6300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101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petitor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rength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our strengths relative to competitor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eakness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our weaknesses relative to competitor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[Images information in this product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itle/Slide page :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mage Created &amp; licensed by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Yeon Kyu-Karp, http://waveman.woweb.net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ote to customers: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is image has been licensed to be used within this PowerPoint template only.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You may not extract the image for any other use.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able of Cont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65280" y="2065320"/>
            <a:ext cx="7811640" cy="571680"/>
            <a:chOff x="665280" y="2065320"/>
            <a:chExt cx="7811640" cy="5716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665280" y="2065320"/>
              <a:ext cx="781164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88480" y="2135520"/>
              <a:ext cx="7368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1. Introdu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65280" y="3249720"/>
            <a:ext cx="7811640" cy="539640"/>
            <a:chOff x="665280" y="3249720"/>
            <a:chExt cx="7811640" cy="53964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665280" y="3249720"/>
              <a:ext cx="781164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88480" y="3315960"/>
              <a:ext cx="73684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2. Main subjec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65280" y="4329000"/>
            <a:ext cx="7811640" cy="540000"/>
            <a:chOff x="665280" y="4329000"/>
            <a:chExt cx="7811640" cy="54000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665280" y="4329000"/>
              <a:ext cx="7811640" cy="5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88480" y="4395240"/>
              <a:ext cx="73684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3. Examp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65280" y="5410080"/>
            <a:ext cx="7811640" cy="540000"/>
            <a:chOff x="665280" y="5410080"/>
            <a:chExt cx="7811640" cy="540000"/>
          </a:xfrm>
        </p:grpSpPr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665280" y="5410080"/>
              <a:ext cx="7811640" cy="5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88480" y="5476320"/>
              <a:ext cx="73684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4. Conclu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4776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>
            <a:off x="5472000" y="2303640"/>
            <a:ext cx="1224000" cy="105408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592360" y="4437000"/>
            <a:ext cx="1297080" cy="11160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9280" y="2313000"/>
            <a:ext cx="1044720" cy="9716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4400640"/>
            <a:ext cx="1405080" cy="12096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4160" y="2746440"/>
            <a:ext cx="2155680" cy="235584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466560" y="1924200"/>
            <a:ext cx="2052720" cy="2046240"/>
            <a:chOff x="466560" y="1924200"/>
            <a:chExt cx="2052720" cy="204624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466560" y="1924200"/>
              <a:ext cx="2052720" cy="20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66560" y="1924200"/>
              <a:ext cx="2026440" cy="2024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66560" y="4119480"/>
            <a:ext cx="2052720" cy="2046240"/>
            <a:chOff x="466560" y="4119480"/>
            <a:chExt cx="2052720" cy="204624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466560" y="4119480"/>
              <a:ext cx="2052720" cy="20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66560" y="4119480"/>
              <a:ext cx="2026440" cy="2024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696000" y="4119480"/>
            <a:ext cx="2052720" cy="2046240"/>
            <a:chOff x="6696000" y="4119480"/>
            <a:chExt cx="2052720" cy="204624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6696000" y="4119480"/>
              <a:ext cx="2052720" cy="20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696000" y="4119480"/>
              <a:ext cx="2026440" cy="2024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696000" y="1924200"/>
            <a:ext cx="2052720" cy="2046240"/>
            <a:chOff x="6696000" y="1924200"/>
            <a:chExt cx="2052720" cy="2046240"/>
          </a:xfrm>
        </p:grpSpPr>
        <p:pic>
          <p:nvPicPr>
            <p:cNvPr id="118" name="" descr=""/>
            <p:cNvPicPr/>
            <p:nvPr/>
          </p:nvPicPr>
          <p:blipFill>
            <a:blip r:embed="rId5"/>
            <a:stretch/>
          </p:blipFill>
          <p:spPr>
            <a:xfrm>
              <a:off x="6696000" y="1924200"/>
              <a:ext cx="2052720" cy="20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96000" y="1924200"/>
              <a:ext cx="2026440" cy="2024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688760" y="2082960"/>
            <a:ext cx="5727240" cy="3761280"/>
            <a:chOff x="1688760" y="2082960"/>
            <a:chExt cx="5727240" cy="3761280"/>
          </a:xfrm>
        </p:grpSpPr>
        <p:sp>
          <p:nvSpPr>
            <p:cNvPr id="122" name=""/>
            <p:cNvSpPr/>
            <p:nvPr/>
          </p:nvSpPr>
          <p:spPr>
            <a:xfrm flipH="1">
              <a:off x="5462640" y="2082960"/>
              <a:ext cx="927000" cy="80856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331240" y="4674240"/>
              <a:ext cx="1026360" cy="10321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694840" y="3760200"/>
              <a:ext cx="172116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09120" y="226692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09560" y="299592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09560" y="461196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04800" y="547596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5840" y="450000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85600" y="305136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688760" y="3760200"/>
              <a:ext cx="172116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5480" y="2082960"/>
              <a:ext cx="927000" cy="80856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814840" y="4674240"/>
              <a:ext cx="1026360" cy="10321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12920" y="2671920"/>
            <a:ext cx="29181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0560" y="1916280"/>
            <a:ext cx="8101080" cy="4357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19040" y="6345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48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9640" y="1413000"/>
            <a:ext cx="7488000" cy="5435280"/>
            <a:chOff x="539640" y="1413000"/>
            <a:chExt cx="7488000" cy="543528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748800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未知"/>
            <p:cNvSpPr/>
            <p:nvPr/>
          </p:nvSpPr>
          <p:spPr>
            <a:xfrm>
              <a:off x="3175200" y="2743560"/>
              <a:ext cx="3839760" cy="1076040"/>
            </a:xfrm>
            <a:custGeom>
              <a:avLst/>
              <a:gdLst/>
              <a:ahLst/>
              <a:rect l="l" t="t" r="r" b="b"/>
              <a:pathLst>
                <a:path w="2280" h="588">
                  <a:moveTo>
                    <a:pt x="0" y="588"/>
                  </a:moveTo>
                  <a:lnTo>
                    <a:pt x="594" y="474"/>
                  </a:lnTo>
                  <a:lnTo>
                    <a:pt x="1182" y="102"/>
                  </a:lnTo>
                  <a:lnTo>
                    <a:pt x="1752" y="528"/>
                  </a:lnTo>
                  <a:lnTo>
                    <a:pt x="2280" y="0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round/>
              <a:headEnd len="sm" type="oval" w="sm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ThemeGallery</dc:creator>
  <dc:description/>
  <dc:language>en-US</dc:language>
  <cp:lastModifiedBy>sinbin</cp:lastModifiedBy>
  <dcterms:modified xsi:type="dcterms:W3CDTF">2015-01-11T07:20:38Z</dcterms:modified>
  <cp:revision>47</cp:revision>
  <dc:subject/>
  <dc:title>040TGp_time_mon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