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671D261-DE3C-4681-A469-54A7A5FB9C9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149720"/>
            <a:ext cx="9182160" cy="1800360"/>
          </a:xfrm>
          <a:prstGeom prst="rect">
            <a:avLst/>
          </a:prstGeom>
          <a:gradFill rotWithShape="0">
            <a:gsLst>
              <a:gs pos="0">
                <a:srgbClr val="4f7913"/>
              </a:gs>
              <a:gs pos="100000">
                <a:srgbClr val="2642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2940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76640"/>
            <a:ext cx="918216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50080"/>
            <a:ext cx="9182160" cy="88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ps.cn/addons/ThreadView/wdid-6152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8360" y="525420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68360" y="42940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34080" y="5518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9440" y="2349360"/>
            <a:ext cx="8207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素材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表添加请使用</a:t>
            </a:r>
            <a:r>
              <a:rPr b="1" lang="zh-CN" sz="1200" spc="-1" strike="noStrike" u="sng">
                <a:solidFill>
                  <a:srgbClr val="26420a"/>
                </a:solidFill>
                <a:uFillTx/>
                <a:latin typeface="Arial"/>
                <a:hlinkClick r:id="rId1"/>
              </a:rPr>
              <a:t>在线素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，在【插入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【在线素材】，选择相应的类别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90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91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6fc01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4f791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26420a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ade97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4608360" y="4508640"/>
            <a:ext cx="34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1-10T12:49:24Z</dcterms:modified>
  <cp:revision>3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