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244-C93C-4C24-9B51-8136D62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120-D603-4188-855C-66E38ED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88A-A15C-4B5B-B3A0-203B6C7F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6E6-8506-4CA6-966F-BE15A73E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C39E-02F2-4C86-9410-7BEBB763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469-310D-45D1-A995-7D14CE4A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7B75-9C87-4943-A374-B984DB2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9F5-F32B-4F64-989F-129F9554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657D-1D8B-40D5-8652-57ADA321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D3B-551C-465C-AFA5-2F0BCE14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96B7-6721-4FC9-A3A3-85B8C3E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ACA-A237-476D-B05A-5643D2C5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B83F-85FF-46F2-B2D9-7474E18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62E-CE43-4193-89E3-3C7AFBE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3BB1-CBDD-4F47-91F3-1D31C03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1C1-9C45-49C3-920B-8D3505A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422-73BD-4BA3-BEF6-5EA8A8E9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21A-E2F4-4BA7-B4BF-2A5100D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9DD-B3DE-4C97-91A3-EA91F53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13D-077A-4377-9C97-F040C6A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314-8231-4F73-8556-D7456CA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56C-4A42-4C56-94B9-474D743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F50-0F65-4B2D-811A-E67DAD2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E51-1FC8-499D-8C0C-69214D0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117-26DE-4D47-829D-1A32958024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3F5C-7EED-457A-938D-564DA7417E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6500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湛蓝情深</a:t>
            </a:r>
            <a:endParaRPr b="0" lang="en-US" sz="40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0360" y="1536840"/>
            <a:ext cx="6534000" cy="742680"/>
            <a:chOff x="360360" y="1536840"/>
            <a:chExt cx="6534000" cy="742680"/>
          </a:xfrm>
        </p:grpSpPr>
        <p:pic>
          <p:nvPicPr>
            <p:cNvPr id="87" name="副标题 2" descr=""/>
            <p:cNvPicPr/>
            <p:nvPr/>
          </p:nvPicPr>
          <p:blipFill>
            <a:blip r:embed="rId1"/>
            <a:stretch/>
          </p:blipFill>
          <p:spPr>
            <a:xfrm>
              <a:off x="360360" y="1536840"/>
              <a:ext cx="65340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8760" y="1604880"/>
              <a:ext cx="6400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叶根友行书繁"/>
                  <a:ea typeface="叶根友行书繁"/>
                </a:rPr>
                <a:t>Design by </a:t>
              </a:r>
              <a:r>
                <a:rPr b="1" lang="zh-CN" sz="2800" spc="-1" strike="noStrike">
                  <a:solidFill>
                    <a:srgbClr val="0070c0"/>
                  </a:solidFill>
                  <a:latin typeface="叶根友行书繁"/>
                  <a:ea typeface="叶根友行书繁"/>
                </a:rPr>
                <a:t>eeppt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0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/>
            <a:ahLst/>
            <a:rect l="l" t="t" r="r" b="b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0"/>
                </a:lnTo>
                <a:lnTo>
                  <a:pt x="6954838" y="3387807"/>
                </a:lnTo>
                <a:cubicBezTo>
                  <a:pt x="6954838" y="3659555"/>
                  <a:pt x="6734543" y="3879850"/>
                  <a:pt x="6462795" y="3879850"/>
                </a:cubicBezTo>
                <a:lnTo>
                  <a:pt x="0" y="3879850"/>
                </a:ln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0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04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05200" y="2577960"/>
            <a:ext cx="3726000" cy="3505320"/>
            <a:chOff x="4705200" y="2577960"/>
            <a:chExt cx="3726000" cy="3505320"/>
          </a:xfrm>
        </p:grpSpPr>
        <p:pic>
          <p:nvPicPr>
            <p:cNvPr id="109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705200" y="2577960"/>
              <a:ext cx="3726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927320" y="2803320"/>
              <a:ext cx="32814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12800" y="2577960"/>
            <a:ext cx="3726000" cy="3505320"/>
            <a:chOff x="712800" y="2577960"/>
            <a:chExt cx="3726000" cy="3505320"/>
          </a:xfrm>
        </p:grpSpPr>
        <p:pic>
          <p:nvPicPr>
            <p:cNvPr id="112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12800" y="2577960"/>
              <a:ext cx="3726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34920" y="2803320"/>
              <a:ext cx="328140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51200" y="1573200"/>
            <a:ext cx="1249200" cy="24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43600" y="1560600"/>
            <a:ext cx="1249200" cy="24620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1880" y="2577960"/>
            <a:ext cx="3706920" cy="3487680"/>
            <a:chOff x="731880" y="2577960"/>
            <a:chExt cx="3706920" cy="3487680"/>
          </a:xfrm>
        </p:grpSpPr>
        <p:pic>
          <p:nvPicPr>
            <p:cNvPr id="117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31880" y="2577960"/>
              <a:ext cx="370692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01720" y="2643120"/>
              <a:ext cx="357192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94400" y="2577960"/>
            <a:ext cx="3706560" cy="3487680"/>
            <a:chOff x="4694400" y="2577960"/>
            <a:chExt cx="3706560" cy="3487680"/>
          </a:xfrm>
        </p:grpSpPr>
        <p:pic>
          <p:nvPicPr>
            <p:cNvPr id="120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94400" y="2577960"/>
              <a:ext cx="3706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763880" y="2643120"/>
              <a:ext cx="357156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标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3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5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004840" y="2084400"/>
            <a:ext cx="5133960" cy="2994120"/>
            <a:chOff x="2004840" y="2084400"/>
            <a:chExt cx="5133960" cy="2994120"/>
          </a:xfrm>
        </p:grpSpPr>
        <p:pic>
          <p:nvPicPr>
            <p:cNvPr id="127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2004840" y="2084400"/>
              <a:ext cx="513396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71440" y="2152800"/>
              <a:ext cx="500076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06520" y="858960"/>
            <a:ext cx="6491160" cy="1207800"/>
            <a:chOff x="506520" y="858960"/>
            <a:chExt cx="6491160" cy="1207800"/>
          </a:xfrm>
        </p:grpSpPr>
        <p:pic>
          <p:nvPicPr>
            <p:cNvPr id="131" name="副标题 2" descr=""/>
            <p:cNvPicPr/>
            <p:nvPr/>
          </p:nvPicPr>
          <p:blipFill>
            <a:blip r:embed="rId1"/>
            <a:stretch/>
          </p:blipFill>
          <p:spPr>
            <a:xfrm>
              <a:off x="506520" y="858960"/>
              <a:ext cx="649116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680" y="928440"/>
              <a:ext cx="63579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379240" y="6380280"/>
            <a:ext cx="42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经典特宋简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52Z</dcterms:created>
  <dc:creator>rachel</dc:creator>
  <dc:description/>
  <dc:language>en-US</dc:language>
  <cp:lastModifiedBy>微软中国</cp:lastModifiedBy>
  <dcterms:modified xsi:type="dcterms:W3CDTF">2015-01-11T07:25:48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