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532-67FF-48F9-AC79-D4625158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471-A8E0-4C97-8BB5-185CB850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11C-38E0-465C-ACA3-57B12E8E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AAF-BD04-464F-A40C-7FE85C28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6FBD-4773-431C-9B45-F55343F8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066D-43E8-4FEA-B24F-05FE5D9F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1E7C-1707-4DBE-8185-0BDAE436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6BE8-8678-40F8-B3DE-D2923281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D158-A0E5-4D9E-BC38-75C0549B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E3E1-4F4B-4C41-8346-110094F5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136E-04DF-44EA-916F-8840CA3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E24-8BEB-4C4C-84EC-E0EE269C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41F8-6914-4986-AE61-AF4F089A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2948-0D47-443E-9CEA-38293885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32A6-783B-417B-B213-55A69E0C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E591-7071-4157-BF9C-5F8F41F6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F9CD-A4CB-4796-8FEF-F26A65B0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DE52-CB8D-4033-AED2-4492AF5B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0FD8-386E-4556-BD20-505DBF53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DAEB4-6C6A-4D07-9EB4-067C938B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EE99-D585-47E8-B4CD-9E201EB2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A2576-6C2C-4080-B54E-630904CE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839-3E36-47CB-B78E-82DB4954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50568-4E2A-47C1-92FA-2A141151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C01F-0108-4195-9730-5C1A1BC8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1A699-9C2C-46AD-8D51-226E4CE9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2D89-E0BC-4597-B99E-DD5C534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54FD-6D4B-4F73-B264-15822975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EC81-21D8-4079-90AE-3C1829C7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36F91-0C6C-4A66-8D06-A0A279C0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33E-C51A-4F63-87F0-35FC3FDB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256-AFF7-4C38-B10A-924AF02B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2BF-1941-40A4-8CA2-9934F0DA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1AA-9B4E-4BC8-B021-C1E7DBC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B50-446F-4687-BE84-2B4AE999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D54-B390-41C5-96A2-0B06C8CF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280" y="231480"/>
            <a:ext cx="64911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1344240"/>
            <a:ext cx="6491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B9DE-B228-40B0-B706-5E52BCF13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88840"/>
            <a:ext cx="77724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AE60-15C5-4B3B-8C92-A1219DD28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347840"/>
            <a:ext cx="82292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3F8D-03E4-4526-AB38-E89BFE299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88840"/>
            <a:ext cx="77724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263760"/>
            <a:ext cx="64008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7640" y="511164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231480"/>
            <a:ext cx="64911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95280" y="1344240"/>
            <a:ext cx="6491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8466120" cy="5759280"/>
            <a:chOff x="0" y="0"/>
            <a:chExt cx="8466120" cy="575928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39640"/>
              <a:ext cx="84661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37520" y="29980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0:26:36Z</dcterms:created>
  <dc:creator>Administrator</dc:creator>
  <dc:description/>
  <dc:language>en-US</dc:language>
  <cp:lastModifiedBy/>
  <dcterms:modified xsi:type="dcterms:W3CDTF">2015-01-10T12:48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