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180-0029-420D-93FC-4631EF19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52-FA56-4FA4-8016-23A56F7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61C-721D-467D-94EF-398C498E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A0F-9308-461E-B5EB-F3776546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0AB-AF91-41C7-A45A-B74F385F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592-B9E0-4D7A-A1D1-D8B2FCB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CA3-3363-484E-A47B-AE9844D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137-46EB-4DDA-9548-CDA182BA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C6F-CBFB-40BA-8CAF-FA1AAD0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C71-BC3A-4275-AF9D-F755856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43C-E981-47BF-88E4-944FEB3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523-E855-48C3-AE26-92C80B32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58C1-275D-4D48-BCAE-3AD03B4D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61,24,&#24187;&#28783;&#29255; 24" TargetMode="External"/><Relationship Id="rId5" Type="http://schemas.openxmlformats.org/officeDocument/2006/relationships/hyperlink" Target="261,24,&#24187;&#28783;&#29255; 24" TargetMode="External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86,25,&#24187;&#28783;&#29255; 25" TargetMode="External"/><Relationship Id="rId5" Type="http://schemas.openxmlformats.org/officeDocument/2006/relationships/hyperlink" Target="286,25,&#24187;&#28783;&#29255; 25" TargetMode="External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0311.oo16t.com/new_view.asp?id=21598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0311.oo16t.com/new_view.asp?id=21598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0311.oo16t.com/new_view.asp?id=21598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240" y="-20520"/>
            <a:ext cx="9137880" cy="687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570040"/>
            <a:ext cx="716436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6720" y="10922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Arial"/>
                <a:ea typeface="方正超粗黑简体"/>
              </a:rPr>
              <a:t>礼仪与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627280" y="1916280"/>
            <a:ext cx="6769080" cy="642600"/>
            <a:chOff x="2627280" y="1916280"/>
            <a:chExt cx="6769080" cy="642600"/>
          </a:xfrm>
        </p:grpSpPr>
        <p:sp>
          <p:nvSpPr>
            <p:cNvPr id="46" name=""/>
            <p:cNvSpPr/>
            <p:nvPr/>
          </p:nvSpPr>
          <p:spPr>
            <a:xfrm>
              <a:off x="2627280" y="191628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2800" y="2190600"/>
              <a:ext cx="144360" cy="1440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心圆 9"/>
          <p:cNvSpPr/>
          <p:nvPr/>
        </p:nvSpPr>
        <p:spPr>
          <a:xfrm>
            <a:off x="6372360" y="2825640"/>
            <a:ext cx="730080" cy="730440"/>
          </a:xfrm>
          <a:custGeom>
            <a:avLst/>
            <a:gdLst/>
            <a:ahLst/>
            <a:rect l="l" t="t" r="r" b="b"/>
            <a:pathLst>
              <a:path w="730506" h="730506">
                <a:moveTo>
                  <a:pt x="0" y="365253"/>
                </a:moveTo>
                <a:cubicBezTo>
                  <a:pt x="0" y="163529"/>
                  <a:pt x="163529" y="0"/>
                  <a:pt x="365253" y="0"/>
                </a:cubicBezTo>
                <a:cubicBezTo>
                  <a:pt x="566977" y="0"/>
                  <a:pt x="730506" y="163529"/>
                  <a:pt x="730506" y="365253"/>
                </a:cubicBezTo>
                <a:cubicBezTo>
                  <a:pt x="730506" y="566977"/>
                  <a:pt x="566977" y="730506"/>
                  <a:pt x="365253" y="730506"/>
                </a:cubicBezTo>
                <a:cubicBezTo>
                  <a:pt x="163529" y="730506"/>
                  <a:pt x="0" y="566977"/>
                  <a:pt x="0" y="365253"/>
                </a:cubicBezTo>
                <a:close/>
                <a:moveTo>
                  <a:pt x="65629" y="365253"/>
                </a:moveTo>
                <a:cubicBezTo>
                  <a:pt x="65629" y="530731"/>
                  <a:pt x="199775" y="664877"/>
                  <a:pt x="365253" y="664877"/>
                </a:cubicBezTo>
                <a:cubicBezTo>
                  <a:pt x="530731" y="664877"/>
                  <a:pt x="664877" y="530731"/>
                  <a:pt x="664877" y="365253"/>
                </a:cubicBezTo>
                <a:cubicBezTo>
                  <a:pt x="664877" y="199775"/>
                  <a:pt x="530731" y="65629"/>
                  <a:pt x="365253" y="65629"/>
                </a:cubicBezTo>
                <a:cubicBezTo>
                  <a:pt x="199775" y="65629"/>
                  <a:pt x="65629" y="199775"/>
                  <a:pt x="65629" y="3652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5"/>
          <p:cNvSpPr/>
          <p:nvPr/>
        </p:nvSpPr>
        <p:spPr>
          <a:xfrm>
            <a:off x="6943680" y="2330280"/>
            <a:ext cx="450720" cy="451080"/>
          </a:xfrm>
          <a:custGeom>
            <a:avLst/>
            <a:gdLst/>
            <a:ahLst/>
            <a:rect l="l" t="t" r="r" b="b"/>
            <a:pathLst>
              <a:path w="730506" h="730506">
                <a:moveTo>
                  <a:pt x="0" y="365253"/>
                </a:moveTo>
                <a:cubicBezTo>
                  <a:pt x="0" y="163529"/>
                  <a:pt x="163529" y="0"/>
                  <a:pt x="365253" y="0"/>
                </a:cubicBezTo>
                <a:cubicBezTo>
                  <a:pt x="566977" y="0"/>
                  <a:pt x="730506" y="163529"/>
                  <a:pt x="730506" y="365253"/>
                </a:cubicBezTo>
                <a:cubicBezTo>
                  <a:pt x="730506" y="566977"/>
                  <a:pt x="566977" y="730506"/>
                  <a:pt x="365253" y="730506"/>
                </a:cubicBezTo>
                <a:cubicBezTo>
                  <a:pt x="163529" y="730506"/>
                  <a:pt x="0" y="566977"/>
                  <a:pt x="0" y="365253"/>
                </a:cubicBezTo>
                <a:close/>
                <a:moveTo>
                  <a:pt x="65629" y="365253"/>
                </a:moveTo>
                <a:cubicBezTo>
                  <a:pt x="65629" y="530731"/>
                  <a:pt x="199775" y="664877"/>
                  <a:pt x="365253" y="664877"/>
                </a:cubicBezTo>
                <a:cubicBezTo>
                  <a:pt x="530731" y="664877"/>
                  <a:pt x="664877" y="530731"/>
                  <a:pt x="664877" y="365253"/>
                </a:cubicBezTo>
                <a:cubicBezTo>
                  <a:pt x="664877" y="199775"/>
                  <a:pt x="530731" y="65629"/>
                  <a:pt x="365253" y="65629"/>
                </a:cubicBezTo>
                <a:cubicBezTo>
                  <a:pt x="199775" y="65629"/>
                  <a:pt x="65629" y="199775"/>
                  <a:pt x="65629" y="365253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8"/>
          <p:cNvSpPr/>
          <p:nvPr/>
        </p:nvSpPr>
        <p:spPr>
          <a:xfrm>
            <a:off x="7596360" y="1700280"/>
            <a:ext cx="441000" cy="441360"/>
          </a:xfrm>
          <a:custGeom>
            <a:avLst/>
            <a:gdLst/>
            <a:ahLst/>
            <a:rect l="l" t="t" r="r" b="b"/>
            <a:pathLst>
              <a:path w="714380" h="714380">
                <a:moveTo>
                  <a:pt x="0" y="357190"/>
                </a:moveTo>
                <a:cubicBezTo>
                  <a:pt x="0" y="159919"/>
                  <a:pt x="159919" y="0"/>
                  <a:pt x="357190" y="0"/>
                </a:cubicBezTo>
                <a:cubicBezTo>
                  <a:pt x="554461" y="0"/>
                  <a:pt x="714380" y="159919"/>
                  <a:pt x="714380" y="357190"/>
                </a:cubicBezTo>
                <a:cubicBezTo>
                  <a:pt x="714380" y="554461"/>
                  <a:pt x="554461" y="714380"/>
                  <a:pt x="357190" y="714380"/>
                </a:cubicBezTo>
                <a:cubicBezTo>
                  <a:pt x="159919" y="714380"/>
                  <a:pt x="0" y="554461"/>
                  <a:pt x="0" y="357190"/>
                </a:cubicBezTo>
                <a:close/>
                <a:moveTo>
                  <a:pt x="64180" y="357190"/>
                </a:moveTo>
                <a:cubicBezTo>
                  <a:pt x="64180" y="519015"/>
                  <a:pt x="195365" y="650200"/>
                  <a:pt x="357190" y="650200"/>
                </a:cubicBezTo>
                <a:cubicBezTo>
                  <a:pt x="519015" y="650200"/>
                  <a:pt x="650200" y="519015"/>
                  <a:pt x="650200" y="357190"/>
                </a:cubicBezTo>
                <a:cubicBezTo>
                  <a:pt x="650200" y="195365"/>
                  <a:pt x="519015" y="64180"/>
                  <a:pt x="357190" y="64180"/>
                </a:cubicBezTo>
                <a:cubicBezTo>
                  <a:pt x="195365" y="64180"/>
                  <a:pt x="64180" y="195365"/>
                  <a:pt x="64180" y="357190"/>
                </a:cubicBezTo>
                <a:close/>
              </a:path>
            </a:pathLst>
          </a:cu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4"/>
          <p:cNvSpPr/>
          <p:nvPr/>
        </p:nvSpPr>
        <p:spPr>
          <a:xfrm>
            <a:off x="395280" y="2505240"/>
            <a:ext cx="233280" cy="23004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5"/>
          <p:cNvSpPr/>
          <p:nvPr/>
        </p:nvSpPr>
        <p:spPr>
          <a:xfrm>
            <a:off x="1112760" y="2017800"/>
            <a:ext cx="290520" cy="2872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3"/>
          <p:cNvSpPr/>
          <p:nvPr/>
        </p:nvSpPr>
        <p:spPr>
          <a:xfrm>
            <a:off x="1905120" y="3505320"/>
            <a:ext cx="287280" cy="284040"/>
          </a:xfrm>
          <a:custGeom>
            <a:avLst/>
            <a:gdLst/>
            <a:ahLst/>
            <a:rect l="l" t="t" r="r" b="b"/>
            <a:pathLst>
              <a:path w="1428736" h="1428736">
                <a:moveTo>
                  <a:pt x="0" y="714368"/>
                </a:moveTo>
                <a:cubicBezTo>
                  <a:pt x="0" y="319833"/>
                  <a:pt x="319833" y="0"/>
                  <a:pt x="714368" y="0"/>
                </a:cubicBezTo>
                <a:cubicBezTo>
                  <a:pt x="1108903" y="0"/>
                  <a:pt x="1428736" y="319833"/>
                  <a:pt x="1428736" y="714368"/>
                </a:cubicBezTo>
                <a:cubicBezTo>
                  <a:pt x="1428736" y="1108903"/>
                  <a:pt x="1108903" y="1428736"/>
                  <a:pt x="714368" y="1428736"/>
                </a:cubicBezTo>
                <a:cubicBezTo>
                  <a:pt x="319833" y="1428736"/>
                  <a:pt x="0" y="1108903"/>
                  <a:pt x="0" y="714368"/>
                </a:cubicBezTo>
                <a:close/>
                <a:moveTo>
                  <a:pt x="128358" y="714368"/>
                </a:moveTo>
                <a:cubicBezTo>
                  <a:pt x="128358" y="1038012"/>
                  <a:pt x="390724" y="1300378"/>
                  <a:pt x="714368" y="1300378"/>
                </a:cubicBezTo>
                <a:cubicBezTo>
                  <a:pt x="1038012" y="1300378"/>
                  <a:pt x="1300378" y="1038012"/>
                  <a:pt x="1300378" y="714368"/>
                </a:cubicBezTo>
                <a:cubicBezTo>
                  <a:pt x="1300378" y="390724"/>
                  <a:pt x="1038012" y="128358"/>
                  <a:pt x="714368" y="128358"/>
                </a:cubicBezTo>
                <a:cubicBezTo>
                  <a:pt x="390724" y="128358"/>
                  <a:pt x="128358" y="390724"/>
                  <a:pt x="128358" y="714368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4"/>
          <p:cNvSpPr/>
          <p:nvPr/>
        </p:nvSpPr>
        <p:spPr>
          <a:xfrm>
            <a:off x="2262240" y="3505320"/>
            <a:ext cx="71280" cy="69840"/>
          </a:xfrm>
          <a:custGeom>
            <a:avLst/>
            <a:gdLst/>
            <a:ahLst/>
            <a:rect l="l" t="t" r="r" b="b"/>
            <a:pathLst>
              <a:path w="214314" h="214314">
                <a:moveTo>
                  <a:pt x="0" y="107157"/>
                </a:moveTo>
                <a:cubicBezTo>
                  <a:pt x="0" y="47976"/>
                  <a:pt x="47976" y="0"/>
                  <a:pt x="107157" y="0"/>
                </a:cubicBezTo>
                <a:cubicBezTo>
                  <a:pt x="166338" y="0"/>
                  <a:pt x="214314" y="47976"/>
                  <a:pt x="214314" y="107157"/>
                </a:cubicBezTo>
                <a:cubicBezTo>
                  <a:pt x="214314" y="166338"/>
                  <a:pt x="166338" y="214314"/>
                  <a:pt x="107157" y="214314"/>
                </a:cubicBezTo>
                <a:cubicBezTo>
                  <a:pt x="47976" y="214314"/>
                  <a:pt x="0" y="166338"/>
                  <a:pt x="0" y="107157"/>
                </a:cubicBezTo>
                <a:close/>
                <a:moveTo>
                  <a:pt x="19254" y="107157"/>
                </a:moveTo>
                <a:cubicBezTo>
                  <a:pt x="19254" y="155704"/>
                  <a:pt x="58610" y="195060"/>
                  <a:pt x="107157" y="195060"/>
                </a:cubicBezTo>
                <a:cubicBezTo>
                  <a:pt x="155704" y="195060"/>
                  <a:pt x="195060" y="155704"/>
                  <a:pt x="195060" y="107157"/>
                </a:cubicBezTo>
                <a:cubicBezTo>
                  <a:pt x="195060" y="58610"/>
                  <a:pt x="155704" y="19254"/>
                  <a:pt x="107157" y="19254"/>
                </a:cubicBezTo>
                <a:cubicBezTo>
                  <a:pt x="58610" y="19254"/>
                  <a:pt x="19254" y="58610"/>
                  <a:pt x="19254" y="107157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0920" y="5289480"/>
            <a:ext cx="3313080" cy="515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225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22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3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3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1476360" y="1984320"/>
            <a:ext cx="60483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的地点设在对方的办公区域，则应着正装或所在单位的制服，既代表了单位的形象，又传递出“你很重视这次拜访”的友好信息，使其愿意与你合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24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24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5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5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三）拜访的举止与要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1258920" y="1700280"/>
            <a:ext cx="47530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办公区域时的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到达接待处，清晰、礼貌的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报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被带到接待处时安静等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见被访对象主动起身招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自我介绍，并对对方抽出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贵时间表示感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1542960" y="3139920"/>
            <a:ext cx="258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259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26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6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7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2050920" y="2325600"/>
            <a:ext cx="3600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次见面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人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事务性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礼品赠送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542960" y="3139920"/>
            <a:ext cx="258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971640" y="2492280"/>
            <a:ext cx="1152000" cy="2448000"/>
            <a:chOff x="971640" y="2492280"/>
            <a:chExt cx="1152000" cy="2448000"/>
          </a:xfrm>
        </p:grpSpPr>
        <p:sp>
          <p:nvSpPr>
            <p:cNvPr id="276" name=""/>
            <p:cNvSpPr/>
            <p:nvPr/>
          </p:nvSpPr>
          <p:spPr>
            <a:xfrm>
              <a:off x="971640" y="3279600"/>
              <a:ext cx="62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礼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0480" y="2492280"/>
              <a:ext cx="443160" cy="2448000"/>
            </a:xfrm>
            <a:custGeom>
              <a:avLst/>
              <a:gdLst>
                <a:gd name="textAreaLeft" fmla="*/ 283320 w 443160"/>
                <a:gd name="textAreaRight" fmla="*/ 443520 w 4431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280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28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89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9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1405080" y="2852640"/>
            <a:ext cx="5759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一次拜访的概括性夸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善于及时发现在上次拜访后的细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女主人接待，一定要给予适当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赞美一定要尽量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187280" y="1951200"/>
            <a:ext cx="3384720" cy="1251720"/>
            <a:chOff x="1187280" y="1951200"/>
            <a:chExt cx="3384720" cy="1251720"/>
          </a:xfrm>
        </p:grpSpPr>
        <p:sp>
          <p:nvSpPr>
            <p:cNvPr id="295" name=""/>
            <p:cNvSpPr/>
            <p:nvPr/>
          </p:nvSpPr>
          <p:spPr>
            <a:xfrm>
              <a:off x="1788480" y="1951200"/>
              <a:ext cx="22028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次见面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7280" y="2709720"/>
              <a:ext cx="3384720" cy="709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258920" y="3111480"/>
            <a:ext cx="163440" cy="1614600"/>
            <a:chOff x="1258920" y="3111480"/>
            <a:chExt cx="163440" cy="1614600"/>
          </a:xfrm>
        </p:grpSpPr>
        <p:pic>
          <p:nvPicPr>
            <p:cNvPr id="298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258920" y="311148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258920" y="365760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268280" y="4167000"/>
              <a:ext cx="144720" cy="1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7"/>
            <a:srcRect l="56532" t="0" r="0" b="0"/>
            <a:stretch/>
          </p:blipFill>
          <p:spPr>
            <a:xfrm>
              <a:off x="1278000" y="460548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305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30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1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1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要守时守约，若特殊情况不能前去，一定要提前通知对方，表示歉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讲究敲门的艺术：食指弯曲，指关节敲门，力度适中，间隔有序敲三下，等待回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门后，将随身带来的外套、雨具等放到主人指定的地点，不要随处乱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20" name="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114560" y="2924280"/>
            <a:ext cx="153360" cy="2082240"/>
            <a:chOff x="1114560" y="2924280"/>
            <a:chExt cx="153360" cy="208224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114560" y="292428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114560" y="387324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123560" y="488592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328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33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3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3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没有提出就座不能随便坐下。主人认座之后一定要表示谢意，不能有不文明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跟主人谈话，语言要客气。注意掌握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道别：起身告辞，要向主人表示“打扰”之意。“请留步”、“再见”！不要起身后一去不回头，让主人觉得很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43" name="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116000" y="2924280"/>
            <a:ext cx="154080" cy="1632960"/>
            <a:chOff x="1116000" y="2924280"/>
            <a:chExt cx="154080" cy="1632960"/>
          </a:xfrm>
        </p:grpSpPr>
        <p:pic>
          <p:nvPicPr>
            <p:cNvPr id="346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116000" y="292428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116000" y="387324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125360" y="4436640"/>
              <a:ext cx="14472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35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35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6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6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1187280" y="2565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首要规则是准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到达时，告知对方接待人员你的名字和预约的时间，递上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安静，耐心的等待，不要在中途打电话，或者看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被引到办公室时，如果是第一次见面先做自我介绍；如果认识，互相问候并握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66" name="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事务性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04292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042920" y="3357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052640" y="4365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057320" y="530208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374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37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8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8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1476360" y="2565360"/>
            <a:ext cx="590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搞清楚对象，注重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抓准时机，注意场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挑选礼品要精心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89" name="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拜访礼品赠送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332000" y="30924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332000" y="35956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332000" y="4149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同心圆 14"/>
          <p:cNvSpPr/>
          <p:nvPr/>
        </p:nvSpPr>
        <p:spPr>
          <a:xfrm>
            <a:off x="-25560" y="1398600"/>
            <a:ext cx="97020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398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404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40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二：宴会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409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413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41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2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2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1116000" y="2276640"/>
            <a:ext cx="72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象    明确宴请主宾的身份、国籍、习俗、爱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，以确定宴会的规格、主陪人、餐式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的    明确目的，便于安排宴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和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    原则：适、少、和、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形式    正式宴会、冷餐会、酒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茶会、工作餐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00000" y="1844640"/>
            <a:ext cx="5526000" cy="825480"/>
            <a:chOff x="900000" y="1844640"/>
            <a:chExt cx="5526000" cy="825480"/>
          </a:xfrm>
        </p:grpSpPr>
        <p:sp>
          <p:nvSpPr>
            <p:cNvPr id="428" name=""/>
            <p:cNvSpPr/>
            <p:nvPr/>
          </p:nvSpPr>
          <p:spPr>
            <a:xfrm>
              <a:off x="2143440" y="184464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一）明确宴请对象、目的、范围、形式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0000" y="2300400"/>
              <a:ext cx="5526000" cy="82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227640" y="3500280"/>
            <a:ext cx="2521080" cy="2521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95280" y="2852640"/>
            <a:ext cx="4537080" cy="1604160"/>
            <a:chOff x="395280" y="2852640"/>
            <a:chExt cx="4537080" cy="1604160"/>
          </a:xfrm>
        </p:grpSpPr>
        <p:grpSp>
          <p:nvGrpSpPr>
            <p:cNvPr id="59" name=""/>
            <p:cNvGrpSpPr/>
            <p:nvPr/>
          </p:nvGrpSpPr>
          <p:grpSpPr>
            <a:xfrm>
              <a:off x="482760" y="2852640"/>
              <a:ext cx="4449600" cy="1604160"/>
              <a:chOff x="482760" y="2852640"/>
              <a:chExt cx="4449600" cy="1604160"/>
            </a:xfrm>
          </p:grpSpPr>
          <p:sp>
            <p:nvSpPr>
              <p:cNvPr id="60" name=""/>
              <p:cNvSpPr/>
              <p:nvPr/>
            </p:nvSpPr>
            <p:spPr>
              <a:xfrm>
                <a:off x="828720" y="2852640"/>
                <a:ext cx="4103640" cy="16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必备知识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拜访、家宴、礼品赠送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等礼仪要求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" name="" descr=""/>
              <p:cNvPicPr/>
              <p:nvPr/>
            </p:nvPicPr>
            <p:blipFill>
              <a:blip r:embed="rId2"/>
              <a:srcRect l="56532" t="0" r="0" b="0"/>
              <a:stretch/>
            </p:blipFill>
            <p:spPr>
              <a:xfrm>
                <a:off x="482760" y="2968560"/>
                <a:ext cx="36036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"/>
            <p:cNvSpPr/>
            <p:nvPr/>
          </p:nvSpPr>
          <p:spPr>
            <a:xfrm>
              <a:off x="395280" y="3284280"/>
              <a:ext cx="338472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788000" y="4797360"/>
            <a:ext cx="4139280" cy="1092600"/>
            <a:chOff x="4788000" y="4797360"/>
            <a:chExt cx="4139280" cy="1092600"/>
          </a:xfrm>
        </p:grpSpPr>
        <p:grpSp>
          <p:nvGrpSpPr>
            <p:cNvPr id="64" name=""/>
            <p:cNvGrpSpPr/>
            <p:nvPr/>
          </p:nvGrpSpPr>
          <p:grpSpPr>
            <a:xfrm>
              <a:off x="4860720" y="4797360"/>
              <a:ext cx="4066560" cy="1092600"/>
              <a:chOff x="4860720" y="4797360"/>
              <a:chExt cx="4066560" cy="1092600"/>
            </a:xfrm>
          </p:grpSpPr>
          <p:sp>
            <p:nvSpPr>
              <p:cNvPr id="65" name=""/>
              <p:cNvSpPr/>
              <p:nvPr/>
            </p:nvSpPr>
            <p:spPr>
              <a:xfrm>
                <a:off x="5255640" y="4797360"/>
                <a:ext cx="36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素质养成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礼貌、时间管理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" descr=""/>
              <p:cNvPicPr/>
              <p:nvPr/>
            </p:nvPicPr>
            <p:blipFill>
              <a:blip r:embed="rId3"/>
              <a:srcRect l="56532" t="0" r="0" b="0"/>
              <a:stretch/>
            </p:blipFill>
            <p:spPr>
              <a:xfrm>
                <a:off x="4860720" y="492768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"/>
            <p:cNvSpPr/>
            <p:nvPr/>
          </p:nvSpPr>
          <p:spPr>
            <a:xfrm>
              <a:off x="4788000" y="5302080"/>
              <a:ext cx="338436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896000" y="2276640"/>
            <a:ext cx="5147280" cy="1092600"/>
            <a:chOff x="4896000" y="2276640"/>
            <a:chExt cx="5147280" cy="1092600"/>
          </a:xfrm>
        </p:grpSpPr>
        <p:grpSp>
          <p:nvGrpSpPr>
            <p:cNvPr id="69" name=""/>
            <p:cNvGrpSpPr/>
            <p:nvPr/>
          </p:nvGrpSpPr>
          <p:grpSpPr>
            <a:xfrm>
              <a:off x="5111640" y="2276640"/>
              <a:ext cx="4931640" cy="1092600"/>
              <a:chOff x="5111640" y="2276640"/>
              <a:chExt cx="4931640" cy="1092600"/>
            </a:xfrm>
          </p:grpSpPr>
          <p:sp>
            <p:nvSpPr>
              <p:cNvPr id="70" name=""/>
              <p:cNvSpPr/>
              <p:nvPr/>
            </p:nvSpPr>
            <p:spPr>
              <a:xfrm>
                <a:off x="5471640" y="2276640"/>
                <a:ext cx="45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核心技能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社交拜访能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4"/>
              <a:srcRect l="56532" t="0" r="0" b="0"/>
              <a:stretch/>
            </p:blipFill>
            <p:spPr>
              <a:xfrm>
                <a:off x="5111640" y="242064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4896000" y="2784240"/>
              <a:ext cx="338436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18 C -8.33333E-007 0.01851 -0.00573 0.02453 -0.0125 0.02453 C -0.02031 0.02453 -0.02326 0.01805 -0.02465 0.01412 L -0.02569 0.00926 C -0.02708 0.00532 -0.03003 -0.0007 -0.03906 -0.0007 C -0.04479 -0.0007 -0.05121 0.00486 -0.05121 0.0118 C -0.05121 0.01851 -0.04479 0.02453 -0.03906 0.02453 C -0.03003 0.02453 -0.02708 0.01805 -0.02569 0.01412 L -0.02465 0.00926 C -0.02326 0.00532 -0.02031 -0.0007 -0.0125 -0.0007 C -0.00573 -0.0007 -8.33333E-007 0.00486 -8.33333E-007 0.0118 Z">
                                      <p:cBhvr>
                                        <p:cTn id="9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4.81481E-006 C -1.38889E-006 0.00718 0.00643 0.0132 0.01424 0.0132 C 0.02379 0.0132 0.02708 0.00649 0.02847 0.00255 L 0.03004 -0.00254 C 0.03143 -0.00671 0.03507 -0.01296 0.04566 -0.01296 C 0.05243 -0.01296 0.06024 -0.00717 0.06024 -4.81481E-006 C 0.06024 0.00718 0.05243 0.0132 0.04566 0.0132 C 0.03507 0.0132 0.03143 0.00649 0.03004 0.00255 L 0.02847 -0.00254 C 0.02708 -0.00671 0.02379 -0.01296 0.01424 -0.01296 C 0.00643 -0.01296 -1.38889E-006 -0.00717 -1.38889E-006 -4.81481E-006 Z">
                                      <p:cBhvr>
                                        <p:cTn id="14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132 0.00532 C -0.04132 0.01665 -0.04896 0.02636 -0.05834 0.02636 C -0.06945 0.02636 -0.07327 0.01572 -0.075 0.00925 L -0.07674 0.00116 C -0.07848 -0.00508 -0.08282 -0.01549 -0.09497 -0.01549 C -0.10313 -0.01549 -0.11216 -0.00624 -0.11216 0.00532 C -0.11216 0.01665 -0.10313 0.02636 -0.09497 0.02636 C -0.08282 0.02636 -0.07848 0.01572 -0.07674 0.00925 L -0.075 0.00116 C -0.07327 -0.00508 -0.06945 -0.01549 -0.05834 -0.01549 C -0.04896 -0.01549 -0.04132 -0.00624 -0.04132 0.00532 Z">
                                      <p:cBhvr>
                                        <p:cTn id="19" dur="10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433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43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4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4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476360" y="421956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时间：不选重大节日、假日、或禁忌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先和主宾协商，再发邀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点：环境幽雅，交通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1844640"/>
            <a:ext cx="3672000" cy="825480"/>
            <a:chOff x="900000" y="1844640"/>
            <a:chExt cx="3672000" cy="825480"/>
          </a:xfrm>
        </p:grpSpPr>
        <p:sp>
          <p:nvSpPr>
            <p:cNvPr id="448" name=""/>
            <p:cNvSpPr/>
            <p:nvPr/>
          </p:nvSpPr>
          <p:spPr>
            <a:xfrm>
              <a:off x="2499840" y="1844640"/>
              <a:ext cx="32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二）选择时间、地点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0000" y="2276280"/>
              <a:ext cx="3672000" cy="828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042920" y="2444760"/>
            <a:ext cx="7058160" cy="2023920"/>
            <a:chOff x="1042920" y="2444760"/>
            <a:chExt cx="7058160" cy="2023920"/>
          </a:xfrm>
        </p:grpSpPr>
        <p:sp>
          <p:nvSpPr>
            <p:cNvPr id="451" name=""/>
            <p:cNvSpPr/>
            <p:nvPr/>
          </p:nvSpPr>
          <p:spPr>
            <a:xfrm>
              <a:off x="1173240" y="2492280"/>
              <a:ext cx="6840360" cy="1944720"/>
            </a:xfrm>
            <a:prstGeom prst="rect">
              <a:avLst/>
            </a:prstGeom>
            <a:blipFill rotWithShape="0">
              <a:blip r:embed="rId4">
                <a:alphaModFix amt="65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1509480" y="2492280"/>
              <a:ext cx="61232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1042920" y="2452680"/>
              <a:ext cx="14436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56360" y="2444760"/>
              <a:ext cx="14472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457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46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66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1332000" y="5227560"/>
            <a:ext cx="64087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柬应提前一至二周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21760" y="1844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三）精心制作请柬，认真发送确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00000" y="2276640"/>
            <a:ext cx="504036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1405080" y="27082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5003640" y="2708280"/>
            <a:ext cx="2448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3530520" y="2443320"/>
            <a:ext cx="2779560" cy="2900160"/>
            <a:chOff x="3530520" y="2443320"/>
            <a:chExt cx="2779560" cy="2900160"/>
          </a:xfrm>
        </p:grpSpPr>
        <p:sp>
          <p:nvSpPr>
            <p:cNvPr id="476" name=""/>
            <p:cNvSpPr/>
            <p:nvPr/>
          </p:nvSpPr>
          <p:spPr>
            <a:xfrm rot="2527800">
              <a:off x="3928680" y="3643560"/>
              <a:ext cx="158436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527800">
              <a:off x="4001760" y="3282840"/>
              <a:ext cx="172728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530520" y="2443320"/>
              <a:ext cx="2779560" cy="2900160"/>
              <a:chOff x="3530520" y="2443320"/>
              <a:chExt cx="2779560" cy="2900160"/>
            </a:xfrm>
          </p:grpSpPr>
          <p:pic>
            <p:nvPicPr>
              <p:cNvPr id="479" name="" descr=""/>
              <p:cNvPicPr/>
              <p:nvPr/>
            </p:nvPicPr>
            <p:blipFill>
              <a:blip r:embed="rId6"/>
              <a:srcRect l="38385" t="0" r="19768" b="80812"/>
              <a:stretch/>
            </p:blipFill>
            <p:spPr>
              <a:xfrm rot="18669600">
                <a:off x="3691080" y="2745720"/>
                <a:ext cx="1015560" cy="46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" descr=""/>
              <p:cNvPicPr/>
              <p:nvPr/>
            </p:nvPicPr>
            <p:blipFill>
              <a:blip r:embed="rId7"/>
              <a:srcRect l="12232" t="13964" r="12232" b="0"/>
              <a:stretch/>
            </p:blipFill>
            <p:spPr>
              <a:xfrm rot="18669600">
                <a:off x="4003200" y="2921040"/>
                <a:ext cx="1833480" cy="20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483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48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9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9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"/>
          <p:cNvSpPr/>
          <p:nvPr/>
        </p:nvSpPr>
        <p:spPr>
          <a:xfrm>
            <a:off x="1042920" y="2060640"/>
            <a:ext cx="7129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1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桌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决定餐桌高低次序的原则是：主桌排定之后，其余桌次的高低以离主桌的远近而定，近者为高，远者为低；平行者以右桌为高，左桌为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常见的排列方法参见图示： 图中的座号就是桌次的高低序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71320" y="18446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四）安排席位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50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50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51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51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900000" y="1486080"/>
            <a:ext cx="763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席位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一：主人在主桌面对正门之位就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二：多桌宴请时，每桌都要有一位主人的代表在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位置一般和主桌主人同向，有时也可以面向主桌主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三：各桌位次的尊卑，以距离该桌主人的远近而定，以近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，以远为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四：各桌距离该桌主人相同的位次，讲究以右为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主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身份高于主人，为表示尊重，也可以安排在主人位子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座，而请主人坐在主宾的位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000" y="77796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22520" y="15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39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835280" y="1963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52560" y="133668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2000" y="13302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476360" y="210672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369576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83840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4578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/>
          <p:nvPr/>
        </p:nvSpPr>
        <p:spPr>
          <a:xfrm>
            <a:off x="4381560" y="13366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960" y="4917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86660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3440" y="3699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525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669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525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669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8608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/>
          <p:nvPr/>
        </p:nvSpPr>
        <p:spPr>
          <a:xfrm>
            <a:off x="10414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132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61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五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103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5300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9724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/>
          <p:nvPr/>
        </p:nvSpPr>
        <p:spPr>
          <a:xfrm>
            <a:off x="6972480" y="9558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38960" y="14130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429680" y="1413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19440" y="5146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76208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8156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7208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99104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3815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72080" y="453708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673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38156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3" name=""/>
          <p:cNvSpPr/>
          <p:nvPr/>
        </p:nvSpPr>
        <p:spPr>
          <a:xfrm>
            <a:off x="6603840" y="275580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8104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六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15280" y="507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658280" y="50706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70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912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688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96160" y="35463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81960" y="354636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961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277040" y="522288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/>
          <p:nvPr/>
        </p:nvSpPr>
        <p:spPr>
          <a:xfrm>
            <a:off x="765828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76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七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79760" y="7779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403440"/>
            <a:ext cx="8712360" cy="71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47628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28880" y="1844640"/>
            <a:ext cx="7086600" cy="3313080"/>
            <a:chOff x="1028880" y="1844640"/>
            <a:chExt cx="7086600" cy="3313080"/>
          </a:xfrm>
        </p:grpSpPr>
        <p:sp>
          <p:nvSpPr>
            <p:cNvPr id="573" name=""/>
            <p:cNvSpPr/>
            <p:nvPr/>
          </p:nvSpPr>
          <p:spPr>
            <a:xfrm>
              <a:off x="1590840" y="2508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383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6280" y="22255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0520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19800" y="2911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288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19800" y="36734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097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24160" y="1920960"/>
              <a:ext cx="533520" cy="53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385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24160" y="45878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00880" y="2454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0880" y="2073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247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43680" y="27590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5828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1400" y="35211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582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486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63000" y="1844640"/>
              <a:ext cx="533160" cy="533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74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39240" y="4548240"/>
              <a:ext cx="609480" cy="60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63000" y="4581360"/>
              <a:ext cx="65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第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409840" y="535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38840" y="535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19640" y="981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微软雅黑"/>
              </a:rPr>
              <a:t>位次排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03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0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1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1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1258920" y="2565360"/>
            <a:ext cx="7129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：精致可口、赏心悦目、特色突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尊重客人饮食习惯、禁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冷热  、甜咸、色香味搭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精含量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1844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五）拟订菜单和用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2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2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3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3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宴请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>
            <a:off x="971640" y="1917720"/>
            <a:ext cx="712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一）迎宾    主人应站在大厅门口迎接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二）引导入席   主人陪主宾进入宴会厅主桌，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待人员引导其他客人入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三）致词、祝酒  言简意赅、热情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四）用餐   融洽气氛，掌握进餐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五）送别   热情相送，感谢光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38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4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4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4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"/>
          <p:cNvSpPr/>
          <p:nvPr/>
        </p:nvSpPr>
        <p:spPr>
          <a:xfrm>
            <a:off x="2733840" y="1700280"/>
            <a:ext cx="4862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邀请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应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尽早答复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度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符合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时到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早不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2843280" y="314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2833560" y="367668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2833560" y="423072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57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6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66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1476360" y="1484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上礼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餐动作文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餐具不慎碰掉，不必拾起，也无需向服务员道歉。做到不动声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张嘴剔牙。用牙签时用一只手遮住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60360" y="338760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453240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4"/>
          <p:cNvSpPr/>
          <p:nvPr/>
        </p:nvSpPr>
        <p:spPr>
          <a:xfrm>
            <a:off x="-268200" y="1393920"/>
            <a:ext cx="95868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心圆 5"/>
          <p:cNvSpPr/>
          <p:nvPr/>
        </p:nvSpPr>
        <p:spPr>
          <a:xfrm>
            <a:off x="-174600" y="5807160"/>
            <a:ext cx="49680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78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971640" y="1844640"/>
            <a:ext cx="7200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9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，周总理到西郊机场为西哈努克和夫人送行。亲王的飞机刚一起飞，我国参加欢送的人群便自行散开，准备返回，而周总理这时却依然笔直地站在原地未动，并要工作人员立即把那些离去的同志请回来。这次总理发了脾气，他严厉起来了，狠狠地批评道：“你们怎么搞的，没有一点礼貌！各国外交使节站在那里，飞机还没有飞远，你们倒先走了。大国这样对小国客人不是搞大国主义吗？”当天下午，周总理就把外交部礼宾司和国务院机关事务管理局的负责同志找去，要他们立即在《礼宾工作条例》上加上一条，即今后到机场为贵宾送行，须等到飞机起飞，绕场一周，双翼摆动三次表示谢意后，送行者方可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1680"/>
            <a:ext cx="9144000" cy="6824880"/>
          </a:xfrm>
          <a:prstGeom prst="rect">
            <a:avLst/>
          </a:prstGeom>
          <a:ln w="0">
            <a:noFill/>
          </a:ln>
        </p:spPr>
      </p:pic>
      <p:grpSp>
        <p:nvGrpSpPr>
          <p:cNvPr id="675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76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7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8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8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敬酒顺序按身份高低或座次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碰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与主宾先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人多时可同时举杯不需逐一碰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男士举杯应略低于女士酒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祝辞时暂停进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695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6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0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主动提出交谈话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只同个别人交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言不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大声说话或哈哈大笑、窃窃私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边说话一边进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258920" y="4005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8"/>
          <a:srcRect l="56532" t="0" r="0" b="0"/>
          <a:stretch/>
        </p:blipFill>
        <p:spPr>
          <a:xfrm>
            <a:off x="1258920" y="46213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716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71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2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2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1187280" y="1484280"/>
            <a:ext cx="741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宴会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结束信号：主人把餐巾放在桌上，或从餐桌旁站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桌礼节：把椅子放回原位。男士应帮助身边的女士移开座椅，并帮其放回原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宴会顺序：身份高者、年长者或女士先走。一般情况下贵宾是第一告辞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时对主人表示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98280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97164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971640" y="56134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971640" y="458136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同心圆 14"/>
          <p:cNvSpPr/>
          <p:nvPr/>
        </p:nvSpPr>
        <p:spPr>
          <a:xfrm>
            <a:off x="-25560" y="1398600"/>
            <a:ext cx="97020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738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744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74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三：礼品赠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749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-3197160" y="2565360"/>
            <a:ext cx="6905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53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754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75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6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6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东方西方送礼的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1258920" y="2133720"/>
            <a:ext cx="619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方人嘴巴说的是礼轻情意重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总是看钱决定情意的多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方人给礼物是给一份惊喜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带来尖叫和赞赏才是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042920" y="24210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042920" y="366876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71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772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77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81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8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送礼场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>
            <a:off x="1474920" y="2062080"/>
            <a:ext cx="47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节庆           各种纪念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场应酬           婚丧喜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际往来           表示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58920" y="234936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59712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2997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258920" y="422100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8"/>
          <a:srcRect l="56532" t="0" r="0" b="0"/>
          <a:stretch/>
        </p:blipFill>
        <p:spPr>
          <a:xfrm>
            <a:off x="3492360" y="302256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9"/>
          <a:srcRect l="56532" t="0" r="0" b="0"/>
          <a:stretch/>
        </p:blipFill>
        <p:spPr>
          <a:xfrm>
            <a:off x="3492360" y="242244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0"/>
          <a:srcRect l="56532" t="0" r="0" b="0"/>
          <a:stretch/>
        </p:blipFill>
        <p:spPr>
          <a:xfrm>
            <a:off x="3492360" y="364644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94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795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7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10"/>
          <p:cNvSpPr/>
          <p:nvPr/>
        </p:nvSpPr>
        <p:spPr>
          <a:xfrm>
            <a:off x="684360" y="1125360"/>
            <a:ext cx="7632720" cy="547236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0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08" name=""/>
          <p:cNvGraphicFramePr/>
          <p:nvPr/>
        </p:nvGraphicFramePr>
        <p:xfrm>
          <a:off x="826920" y="1444680"/>
          <a:ext cx="7345440" cy="5010120"/>
        </p:xfrm>
        <a:graphic>
          <a:graphicData uri="http://schemas.openxmlformats.org/drawingml/2006/table">
            <a:tbl>
              <a:tblPr/>
              <a:tblGrid>
                <a:gridCol w="944640"/>
                <a:gridCol w="640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   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花卉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婚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、香水百合（粉红色）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豆蔻，适合送色泽淡雅而富清香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可浓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为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温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清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伟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乔　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郁金香、盆栽、盆景，适合送稳重高贵的花木，表示隆重之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演奏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就　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诞生花最贴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另以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雏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亦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永远祝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探　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剑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均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丧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菊花、白百合、白玫瑰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迎　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紫罗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寿　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81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81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81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2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2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0" y="4757760"/>
            <a:ext cx="3708360" cy="21002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3492360" y="1936800"/>
            <a:ext cx="518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玫瑰：热恋、热情、热爱着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粉玫瑰：初恋、求爱、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特别的关怀 、永远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玫瑰：失恋、褪去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橙玫瑰：富有青春气息、初恋心情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玫瑰：天真、纯洁 、纯纯的爱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5"/>
          <a:stretch/>
        </p:blipFill>
        <p:spPr>
          <a:xfrm>
            <a:off x="1763640" y="3860640"/>
            <a:ext cx="1656000" cy="116856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3492360" y="213192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玫瑰：纯真简朴、青春长驻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紫玫瑰：忧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做梦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玫瑰 ：你是恶魔，且为我所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白玫瑰：战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玫瑰（捧花）：幸福之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6"/>
          <a:stretch/>
        </p:blipFill>
        <p:spPr>
          <a:xfrm>
            <a:off x="3059280" y="4757760"/>
            <a:ext cx="3708360" cy="210024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7"/>
          <a:stretch/>
        </p:blipFill>
        <p:spPr>
          <a:xfrm>
            <a:off x="6084720" y="4756320"/>
            <a:ext cx="3708720" cy="210024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8"/>
          <a:stretch/>
        </p:blipFill>
        <p:spPr>
          <a:xfrm>
            <a:off x="2484360" y="5451480"/>
            <a:ext cx="2808360" cy="15908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9"/>
          <a:stretch/>
        </p:blipFill>
        <p:spPr>
          <a:xfrm>
            <a:off x="5364000" y="5510160"/>
            <a:ext cx="2376720" cy="134640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0"/>
          <a:srcRect l="0" t="0" r="1205" b="4521"/>
          <a:stretch/>
        </p:blipFill>
        <p:spPr>
          <a:xfrm>
            <a:off x="971640" y="1989000"/>
            <a:ext cx="2205000" cy="19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3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3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3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842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845" name="同心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900000" y="4437000"/>
            <a:ext cx="1584360" cy="1555920"/>
            <a:chOff x="900000" y="4437000"/>
            <a:chExt cx="1584360" cy="1555920"/>
          </a:xfrm>
        </p:grpSpPr>
        <p:sp>
          <p:nvSpPr>
            <p:cNvPr id="849" name=""/>
            <p:cNvSpPr/>
            <p:nvPr/>
          </p:nvSpPr>
          <p:spPr>
            <a:xfrm>
              <a:off x="900000" y="4437000"/>
              <a:ext cx="1407960" cy="1555920"/>
            </a:xfrm>
            <a:prstGeom prst="borderCallout1">
              <a:avLst>
                <a:gd name="adj1" fmla="val 18750"/>
                <a:gd name="adj2" fmla="val -8333"/>
                <a:gd name="adj3" fmla="val -20000"/>
                <a:gd name="adj4" fmla="val 113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58680" y="4437000"/>
              <a:ext cx="1525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色百合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纯洁庄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心相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百年好合</a:t>
              </a: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724360" y="3645000"/>
            <a:ext cx="2808360" cy="2184480"/>
            <a:chOff x="5724360" y="3645000"/>
            <a:chExt cx="2808360" cy="2184480"/>
          </a:xfrm>
        </p:grpSpPr>
        <p:sp>
          <p:nvSpPr>
            <p:cNvPr id="852" name=""/>
            <p:cNvSpPr/>
            <p:nvPr/>
          </p:nvSpPr>
          <p:spPr>
            <a:xfrm>
              <a:off x="5724360" y="3645000"/>
              <a:ext cx="2808360" cy="21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3" name="" descr=""/>
            <p:cNvPicPr/>
            <p:nvPr/>
          </p:nvPicPr>
          <p:blipFill>
            <a:blip r:embed="rId4"/>
            <a:stretch/>
          </p:blipFill>
          <p:spPr>
            <a:xfrm>
              <a:off x="5835600" y="3706560"/>
              <a:ext cx="2579760" cy="2094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4" name=""/>
          <p:cNvGrpSpPr/>
          <p:nvPr/>
        </p:nvGrpSpPr>
        <p:grpSpPr>
          <a:xfrm>
            <a:off x="3419640" y="2565360"/>
            <a:ext cx="3071520" cy="2335320"/>
            <a:chOff x="3419640" y="2565360"/>
            <a:chExt cx="3071520" cy="2335320"/>
          </a:xfrm>
        </p:grpSpPr>
        <p:sp>
          <p:nvSpPr>
            <p:cNvPr id="855" name=""/>
            <p:cNvSpPr/>
            <p:nvPr/>
          </p:nvSpPr>
          <p:spPr>
            <a:xfrm>
              <a:off x="3419640" y="2565360"/>
              <a:ext cx="3071520" cy="23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5"/>
            <a:stretch/>
          </p:blipFill>
          <p:spPr>
            <a:xfrm>
              <a:off x="3529800" y="2668320"/>
              <a:ext cx="2865240" cy="2148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7" name=""/>
          <p:cNvGrpSpPr/>
          <p:nvPr/>
        </p:nvGrpSpPr>
        <p:grpSpPr>
          <a:xfrm>
            <a:off x="1116000" y="1773360"/>
            <a:ext cx="2808360" cy="2336760"/>
            <a:chOff x="1116000" y="1773360"/>
            <a:chExt cx="2808360" cy="2336760"/>
          </a:xfrm>
        </p:grpSpPr>
        <p:sp>
          <p:nvSpPr>
            <p:cNvPr id="858" name=""/>
            <p:cNvSpPr/>
            <p:nvPr/>
          </p:nvSpPr>
          <p:spPr>
            <a:xfrm>
              <a:off x="1116000" y="1773360"/>
              <a:ext cx="280836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" descr=""/>
            <p:cNvPicPr/>
            <p:nvPr/>
          </p:nvPicPr>
          <p:blipFill>
            <a:blip r:embed="rId6"/>
            <a:stretch/>
          </p:blipFill>
          <p:spPr>
            <a:xfrm>
              <a:off x="1176120" y="1895760"/>
              <a:ext cx="2679480" cy="212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60" name=""/>
          <p:cNvSpPr/>
          <p:nvPr/>
        </p:nvSpPr>
        <p:spPr>
          <a:xfrm>
            <a:off x="2928960" y="5334120"/>
            <a:ext cx="1512720" cy="763560"/>
          </a:xfrm>
          <a:prstGeom prst="borderCallout1">
            <a:avLst>
              <a:gd name="adj1" fmla="val 18750"/>
              <a:gd name="adj2" fmla="val -8333"/>
              <a:gd name="adj3" fmla="val -103740"/>
              <a:gd name="adj4" fmla="val 112694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百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富高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236000" y="2492280"/>
            <a:ext cx="1258560" cy="763560"/>
          </a:xfrm>
          <a:prstGeom prst="borderCallout1">
            <a:avLst>
              <a:gd name="adj1" fmla="val 18750"/>
              <a:gd name="adj2" fmla="val -8333"/>
              <a:gd name="adj3" fmla="val 172763"/>
              <a:gd name="adj4" fmla="val -14499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百合： 喜气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6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865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86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7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7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64000" y="341316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心长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福禄康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367280" y="1941120"/>
            <a:ext cx="3221280" cy="3767760"/>
            <a:chOff x="1367280" y="1941120"/>
            <a:chExt cx="3221280" cy="3767760"/>
          </a:xfrm>
        </p:grpSpPr>
        <p:sp>
          <p:nvSpPr>
            <p:cNvPr id="879" name=""/>
            <p:cNvSpPr/>
            <p:nvPr/>
          </p:nvSpPr>
          <p:spPr>
            <a:xfrm rot="900000">
              <a:off x="1744200" y="2205000"/>
              <a:ext cx="2466720" cy="3239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4"/>
            <a:stretch/>
          </p:blipFill>
          <p:spPr>
            <a:xfrm rot="900000">
              <a:off x="1860840" y="2336400"/>
              <a:ext cx="2251080" cy="300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81" name=""/>
          <p:cNvGrpSpPr/>
          <p:nvPr/>
        </p:nvGrpSpPr>
        <p:grpSpPr>
          <a:xfrm>
            <a:off x="1307160" y="2023560"/>
            <a:ext cx="2928960" cy="3676320"/>
            <a:chOff x="1307160" y="2023560"/>
            <a:chExt cx="2928960" cy="3676320"/>
          </a:xfrm>
        </p:grpSpPr>
        <p:sp>
          <p:nvSpPr>
            <p:cNvPr id="882" name=""/>
            <p:cNvSpPr/>
            <p:nvPr/>
          </p:nvSpPr>
          <p:spPr>
            <a:xfrm rot="21293400">
              <a:off x="1455480" y="2133720"/>
              <a:ext cx="2631600" cy="3455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5"/>
            <a:stretch/>
          </p:blipFill>
          <p:spPr>
            <a:xfrm rot="21293400">
              <a:off x="1585440" y="2269800"/>
              <a:ext cx="2401560" cy="320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884" name="" descr=""/>
          <p:cNvPicPr/>
          <p:nvPr/>
        </p:nvPicPr>
        <p:blipFill>
          <a:blip r:embed="rId6"/>
          <a:stretch/>
        </p:blipFill>
        <p:spPr>
          <a:xfrm>
            <a:off x="5149800" y="2060640"/>
            <a:ext cx="2590920" cy="146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1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4"/>
          <p:cNvSpPr/>
          <p:nvPr/>
        </p:nvSpPr>
        <p:spPr>
          <a:xfrm>
            <a:off x="-268200" y="1393920"/>
            <a:ext cx="95868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心圆 5"/>
          <p:cNvSpPr/>
          <p:nvPr/>
        </p:nvSpPr>
        <p:spPr>
          <a:xfrm>
            <a:off x="-174600" y="5807160"/>
            <a:ext cx="49680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95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0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0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187280" y="2371680"/>
            <a:ext cx="72010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微软雅黑"/>
              </a:rPr>
              <a:t>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周总理为什么要发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日常交往接待中，我们应遵循哪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待客礼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8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888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89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9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9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063080" y="1964880"/>
            <a:ext cx="2986560" cy="3504240"/>
            <a:chOff x="1063080" y="1964880"/>
            <a:chExt cx="2986560" cy="3504240"/>
          </a:xfrm>
        </p:grpSpPr>
        <p:sp>
          <p:nvSpPr>
            <p:cNvPr id="901" name=""/>
            <p:cNvSpPr/>
            <p:nvPr/>
          </p:nvSpPr>
          <p:spPr>
            <a:xfrm rot="870000">
              <a:off x="1404720" y="2205000"/>
              <a:ext cx="2302920" cy="3024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rot="870000">
              <a:off x="1519560" y="2319840"/>
              <a:ext cx="2094480" cy="2791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03" name=""/>
          <p:cNvGrpSpPr/>
          <p:nvPr/>
        </p:nvGrpSpPr>
        <p:grpSpPr>
          <a:xfrm>
            <a:off x="942840" y="2006280"/>
            <a:ext cx="2758680" cy="3422880"/>
            <a:chOff x="942840" y="2006280"/>
            <a:chExt cx="2758680" cy="3422880"/>
          </a:xfrm>
        </p:grpSpPr>
        <p:sp>
          <p:nvSpPr>
            <p:cNvPr id="904" name=""/>
            <p:cNvSpPr/>
            <p:nvPr/>
          </p:nvSpPr>
          <p:spPr>
            <a:xfrm rot="21206400">
              <a:off x="1115640" y="2133720"/>
              <a:ext cx="2412720" cy="3168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5"/>
            <a:stretch/>
          </p:blipFill>
          <p:spPr>
            <a:xfrm rot="21206400">
              <a:off x="1235160" y="2250720"/>
              <a:ext cx="2194200" cy="2924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06" name=""/>
          <p:cNvSpPr/>
          <p:nvPr/>
        </p:nvSpPr>
        <p:spPr>
          <a:xfrm>
            <a:off x="4753080" y="2924280"/>
            <a:ext cx="457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雄壮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4716360" y="2205000"/>
            <a:ext cx="1871640" cy="11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911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91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1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2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148360" y="2708280"/>
            <a:ext cx="216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新婚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幸运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826920" y="2276640"/>
            <a:ext cx="2521080" cy="1965240"/>
            <a:chOff x="826920" y="2276640"/>
            <a:chExt cx="2521080" cy="1965240"/>
          </a:xfrm>
        </p:grpSpPr>
        <p:sp>
          <p:nvSpPr>
            <p:cNvPr id="925" name=""/>
            <p:cNvSpPr/>
            <p:nvPr/>
          </p:nvSpPr>
          <p:spPr>
            <a:xfrm>
              <a:off x="826920" y="2276640"/>
              <a:ext cx="2521080" cy="19652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907920" y="2371320"/>
              <a:ext cx="2374920" cy="178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27" name=""/>
          <p:cNvGrpSpPr/>
          <p:nvPr/>
        </p:nvGrpSpPr>
        <p:grpSpPr>
          <a:xfrm>
            <a:off x="1979640" y="3357720"/>
            <a:ext cx="2592360" cy="2020680"/>
            <a:chOff x="1979640" y="3357720"/>
            <a:chExt cx="2592360" cy="2020680"/>
          </a:xfrm>
        </p:grpSpPr>
        <p:sp>
          <p:nvSpPr>
            <p:cNvPr id="928" name=""/>
            <p:cNvSpPr/>
            <p:nvPr/>
          </p:nvSpPr>
          <p:spPr>
            <a:xfrm>
              <a:off x="1979640" y="3357720"/>
              <a:ext cx="2592360" cy="202068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063160" y="3455280"/>
              <a:ext cx="2441880" cy="1831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30" name=""/>
          <p:cNvGrpSpPr/>
          <p:nvPr/>
        </p:nvGrpSpPr>
        <p:grpSpPr>
          <a:xfrm>
            <a:off x="1116000" y="2565360"/>
            <a:ext cx="3203640" cy="2496960"/>
            <a:chOff x="1116000" y="2565360"/>
            <a:chExt cx="3203640" cy="2496960"/>
          </a:xfrm>
        </p:grpSpPr>
        <p:sp>
          <p:nvSpPr>
            <p:cNvPr id="931" name=""/>
            <p:cNvSpPr/>
            <p:nvPr/>
          </p:nvSpPr>
          <p:spPr>
            <a:xfrm>
              <a:off x="1116000" y="2565360"/>
              <a:ext cx="3203640" cy="249696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2" name="" descr=""/>
            <p:cNvPicPr/>
            <p:nvPr/>
          </p:nvPicPr>
          <p:blipFill>
            <a:blip r:embed="rId6"/>
            <a:stretch/>
          </p:blipFill>
          <p:spPr>
            <a:xfrm>
              <a:off x="1219320" y="2685960"/>
              <a:ext cx="3017880" cy="2263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4932360" y="2421000"/>
            <a:ext cx="295272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35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936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93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4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4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四、送花的禁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1258920" y="184464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病时避免送白、 蓝、 黄色或香味过浓的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丧礼的场合送白玫瑰、 白莲花或素花均可， 象征惋惜怀念之情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礼送花，适合送颜色鲜艳而富花语者佳， 可增进浪漫气氛， 表示甜蜜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人士，除了丧礼外，任何场合均应避免送白花．国内人士喜爱红花，表示喜气</a:t>
            </a:r>
            <a:r>
              <a:rPr b="1" lang="zh-TW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116000" y="215568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114560" y="489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114560" y="27320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116000" y="3813120"/>
            <a:ext cx="144360" cy="12060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同心圆 14"/>
          <p:cNvSpPr/>
          <p:nvPr/>
        </p:nvSpPr>
        <p:spPr>
          <a:xfrm>
            <a:off x="-25560" y="1398600"/>
            <a:ext cx="97020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959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965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96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970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73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974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97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8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8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"/>
          <p:cNvSpPr/>
          <p:nvPr/>
        </p:nvSpPr>
        <p:spPr>
          <a:xfrm>
            <a:off x="900000" y="134136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你去你的班主任老师家拜访，你会带上什么礼品？你会如何开始寒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资料信息：爱人喜欢电子元件；儿子初中，喜欢军事、科技；母亲热情、随和，做菜水平高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260360" y="3522600"/>
            <a:ext cx="6840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是毕业后到班主任老师办公室拜访，邀请班主任去你公司做一场礼仪培训，你又该如何准备？要注意哪些礼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同心圆 14"/>
          <p:cNvSpPr/>
          <p:nvPr/>
        </p:nvSpPr>
        <p:spPr>
          <a:xfrm>
            <a:off x="-25560" y="1398600"/>
            <a:ext cx="97020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993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999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100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1004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-3197160" y="2565360"/>
            <a:ext cx="6905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8" name=""/>
          <p:cNvGrpSpPr/>
          <p:nvPr/>
        </p:nvGrpSpPr>
        <p:grpSpPr>
          <a:xfrm>
            <a:off x="1620720" y="836640"/>
            <a:ext cx="5759280" cy="792000"/>
            <a:chOff x="1620720" y="836640"/>
            <a:chExt cx="5759280" cy="792000"/>
          </a:xfrm>
        </p:grpSpPr>
        <p:sp>
          <p:nvSpPr>
            <p:cNvPr id="1009" name=""/>
            <p:cNvSpPr/>
            <p:nvPr/>
          </p:nvSpPr>
          <p:spPr>
            <a:xfrm>
              <a:off x="1908000" y="865080"/>
              <a:ext cx="547200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1620720" y="836640"/>
              <a:ext cx="5548320" cy="792000"/>
              <a:chOff x="1620720" y="836640"/>
              <a:chExt cx="5548320" cy="792000"/>
            </a:xfrm>
          </p:grpSpPr>
          <p:pic>
            <p:nvPicPr>
              <p:cNvPr id="101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36640"/>
                <a:ext cx="55483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>
                <a:off x="1720800" y="989640"/>
                <a:ext cx="536112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979640" y="1628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里士多德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说过：“人在社会生活中，是难以离开与其他人进行交往的。一个人如果不同其他人进行任何交往，那么他不是一位神，就是一只兽。”人际交往，礼尚往来，既体现对他人的尊重，也体现你自身的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20720" y="836640"/>
            <a:ext cx="5759280" cy="792000"/>
            <a:chOff x="1620720" y="836640"/>
            <a:chExt cx="5759280" cy="792000"/>
          </a:xfrm>
        </p:grpSpPr>
        <p:sp>
          <p:nvSpPr>
            <p:cNvPr id="1019" name=""/>
            <p:cNvSpPr/>
            <p:nvPr/>
          </p:nvSpPr>
          <p:spPr>
            <a:xfrm>
              <a:off x="1908000" y="865080"/>
              <a:ext cx="547200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620720" y="836640"/>
              <a:ext cx="5548320" cy="792000"/>
              <a:chOff x="1620720" y="836640"/>
              <a:chExt cx="5548320" cy="792000"/>
            </a:xfrm>
          </p:grpSpPr>
          <p:pic>
            <p:nvPicPr>
              <p:cNvPr id="102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36640"/>
                <a:ext cx="55483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2" name=""/>
              <p:cNvSpPr/>
              <p:nvPr/>
            </p:nvSpPr>
            <p:spPr>
              <a:xfrm>
                <a:off x="1720800" y="989640"/>
                <a:ext cx="536112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寄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256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宴席上最让人开胃的就是主人的礼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882960" y="396864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莎士比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487520" y="5219640"/>
            <a:ext cx="6168960" cy="42552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3011400" y="4888080"/>
            <a:ext cx="3121200" cy="72540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652320" y="5322960"/>
            <a:ext cx="7839360" cy="33156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2184480" y="5019840"/>
            <a:ext cx="4775040" cy="60624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等腰三角形 13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等腰三角形 1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等腰三角形 16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等腰三角形 17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等腰三角形 18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等腰三角形 19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等腰三角形 23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等腰三角形 2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等腰三角形 26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等腰三角形 27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 repeatCount="500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4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 repeatCount="5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 repeatCount="5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4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 repeatCount="5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4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00" autoRev="1" fill="hold"/>
                                        <p:tgtEl>
                                          <p:spTgt spid="10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14"/>
          <p:cNvSpPr/>
          <p:nvPr/>
        </p:nvSpPr>
        <p:spPr>
          <a:xfrm>
            <a:off x="-25560" y="1398600"/>
            <a:ext cx="97020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111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117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11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一：拜访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122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126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12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33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160820" h="1160820">
                  <a:moveTo>
                    <a:pt x="0" y="580410"/>
                  </a:moveTo>
                  <a:cubicBezTo>
                    <a:pt x="0" y="259858"/>
                    <a:pt x="259858" y="0"/>
                    <a:pt x="580410" y="0"/>
                  </a:cubicBezTo>
                  <a:cubicBezTo>
                    <a:pt x="900962" y="0"/>
                    <a:pt x="1160820" y="259858"/>
                    <a:pt x="1160820" y="580410"/>
                  </a:cubicBezTo>
                  <a:cubicBezTo>
                    <a:pt x="1160820" y="900962"/>
                    <a:pt x="900962" y="1160820"/>
                    <a:pt x="580410" y="1160820"/>
                  </a:cubicBezTo>
                  <a:cubicBezTo>
                    <a:pt x="259858" y="1160820"/>
                    <a:pt x="0" y="900962"/>
                    <a:pt x="0" y="580410"/>
                  </a:cubicBezTo>
                  <a:close/>
                  <a:moveTo>
                    <a:pt x="104288" y="580410"/>
                  </a:moveTo>
                  <a:cubicBezTo>
                    <a:pt x="104288" y="843365"/>
                    <a:pt x="317455" y="1056532"/>
                    <a:pt x="580410" y="1056532"/>
                  </a:cubicBezTo>
                  <a:cubicBezTo>
                    <a:pt x="843365" y="1056532"/>
                    <a:pt x="1056532" y="843365"/>
                    <a:pt x="1056532" y="580410"/>
                  </a:cubicBezTo>
                  <a:cubicBezTo>
                    <a:pt x="1056532" y="317455"/>
                    <a:pt x="843365" y="104288"/>
                    <a:pt x="580410" y="104288"/>
                  </a:cubicBezTo>
                  <a:cubicBezTo>
                    <a:pt x="317455" y="104288"/>
                    <a:pt x="104288" y="317455"/>
                    <a:pt x="104288" y="58041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928694" h="928694">
                  <a:moveTo>
                    <a:pt x="0" y="464347"/>
                  </a:moveTo>
                  <a:cubicBezTo>
                    <a:pt x="0" y="207895"/>
                    <a:pt x="207895" y="0"/>
                    <a:pt x="464347" y="0"/>
                  </a:cubicBezTo>
                  <a:cubicBezTo>
                    <a:pt x="720799" y="0"/>
                    <a:pt x="928694" y="207895"/>
                    <a:pt x="928694" y="464347"/>
                  </a:cubicBezTo>
                  <a:cubicBezTo>
                    <a:pt x="928694" y="720799"/>
                    <a:pt x="720799" y="928694"/>
                    <a:pt x="464347" y="928694"/>
                  </a:cubicBezTo>
                  <a:cubicBezTo>
                    <a:pt x="207895" y="928694"/>
                    <a:pt x="0" y="720799"/>
                    <a:pt x="0" y="464347"/>
                  </a:cubicBezTo>
                  <a:close/>
                  <a:moveTo>
                    <a:pt x="83434" y="464347"/>
                  </a:moveTo>
                  <a:cubicBezTo>
                    <a:pt x="83434" y="674719"/>
                    <a:pt x="253975" y="845260"/>
                    <a:pt x="464347" y="845260"/>
                  </a:cubicBezTo>
                  <a:cubicBezTo>
                    <a:pt x="674719" y="845260"/>
                    <a:pt x="845260" y="674719"/>
                    <a:pt x="845260" y="464347"/>
                  </a:cubicBezTo>
                  <a:cubicBezTo>
                    <a:pt x="845260" y="253975"/>
                    <a:pt x="674719" y="83434"/>
                    <a:pt x="464347" y="83434"/>
                  </a:cubicBezTo>
                  <a:cubicBezTo>
                    <a:pt x="253975" y="83434"/>
                    <a:pt x="83434" y="253975"/>
                    <a:pt x="83434" y="464347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3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3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1187280" y="2349360"/>
            <a:ext cx="27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预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93160" y="3125880"/>
            <a:ext cx="3319920" cy="1687320"/>
            <a:chOff x="1793160" y="3125880"/>
            <a:chExt cx="3319920" cy="1687320"/>
          </a:xfrm>
        </p:grpSpPr>
        <p:sp>
          <p:nvSpPr>
            <p:cNvPr id="143" name=""/>
            <p:cNvSpPr/>
            <p:nvPr/>
          </p:nvSpPr>
          <p:spPr>
            <a:xfrm>
              <a:off x="2916000" y="342756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31258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电话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42926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信件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3160" y="373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预约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20880" y="1818720"/>
            <a:ext cx="3256560" cy="4244040"/>
            <a:chOff x="5420880" y="1818720"/>
            <a:chExt cx="3256560" cy="4244040"/>
          </a:xfrm>
        </p:grpSpPr>
        <p:sp>
          <p:nvSpPr>
            <p:cNvPr id="148" name=""/>
            <p:cNvSpPr/>
            <p:nvPr/>
          </p:nvSpPr>
          <p:spPr>
            <a:xfrm rot="900000">
              <a:off x="5867280" y="2060280"/>
              <a:ext cx="2363760" cy="376056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560"/>
                <a:gd name="textAreaBottom" fmla="*/ 3645360 h 3760560"/>
              </a:gdLst>
              <a:ahLst/>
              <a:rect l="textAreaLeft" t="textAreaTop" r="textAreaRight" b="textAreaBottom"/>
              <a:pathLst>
                <a:path w="21600" h="34362">
                  <a:moveTo>
                    <a:pt x="3600" y="0"/>
                  </a:moveTo>
                  <a:arcTo wR="3600" hR="3600" stAng="16200000" swAng="-5400000"/>
                  <a:lnTo>
                    <a:pt x="0" y="30762"/>
                  </a:lnTo>
                  <a:arcTo wR="3600" hR="3600" stAng="10800000" swAng="-5400000"/>
                  <a:lnTo>
                    <a:pt x="18000" y="34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4"/>
            <a:srcRect l="12610" t="0" r="5052" b="0"/>
            <a:stretch/>
          </p:blipFill>
          <p:spPr>
            <a:xfrm rot="900000">
              <a:off x="6049440" y="2284920"/>
              <a:ext cx="1980000" cy="3305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50" name=""/>
          <p:cNvGrpSpPr/>
          <p:nvPr/>
        </p:nvGrpSpPr>
        <p:grpSpPr>
          <a:xfrm>
            <a:off x="5580000" y="1973160"/>
            <a:ext cx="2363760" cy="3760920"/>
            <a:chOff x="5580000" y="1973160"/>
            <a:chExt cx="2363760" cy="3760920"/>
          </a:xfrm>
        </p:grpSpPr>
        <p:sp>
          <p:nvSpPr>
            <p:cNvPr id="151" name=""/>
            <p:cNvSpPr/>
            <p:nvPr/>
          </p:nvSpPr>
          <p:spPr>
            <a:xfrm>
              <a:off x="5580000" y="1973160"/>
              <a:ext cx="2363760" cy="376092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920"/>
                <a:gd name="textAreaBottom" fmla="*/ 3645720 h 3760920"/>
              </a:gdLst>
              <a:ahLst/>
              <a:rect l="textAreaLeft" t="textAreaTop" r="textAreaRight" b="textAreaBottom"/>
              <a:pathLst>
                <a:path w="21600" h="34365">
                  <a:moveTo>
                    <a:pt x="3600" y="0"/>
                  </a:moveTo>
                  <a:arcTo wR="3600" hR="3600" stAng="16200000" swAng="-5400000"/>
                  <a:lnTo>
                    <a:pt x="0" y="30765"/>
                  </a:lnTo>
                  <a:arcTo wR="3600" hR="3600" stAng="10800000" swAng="-5400000"/>
                  <a:lnTo>
                    <a:pt x="18000" y="34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rcRect l="12610" t="0" r="5052" b="0"/>
            <a:stretch/>
          </p:blipFill>
          <p:spPr>
            <a:xfrm>
              <a:off x="5761800" y="2200320"/>
              <a:ext cx="1980000" cy="3305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53" name=""/>
          <p:cNvSpPr/>
          <p:nvPr/>
        </p:nvSpPr>
        <p:spPr>
          <a:xfrm>
            <a:off x="5651640" y="2349360"/>
            <a:ext cx="2376360" cy="1511280"/>
          </a:xfrm>
          <a:solidFill>
            <a:srgbClr val="ffffff">
              <a:alpha val="84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切忌搞“突然袭击”，做“不速之客”！不得已时提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打个电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5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157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16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6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6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1187280" y="2278080"/>
            <a:ext cx="64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约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63844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33532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宅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4000" y="37749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字楼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51280" y="2133720"/>
            <a:ext cx="2952360" cy="942480"/>
            <a:chOff x="3851280" y="2133720"/>
            <a:chExt cx="2952360" cy="942480"/>
          </a:xfrm>
        </p:grpSpPr>
        <p:sp>
          <p:nvSpPr>
            <p:cNvPr id="176" name=""/>
            <p:cNvSpPr/>
            <p:nvPr/>
          </p:nvSpPr>
          <p:spPr>
            <a:xfrm>
              <a:off x="3851280" y="2133720"/>
              <a:ext cx="2711880" cy="83772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6560" y="2133720"/>
              <a:ext cx="26470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晚上</a:t>
              </a:r>
              <a:r>
                <a:rPr b="1" lang="en-US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7:30~8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节假日前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211640" y="3502080"/>
            <a:ext cx="3513240" cy="942480"/>
            <a:chOff x="4211640" y="3502080"/>
            <a:chExt cx="3513240" cy="942480"/>
          </a:xfrm>
        </p:grpSpPr>
        <p:sp>
          <p:nvSpPr>
            <p:cNvPr id="179" name=""/>
            <p:cNvSpPr/>
            <p:nvPr/>
          </p:nvSpPr>
          <p:spPr>
            <a:xfrm>
              <a:off x="4211640" y="3573360"/>
              <a:ext cx="3513240" cy="86364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3502080"/>
              <a:ext cx="32767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最好不要在星期一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工作日的上下班时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87280" y="4869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则上必须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但在现实生活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办公区域拜访应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3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同心圆 4"/>
          <p:cNvSpPr/>
          <p:nvPr/>
        </p:nvSpPr>
        <p:spPr>
          <a:xfrm>
            <a:off x="-268200" y="1393920"/>
            <a:ext cx="95868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5"/>
          <p:cNvSpPr/>
          <p:nvPr/>
        </p:nvSpPr>
        <p:spPr>
          <a:xfrm>
            <a:off x="-174600" y="5807160"/>
            <a:ext cx="49680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187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9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9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11600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区域的预约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93920" y="2781360"/>
            <a:ext cx="2890800" cy="2874240"/>
            <a:chOff x="1393920" y="2781360"/>
            <a:chExt cx="2890800" cy="2874240"/>
          </a:xfrm>
        </p:grpSpPr>
        <p:sp>
          <p:nvSpPr>
            <p:cNvPr id="199" name=""/>
            <p:cNvSpPr/>
            <p:nvPr/>
          </p:nvSpPr>
          <p:spPr>
            <a:xfrm>
              <a:off x="1393920" y="2781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制定拜访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5080" y="3395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准备好名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3920" y="4000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资料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93920" y="4533840"/>
              <a:ext cx="289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适宜的礼品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508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熟悉交通路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-268200" y="1393920"/>
            <a:ext cx="1094760" cy="4914360"/>
            <a:chOff x="-268200" y="1393920"/>
            <a:chExt cx="1094760" cy="4914360"/>
          </a:xfrm>
        </p:grpSpPr>
        <p:sp>
          <p:nvSpPr>
            <p:cNvPr id="206" name="同心圆 4"/>
            <p:cNvSpPr/>
            <p:nvPr/>
          </p:nvSpPr>
          <p:spPr>
            <a:xfrm>
              <a:off x="-268200" y="1393920"/>
              <a:ext cx="95940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同心圆 5"/>
            <p:cNvSpPr/>
            <p:nvPr/>
          </p:nvSpPr>
          <p:spPr>
            <a:xfrm>
              <a:off x="-174960" y="5806800"/>
              <a:ext cx="50004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800" y="2492280"/>
              <a:ext cx="428760" cy="431280"/>
              <a:chOff x="397800" y="2492280"/>
              <a:chExt cx="428760" cy="431280"/>
            </a:xfrm>
          </p:grpSpPr>
          <p:pic>
            <p:nvPicPr>
              <p:cNvPr id="20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800" y="2492280"/>
                <a:ext cx="42876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60440" y="2554920"/>
                <a:ext cx="3042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1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1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4500720" y="222084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出门拜访之前，应根据访问的对象、目的等，将自己的衣物、容貌适当的加以修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可以形象的反映出你对被访者的尊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4"/>
          </p:cNvPr>
          <p:cNvPicPr/>
          <p:nvPr/>
        </p:nvPicPr>
        <p:blipFill>
          <a:blip r:embed="rId5"/>
          <a:srcRect l="67095" t="0" r="0" b="0"/>
          <a:stretch/>
        </p:blipFill>
        <p:spPr>
          <a:xfrm>
            <a:off x="2916360" y="2492280"/>
            <a:ext cx="139680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1" name="" descr="">
            <a:hlinkClick r:id="rId6"/>
          </p:cNvPr>
          <p:cNvPicPr/>
          <p:nvPr/>
        </p:nvPicPr>
        <p:blipFill>
          <a:blip r:embed="rId7"/>
          <a:srcRect l="33411" t="0" r="33449" b="0"/>
          <a:stretch/>
        </p:blipFill>
        <p:spPr>
          <a:xfrm>
            <a:off x="971640" y="1968480"/>
            <a:ext cx="1577880" cy="333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">
            <a:hlinkClick r:id="rId8"/>
          </p:cNvPr>
          <p:cNvPicPr/>
          <p:nvPr/>
        </p:nvPicPr>
        <p:blipFill>
          <a:blip r:embed="rId9"/>
          <a:srcRect l="0" t="0" r="67095" b="0"/>
          <a:stretch/>
        </p:blipFill>
        <p:spPr>
          <a:xfrm>
            <a:off x="1979640" y="3214800"/>
            <a:ext cx="1285920" cy="27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08:14Z</dcterms:created>
  <dc:creator>yk</dc:creator>
  <dc:description/>
  <dc:language>en-US</dc:language>
  <cp:lastModifiedBy>yk</cp:lastModifiedBy>
  <dcterms:modified xsi:type="dcterms:W3CDTF">2015-01-11T07:16:31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